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sorriso.wav" ContentType="audio/x-wav"/>
  <Override PartName="/ppt/media/image2.png" ContentType="image/png"/>
  <Override PartName="/ppt/media/Strauss%20Fr%C3%BChlingsstimmen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50A-8147-46B5-A748-5BB123B6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AD6-E600-4D5B-97AE-491EC861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B00-2573-44EE-9E81-D25E338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B9E-1ECF-4927-BA90-10660C0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93F-2389-43BA-B704-B762E995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002-F1DB-4973-BD91-0885DC56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7FD-3789-4F74-AF5E-8B9DC1E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1CC-309D-4811-B734-2FFE572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1ED-40EC-475C-99CD-072021BC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4CC-AC2B-4482-BC87-5D4AA6B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580-76A8-48FA-8BB0-0185BBF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F2A-573B-44BE-9AC7-776F73B9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3CF3-D90F-49E7-9CA7-63E5D428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Strauss%20Fr&#252;hlingsstimme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sorriso.wav" TargetMode="External"/><Relationship Id="rId3" Type="http://schemas.microsoft.com/office/2007/relationships/media" Target="file:///tmp/home/.config/libreoffice/4/user/gallery/sorriso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audio" Target="../media/sorriso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comic"/>
              </a:rPr>
              <a:t>Os cinco dedos DO JUDE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hand"/>
          <p:cNvPicPr/>
          <p:nvPr/>
        </p:nvPicPr>
        <p:blipFill>
          <a:blip r:embed="rId2"/>
          <a:stretch/>
        </p:blipFill>
        <p:spPr>
          <a:xfrm>
            <a:off x="2771640" y="1628640"/>
            <a:ext cx="381024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Strauss%20Fr%C3%BChlingsstimme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Guardei o  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MELHOR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para o fim, Simão.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 o 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dedo do prazer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é : o </a:t>
            </a:r>
            <a:r>
              <a:rPr b="1" i="1" lang="pt-PT" sz="4000" spc="-1" strike="noStrike">
                <a:solidFill>
                  <a:srgbClr val="cc0066"/>
                </a:solidFill>
                <a:latin typeface="Arial"/>
              </a:rPr>
              <a:t>MÉDIO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É 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o mais BELO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…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e também 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o mais LONGO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! </a:t>
            </a:r>
            <a:br>
              <a:rPr sz="4000"/>
            </a:b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 Para o </a:t>
            </a:r>
            <a:r>
              <a:rPr b="1" i="1" lang="pt-PT" sz="4000" spc="-1" strike="noStrike">
                <a:solidFill>
                  <a:srgbClr val="cc0066"/>
                </a:solidFill>
                <a:latin typeface="Arial"/>
              </a:rPr>
              <a:t>PRAZER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Simão,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pt-PT" sz="4000" spc="-1" strike="noStrike">
                <a:solidFill>
                  <a:srgbClr val="333399"/>
                </a:solidFill>
                <a:latin typeface="Arial"/>
              </a:rPr>
              <a:t>MOLHAS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 esse dedo </a:t>
            </a:r>
            <a:br>
              <a:rPr sz="4000"/>
            </a:b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na </a:t>
            </a:r>
            <a:r>
              <a:rPr b="1" i="1" lang="pt-PT" sz="4000" spc="-1" strike="noStrike">
                <a:solidFill>
                  <a:srgbClr val="cc0066"/>
                </a:solidFill>
                <a:latin typeface="Arial"/>
              </a:rPr>
              <a:t>BOCA</a:t>
            </a:r>
            <a:r>
              <a:rPr b="0" i="1" lang="pt-PT" sz="40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E…</a:t>
            </a: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E…</a:t>
            </a:r>
            <a:br>
              <a:rPr sz="4800"/>
            </a:b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! ! !</a:t>
            </a: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E…</a:t>
            </a:r>
            <a:br>
              <a:rPr sz="4800"/>
            </a:br>
            <a:r>
              <a:rPr b="1" lang="fr-BE" sz="4800" spc="-1" strike="noStrike">
                <a:solidFill>
                  <a:srgbClr val="333399"/>
                </a:solidFill>
                <a:latin typeface="Arial"/>
              </a:rPr>
              <a:t>CONTAS as tuas NOTAS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rgent"/>
          <p:cNvPicPr/>
          <p:nvPr/>
        </p:nvPicPr>
        <p:blipFill>
          <a:blip r:embed="rId2"/>
          <a:stretch/>
        </p:blipFill>
        <p:spPr>
          <a:xfrm>
            <a:off x="2411280" y="2492280"/>
            <a:ext cx="386892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523880" y="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http://email.terra.com.br/cgi-bin/webmail.exe/BodyPart?ID=IC7rUNs6eKr_6RHnF3pWixlLCKAuurVEWzTr2&amp;Act_View=1&amp;R_Folder=aW5ib3g=&amp;msgID=1206323731.794279.17552,39847.cadarga.hst.terra.com.br&amp;Body=2.2"/>
          <p:cNvPicPr/>
          <p:nvPr/>
        </p:nvPicPr>
        <p:blipFill>
          <a:blip r:embed="rId5"/>
          <a:stretch/>
        </p:blipFill>
        <p:spPr>
          <a:xfrm>
            <a:off x="0" y="836640"/>
            <a:ext cx="5199120" cy="328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email.terra.com.br/cgi-bin/webmail.exe/BodyPart?ID=IC7rUNs6eKr_6RHnF3pWixlLCKAuurVEWzTr2&amp;Act_View=1&amp;R_Folder=aW5ib3g=&amp;msgID=1206323731.794279.17552,39847.cadarga.hst.terra.com.br&amp;Body=2.2"/>
          <p:cNvPicPr/>
          <p:nvPr/>
        </p:nvPicPr>
        <p:blipFill>
          <a:blip r:embed="rId6"/>
          <a:stretch/>
        </p:blipFill>
        <p:spPr>
          <a:xfrm flipH="1">
            <a:off x="3563640" y="3143160"/>
            <a:ext cx="5008680" cy="371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E:\G I F S\engracadosmagia15.gif"/>
          <p:cNvPicPr/>
          <p:nvPr/>
        </p:nvPicPr>
        <p:blipFill>
          <a:blip r:embed="rId7"/>
          <a:stretch/>
        </p:blipFill>
        <p:spPr>
          <a:xfrm>
            <a:off x="5867280" y="692280"/>
            <a:ext cx="165888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8" name="sorri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02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321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...TODOS aqueles que pensaram 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 outra coisa :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de joelhos, já !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TOCA” A REZAR TRES </a:t>
            </a:r>
            <a:br>
              <a:rPr sz="4400"/>
            </a:b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« PAI NOSSOS » </a:t>
            </a:r>
            <a:br>
              <a:rPr sz="4400"/>
            </a:b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E TRES     </a:t>
            </a:r>
            <a:br>
              <a:rPr sz="4400"/>
            </a:b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« AVÉ MARIAS »</a:t>
            </a: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m rico banqueiro judeu vai casar o seu filho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a véspera,  chama-o à parte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para ter com ele uma conve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anquiier"/>
          <p:cNvPicPr/>
          <p:nvPr/>
        </p:nvPicPr>
        <p:blipFill>
          <a:blip r:embed="rId2"/>
          <a:stretch/>
        </p:blipFill>
        <p:spPr>
          <a:xfrm>
            <a:off x="3203640" y="404640"/>
            <a:ext cx="25812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Simão, meu filho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u nunca te falei da vida… 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A partir de amanhã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starás com a tua mulher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mas será sempre bom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que saibas certas coisa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Há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……da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viagem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.………da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irecção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………..d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prazer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.... d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casament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e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nfim,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........ da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istinçã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Ah bom ?</a:t>
            </a:r>
            <a:br>
              <a:rPr sz="4400"/>
            </a:br>
            <a:br>
              <a:rPr sz="20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 Eu explico, Simão.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doigt"/>
          <p:cNvPicPr/>
          <p:nvPr/>
        </p:nvPicPr>
        <p:blipFill>
          <a:blip r:embed="rId2"/>
          <a:stretch/>
        </p:blipFill>
        <p:spPr>
          <a:xfrm>
            <a:off x="2916360" y="260280"/>
            <a:ext cx="35179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a viagem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: o 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POLEGAR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porque ele te permite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edir boleia.</a:t>
            </a: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De acordo papá.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a direcçã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: o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INDICADOR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orque é aquele que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estendes quando queres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mostrar qualquer coisa.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Ok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o casament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 : o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ANELAR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orque é nele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que tu vais usar a tua aliança.</a:t>
            </a:r>
            <a:br>
              <a:rPr sz="4400"/>
            </a:b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Sim papá</a:t>
            </a:r>
            <a:br>
              <a:rPr sz="4400"/>
            </a:b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pt-PT" sz="4400" spc="-1" strike="noStrike">
                <a:solidFill>
                  <a:srgbClr val="333399"/>
                </a:solidFill>
                <a:latin typeface="Arial"/>
              </a:rPr>
              <a:t>dedo da distinção</a:t>
            </a: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é : o </a:t>
            </a:r>
            <a:r>
              <a:rPr b="1" i="1" lang="pt-PT" sz="4400" spc="-1" strike="noStrike">
                <a:solidFill>
                  <a:srgbClr val="cc0066"/>
                </a:solidFill>
                <a:latin typeface="Arial"/>
              </a:rPr>
              <a:t>MINDINHO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porque se deve levantar, </a:t>
            </a:r>
            <a:br>
              <a:rPr sz="4400"/>
            </a:br>
            <a:r>
              <a:rPr b="0" i="1" lang="pt-PT" sz="4400" spc="-1" strike="noStrike">
                <a:solidFill>
                  <a:srgbClr val="333399"/>
                </a:solidFill>
                <a:latin typeface="Arial"/>
              </a:rPr>
              <a:t>quando se bebe uma xícara de chá.</a:t>
            </a: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Compreendido, papá ! </a:t>
            </a: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Mas papá, </a:t>
            </a:r>
            <a:r>
              <a:rPr b="1" i="1" lang="pt-PT" sz="4400" spc="-1" strike="noStrike">
                <a:solidFill>
                  <a:srgbClr val="009999"/>
                </a:solidFill>
                <a:latin typeface="Arial"/>
              </a:rPr>
              <a:t>ESQUECESTE </a:t>
            </a:r>
            <a:br>
              <a:rPr sz="4400"/>
            </a:b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o dedo do </a:t>
            </a:r>
            <a:r>
              <a:rPr b="1" i="1" lang="pt-PT" sz="4400" spc="-1" strike="noStrike">
                <a:solidFill>
                  <a:srgbClr val="009999"/>
                </a:solidFill>
                <a:latin typeface="Arial"/>
              </a:rPr>
              <a:t>PRAZER </a:t>
            </a:r>
            <a:r>
              <a:rPr b="0" i="1" lang="pt-PT" sz="4400" spc="-1" strike="noStrike">
                <a:solidFill>
                  <a:srgbClr val="009999"/>
                </a:solidFill>
                <a:latin typeface="Arial"/>
              </a:rPr>
              <a:t>!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9:39:20Z</dcterms:created>
  <dc:creator/>
  <dc:description/>
  <dc:language>en-US</dc:language>
  <cp:lastModifiedBy/>
  <dcterms:modified xsi:type="dcterms:W3CDTF">2011-02-22T18:37:21Z</dcterms:modified>
  <cp:revision>6</cp:revision>
  <dc:subject/>
  <dc:title>Les cinq doigts .  Un riche banquier juif va marier son fils. La veille des noces, il prend le jeune homme à part pour une conversation en tête à tête.  Simon, mon fils, je réalise que je ne t'ai jamais parlé de la vie, etc.  Dès demain, tu seras avec ta femme, il faut quand même que tu saches certaines choses..</dc:title>
</cp:coreProperties>
</file>