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B93-0B0C-4CB9-805D-9141E4D9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003-450B-443F-98A3-F86E2E5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683-4119-4A4E-8DCB-EBB1888B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3CC-BE72-4957-82ED-90F2E722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603-AE2C-4B7A-858E-92059BC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1D5-A802-425C-9359-014C0AC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C79-35A7-4CB7-B43B-470B9574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08B-2EF0-431D-8FAB-AEAB27C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851-72D4-41FF-BACB-C74D8097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894-EE5D-408A-BA30-26F8627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CB0-26F7-4905-95D9-D04194A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280-3F6B-4CE0-BF0D-2F9B921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6C5-3209-434B-9DDF-9A70833E5B8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PRESIONANTES ESCALE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0" y="429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Camino In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Perú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antiguo camino comercial que unía Cuzco con la ciudad de Machu Pichu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la accidentada geografía de la zona, el camino inca obligaba a dar rodeos y vueltas para evolucionar entre montes y montañ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resultado: kilómetros y kilómetros de escalones, en algunos casos de gran precariedad, como las famosas escaleras flot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b991ea7-4710-4972-9cba-0a3cebd26abb" descr="D3E0DFE0-7E68-48FB-99D6-D92E3F042FF1"/>
          <p:cNvPicPr/>
          <p:nvPr/>
        </p:nvPicPr>
        <p:blipFill>
          <a:blip r:embed="rId1"/>
          <a:stretch/>
        </p:blipFill>
        <p:spPr>
          <a:xfrm>
            <a:off x="1619280" y="4680"/>
            <a:ext cx="63770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Rectángulo"/>
          <p:cNvSpPr/>
          <p:nvPr/>
        </p:nvSpPr>
        <p:spPr>
          <a:xfrm>
            <a:off x="179280" y="189000"/>
            <a:ext cx="3340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 Vía Cru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Bermeo, País Vasco, Españ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 interminable hilera de escaleras une con la costa el peñón donde se encuentra una pequeña iglesia datada en el siglo X y que parece ser de origen templ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legar a la ermita de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San Juan de Gaztelugatx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hay que subir 231 peldaños y existen huecos en los escalones que son identificados como las huellas del propio San Juan, a los que se les otorga diferentes poderes curativ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ejemplo, hay que meter los pies en ellos como solución para los callos o se dejan sombreros, pañuelos o chapelas, para curar el dolor de cab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9ab87702-4fdb-4f94-ab88-deb1686fedbe" descr="C640D29F-3FBB-4909-86AD-FF219BEC86E5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108000" y="189000"/>
            <a:ext cx="331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 de caracol en las montañas de Taih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n la demarcación entre las provincias de Shanxi y Henan, en 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 escalera de caracol de casi 100 metros de altura se han instalado recientemente con la intención de atraer a miles de turistas al año a las bellas montañas de Taiha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tes de acometer la ascensión se pide a los visitantes que firmen formularios que aseguren que no tienen problemas del corazón o de pulmones; y que son menores de 60 añ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es que un resbalón en una escalera metálica tan estrecha 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n duda te puede llevar al cie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omo dice la canción de los Led Zeppel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948489c2-8d7b-4336-8a18-76c70bf42515" descr="5D8540FE-0CCC-4005-89C0-652FD3583A88"/>
          <p:cNvPicPr/>
          <p:nvPr/>
        </p:nvPicPr>
        <p:blipFill>
          <a:blip r:embed="rId1"/>
          <a:stretch/>
        </p:blipFill>
        <p:spPr>
          <a:xfrm>
            <a:off x="4500720" y="-20520"/>
            <a:ext cx="46432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Rectángulo"/>
          <p:cNvSpPr/>
          <p:nvPr/>
        </p:nvSpPr>
        <p:spPr>
          <a:xfrm>
            <a:off x="250920" y="260280"/>
            <a:ext cx="295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ayna Pic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Machu Pichu, Per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s escaleras talladas en la roca que coronan un ascenso de unos 360 metros desde el propio Machu Pichu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algunos tramos, el ascenso se complica al pasar por tramos angostos y con escalones pequeños y erosionad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iempo calculado de ascenso está entre una hora y 90 minut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ce pronto: ¡90 minutos subiendo escaleras!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n solo se permite el ascenso a 400 turistas al día y se cierra el acceso a partir de la 1 de la tarde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si aca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42dfd987-d4d6-4560-bc11-e6bface6c1a0" descr="35277501-AAF6-47CB-A27E-DA62FB062644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cookingideas.es/imagenes/025_kolodec-8.jpg?9d7bd4"/>
          <p:cNvPicPr/>
          <p:nvPr/>
        </p:nvPicPr>
        <p:blipFill>
          <a:blip r:embed="rId1"/>
          <a:stretch/>
        </p:blipFill>
        <p:spPr>
          <a:xfrm>
            <a:off x="-126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395280" y="404640"/>
            <a:ext cx="8424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muchos, las escaleras son algo a evitar, a no ser que estemos decididos a perder algo de pes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o los amantes de la naturaleza y las vistas espectaculares están más que acostumbrados a subir peldaños y más peldaños para recrear la v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 lista de escaleras supone además un reto para todos aquellos con un poco de vértig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das aprovechando los recovecos de montañas y accidentes geográficos, y en ocasiones directamente en el propio terreno a recorrer, serán protagonistas de maldiciones y anécdotas por ig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Y dónde van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es como decían en ‘Cazafantasmas’ van… ¡hacia arriba!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cookingideas.es/imagenes/bosque2.jpg?9d7bd4"/>
          <p:cNvPicPr/>
          <p:nvPr/>
        </p:nvPicPr>
        <p:blipFill>
          <a:blip r:embed="rId1"/>
          <a:stretch/>
        </p:blipFill>
        <p:spPr>
          <a:xfrm>
            <a:off x="4816440" y="0"/>
            <a:ext cx="4327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1 Rectángulo"/>
          <p:cNvSpPr/>
          <p:nvPr/>
        </p:nvSpPr>
        <p:spPr>
          <a:xfrm>
            <a:off x="324000" y="1720800"/>
            <a:ext cx="417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os escalones de la casc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l Bosque Negro, Wurzburg, Ale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si salidas de un cuento de Hans Christian Andersen, tenebrosas y magníficas, estas escaleras se dirigen a una cascada y otorgan una vista que hace que sean fotografiadas por miles de turistas todos los año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8da41b1-caa1-47d0-a8eb-fdd04b5a910b" descr="E45E7BE0-D4AA-4B05-84C3-6506D483EEFE"/>
          <p:cNvPicPr/>
          <p:nvPr/>
        </p:nvPicPr>
        <p:blipFill>
          <a:blip r:embed="rId1"/>
          <a:stretch/>
        </p:blipFill>
        <p:spPr>
          <a:xfrm>
            <a:off x="3995640" y="0"/>
            <a:ext cx="515484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179280" y="69228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ldaños del Ca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ilon del Diablo, Ecu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das para descender hasta el fondo de una de las cascadas más famosas de Sudamérica, el camino, sumido en la niebla en muchas ocasiones, es sumamente resbaladizo y empinado durante varias decenas de metros, hasta un mirador donde se puede comprobar un efecto espectacular, acompañado de colibríes, gaviotas y otras aves loc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250920" y="172080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ozo de Chand Ba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In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descenso de estos peldaños nos lleva hasta un enorme pozo, construido en el siglo X para paliar la falta de lluvias en la región y acumular agua para largas temporad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tructura tiene un total de 3.500 escalones y bajan hasta una profundidad de 30 metros. Que hay que subir después con el agua, cla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f7dd7bc5-bf61-4086-a5b5-45d5bca146a9" descr="761AC70B-DB1B-47B8-A203-D356409CF1B5"/>
          <p:cNvPicPr/>
          <p:nvPr/>
        </p:nvPicPr>
        <p:blipFill>
          <a:blip r:embed="rId1"/>
          <a:stretch/>
        </p:blipFill>
        <p:spPr>
          <a:xfrm>
            <a:off x="433692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549360"/>
            <a:ext cx="30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s de las montañas de Elbe Sand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Dresde, Ale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s escaleras talladas en la propia piedra de estas montañ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atan del siglo 13 y han sido erosionadas por el viento y el agua, pero ahí siguen, siendo utilizadas a diario por las turistas. 487 escalones que, aunque no lo parezca, fueron restaurados y ampliados en el siglo XVIII para facilitar su tránsi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fcceda8e-29b0-4550-a630-290c23e4b336" descr="9491F29C-4F91-4133-896A-82033F471578"/>
          <p:cNvPicPr/>
          <p:nvPr/>
        </p:nvPicPr>
        <p:blipFill>
          <a:blip r:embed="rId1"/>
          <a:stretch/>
        </p:blipFill>
        <p:spPr>
          <a:xfrm>
            <a:off x="4643280" y="14400"/>
            <a:ext cx="46119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Rectángulo"/>
          <p:cNvSpPr/>
          <p:nvPr/>
        </p:nvSpPr>
        <p:spPr>
          <a:xfrm>
            <a:off x="324000" y="260280"/>
            <a:ext cx="259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eñón de Guatap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Antioquia, Colom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 peñón es un auténtico monolito de piedra de 220 metros de altura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escalones están construidos con cemento, directamente sobre la roca y aprovechando una curiosa hendidura que facilitaba situar la estructura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os 702 escalones son los que hay que recorrer para llegar a su ci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420deb2-6873-4c85-8706-5fc1b394a3f4" descr="0830EB98-CD8F-4C73-89D2-95526F7BFC80"/>
          <p:cNvPicPr/>
          <p:nvPr/>
        </p:nvPicPr>
        <p:blipFill>
          <a:blip r:embed="rId1"/>
          <a:stretch/>
        </p:blipFill>
        <p:spPr>
          <a:xfrm>
            <a:off x="3995640" y="1440"/>
            <a:ext cx="514836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250920" y="476280"/>
            <a:ext cx="288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escaler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Oahu, Haw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m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la pequeña isla de Oahu existe este tremendo recorrido de 3.922 escalones, que suben, cruzan y bajan por una colina de 850 metr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eron creadas para facilitar la instalación de una antena en 1942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principio de madera, se modernizaron en los 50, pero desde 1987 están cerradas al públ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ookingideas.es/imagenes/025_kolodec-4.jpg?9d7bd4"/>
          <p:cNvPicPr/>
          <p:nvPr/>
        </p:nvPicPr>
        <p:blipFill>
          <a:blip r:embed="rId1"/>
          <a:stretch/>
        </p:blipFill>
        <p:spPr>
          <a:xfrm>
            <a:off x="4500720" y="0"/>
            <a:ext cx="478764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52:32Z</dcterms:created>
  <dc:creator/>
  <dc:description/>
  <dc:language>en-US</dc:language>
  <cp:lastModifiedBy>juanantonio</cp:lastModifiedBy>
  <dcterms:modified xsi:type="dcterms:W3CDTF">2013-01-02T19:16:54Z</dcterms:modified>
  <cp:revision>3</cp:revision>
  <dc:subject/>
  <dc:title>IMPRESIONANTES ESCALERAS</dc:title>
</cp:coreProperties>
</file>