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FCBA-1AFD-4ECF-A182-AFB5A6C5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469-E239-48B0-BE37-2C2CAC71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74C5-7822-4505-8B7E-248B0624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7934-5610-40B1-B1E6-5FC9CC09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BA82-7871-4B19-A07F-67D2C7AD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DE0E-DC9D-4E89-826A-30DBD521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568-59E1-4822-A0E4-F09BD2C9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67E-AE7E-41CF-96CD-BEA51F73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4390-5316-494D-90C8-D09744B0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BC07-1F70-4022-B327-E9ADB339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B4C8-4DE4-4D8C-AB60-4A98463C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2254-57E2-4944-B149-4769BFD2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FFDD-60F6-49C5-B6A5-A14B9D9FA7B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MPRESIONANTES ESCALER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Rectángulo"/>
          <p:cNvSpPr/>
          <p:nvPr/>
        </p:nvSpPr>
        <p:spPr>
          <a:xfrm>
            <a:off x="0" y="4292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Camino In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ónde está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Perú  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¿Dónde van?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n antiguo camino comercial que unía Cuzco con la ciudad de Machu Pichu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r la accidentada geografía de la zona, el camino inca obligaba a dar rodeos y vueltas para evolucionar entre montes y montañas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resultado: kilómetros y kilómetros de escalones, en algunos casos de gran precariedad, como las famosas escaleras flotant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ab991ea7-4710-4972-9cba-0a3cebd26abb" descr="D3E0DFE0-7E68-48FB-99D6-D92E3F042FF1"/>
          <p:cNvPicPr/>
          <p:nvPr/>
        </p:nvPicPr>
        <p:blipFill>
          <a:blip r:embed="rId1"/>
          <a:stretch/>
        </p:blipFill>
        <p:spPr>
          <a:xfrm>
            <a:off x="1619280" y="4680"/>
            <a:ext cx="637704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 Rectángulo"/>
          <p:cNvSpPr/>
          <p:nvPr/>
        </p:nvSpPr>
        <p:spPr>
          <a:xfrm>
            <a:off x="179280" y="189000"/>
            <a:ext cx="3340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scalera Vía Cruci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ónde está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Bermeo, País Vasco, Españ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¿Dónde van?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ta interminable hilera de escaleras une con la costa el peñón donde se encuentra una pequeña iglesia datada en el siglo X y que parece ser de origen templar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ra llegar a la ermita de 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Calibri"/>
              </a:rPr>
              <a:t>San Juan de Gaztelugatx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 hay que subir 231 peldaños y existen huecos en los escalones que son identificados como las huellas del propio San Juan, a los que se les otorga diferentes poderes curativos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r ejemplo, hay que meter los pies en ellos como solución para los callos o se dejan sombreros, pañuelos o chapelas, para curar el dolor de cabe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9ab87702-4fdb-4f94-ab88-deb1686fedbe" descr="C640D29F-3FBB-4909-86AD-FF219BEC86E5"/>
          <p:cNvPicPr/>
          <p:nvPr/>
        </p:nvPicPr>
        <p:blipFill>
          <a:blip r:embed="rId1"/>
          <a:stretch/>
        </p:blipFill>
        <p:spPr>
          <a:xfrm>
            <a:off x="3882960" y="0"/>
            <a:ext cx="526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1 Rectángulo"/>
          <p:cNvSpPr/>
          <p:nvPr/>
        </p:nvSpPr>
        <p:spPr>
          <a:xfrm>
            <a:off x="108000" y="189000"/>
            <a:ext cx="3311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scalera de caracol en las montañas de Taiha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ónde está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En la demarcación entre las provincias de Shanxi y Henan, en Ch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¿Dónde van?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ta escalera de caracol de casi 100 metros de altura se han instalado recientemente con la intención de atraer a miles de turistas al año a las bellas montañas de Taiha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tes de acometer la ascensión se pide a los visitantes que firmen formularios que aseguren que no tienen problemas del corazón o de pulmones; y que son menores de 60 años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Y es que un resbalón en una escalera metálica tan estrecha 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in duda te puede llevar al ciel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como dice la canción de los Led Zeppeli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948489c2-8d7b-4336-8a18-76c70bf42515" descr="5D8540FE-0CCC-4005-89C0-652FD3583A88"/>
          <p:cNvPicPr/>
          <p:nvPr/>
        </p:nvPicPr>
        <p:blipFill>
          <a:blip r:embed="rId1"/>
          <a:stretch/>
        </p:blipFill>
        <p:spPr>
          <a:xfrm>
            <a:off x="4500720" y="-20520"/>
            <a:ext cx="464328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1 Rectángulo"/>
          <p:cNvSpPr/>
          <p:nvPr/>
        </p:nvSpPr>
        <p:spPr>
          <a:xfrm>
            <a:off x="250920" y="260280"/>
            <a:ext cx="2952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Wayna Pich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ónde está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Machu Pichu, Per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¿Dónde van?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nas escaleras talladas en la roca que coronan un ascenso de unos 360 metros desde el propio Machu Pichu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 algunos tramos, el ascenso se complica al pasar por tramos angostos y con escalones pequeños y erosionados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tiempo calculado de ascenso está entre una hora y 90 minutos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dice pronto: ¡90 minutos subiendo escaleras!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an solo se permite el ascenso a 400 turistas al día y se cierra el acceso a partir de la 1 de la tarde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r si acas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42dfd987-d4d6-4560-bc11-e6bface6c1a0" descr="35277501-AAF6-47CB-A27E-DA62FB062644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ww.cookingideas.es/imagenes/025_kolodec-8.jpg?9d7bd4"/>
          <p:cNvPicPr/>
          <p:nvPr/>
        </p:nvPicPr>
        <p:blipFill>
          <a:blip r:embed="rId1"/>
          <a:stretch/>
        </p:blipFill>
        <p:spPr>
          <a:xfrm>
            <a:off x="-126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Rectángulo"/>
          <p:cNvSpPr/>
          <p:nvPr/>
        </p:nvSpPr>
        <p:spPr>
          <a:xfrm>
            <a:off x="395280" y="404640"/>
            <a:ext cx="842472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a muchos, las escaleras son algo a evitar, a no ser que estemos decididos a perder algo de peso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ero los amantes de la naturaleza y las vistas espectaculares están más que acostumbrados a subir peldaños y más peldaños para recrear la vis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a lista de escaleras supone además un reto para todos aquellos con un poco de vértigo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readas aprovechando los recovecos de montañas y accidentes geográficos, y en ocasiones directamente en el propio terreno a recorrer, serán protagonistas de maldiciones y anécdotas por igu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¿Y dónde van?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ues como decían en ‘Cazafantasmas’ van… ¡hacia arriba!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cookingideas.es/imagenes/bosque2.jpg?9d7bd4"/>
          <p:cNvPicPr/>
          <p:nvPr/>
        </p:nvPicPr>
        <p:blipFill>
          <a:blip r:embed="rId1"/>
          <a:stretch/>
        </p:blipFill>
        <p:spPr>
          <a:xfrm>
            <a:off x="4816440" y="0"/>
            <a:ext cx="43275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1 Rectángulo"/>
          <p:cNvSpPr/>
          <p:nvPr/>
        </p:nvSpPr>
        <p:spPr>
          <a:xfrm>
            <a:off x="324000" y="1720800"/>
            <a:ext cx="4176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os escalones de la casca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ónde está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El Bosque Negro, Wurzburg, Alem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¿Dónde van?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si salidas de un cuento de Hans Christian Andersen, tenebrosas y magníficas, estas escaleras se dirigen a una cascada y otorgan una vista que hace que sean fotografiadas por miles de turistas todos los años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8da41b1-caa1-47d0-a8eb-fdd04b5a910b" descr="E45E7BE0-D4AA-4B05-84C3-6506D483EEFE"/>
          <p:cNvPicPr/>
          <p:nvPr/>
        </p:nvPicPr>
        <p:blipFill>
          <a:blip r:embed="rId1"/>
          <a:stretch/>
        </p:blipFill>
        <p:spPr>
          <a:xfrm>
            <a:off x="3995640" y="0"/>
            <a:ext cx="5154840" cy="6865920"/>
          </a:xfrm>
          <a:prstGeom prst="rect">
            <a:avLst/>
          </a:prstGeom>
          <a:ln w="0">
            <a:noFill/>
          </a:ln>
        </p:spPr>
      </p:pic>
      <p:sp>
        <p:nvSpPr>
          <p:cNvPr id="48" name="2 Rectángulo"/>
          <p:cNvSpPr/>
          <p:nvPr/>
        </p:nvSpPr>
        <p:spPr>
          <a:xfrm>
            <a:off x="179280" y="692280"/>
            <a:ext cx="3529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eldaños del Cañ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ónde está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ilon del Diablo, Ecuad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¿Dónde van?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ensadas para descender hasta el fondo de una de las cascadas más famosas de Sudamérica, el camino, sumido en la niebla en muchas ocasiones, es sumamente resbaladizo y empinado durante varias decenas de metros, hasta un mirador donde se puede comprobar un efecto espectacular, acompañado de colibríes, gaviotas y otras aves loca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Rectángulo"/>
          <p:cNvSpPr/>
          <p:nvPr/>
        </p:nvSpPr>
        <p:spPr>
          <a:xfrm>
            <a:off x="250920" y="1720800"/>
            <a:ext cx="331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pozo de Chand Bao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ónde está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Ind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¿Dónde van?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descenso de estos peldaños nos lleva hasta un enorme pozo, construido en el siglo X para paliar la falta de lluvias en la región y acumular agua para largas temporadas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estructura tiene un total de 3.500 escalones y bajan hasta una profundidad de 30 metros. Que hay que subir después con el agua, clar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f7dd7bc5-bf61-4086-a5b5-45d5bca146a9" descr="761AC70B-DB1B-47B8-A203-D356409CF1B5"/>
          <p:cNvPicPr/>
          <p:nvPr/>
        </p:nvPicPr>
        <p:blipFill>
          <a:blip r:embed="rId1"/>
          <a:stretch/>
        </p:blipFill>
        <p:spPr>
          <a:xfrm>
            <a:off x="433692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Rectángulo"/>
          <p:cNvSpPr/>
          <p:nvPr/>
        </p:nvSpPr>
        <p:spPr>
          <a:xfrm>
            <a:off x="250920" y="549360"/>
            <a:ext cx="3025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scaleras de las montañas de Elbe Sandst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ónde está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Dresde, Alem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¿Dónde van?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nas escaleras talladas en la propia piedra de estas montañas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atan del siglo 13 y han sido erosionadas por el viento y el agua, pero ahí siguen, siendo utilizadas a diario por las turistas. 487 escalones que, aunque no lo parezca, fueron restaurados y ampliados en el siglo XVIII para facilitar su tránsi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fcceda8e-29b0-4550-a630-290c23e4b336" descr="9491F29C-4F91-4133-896A-82033F471578"/>
          <p:cNvPicPr/>
          <p:nvPr/>
        </p:nvPicPr>
        <p:blipFill>
          <a:blip r:embed="rId1"/>
          <a:stretch/>
        </p:blipFill>
        <p:spPr>
          <a:xfrm>
            <a:off x="4643280" y="14400"/>
            <a:ext cx="461196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1 Rectángulo"/>
          <p:cNvSpPr/>
          <p:nvPr/>
        </p:nvSpPr>
        <p:spPr>
          <a:xfrm>
            <a:off x="324000" y="260280"/>
            <a:ext cx="2592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Peñón de Guatap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ónde está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Antioquia, Colomb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¿Dónde van?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 peñón es un auténtico monolito de piedra de 220 metros de altura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os escalones están construidos con cemento, directamente sobre la roca y aprovechando una curiosa hendidura que facilitaba situar la estructura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nos 702 escalones son los que hay que recorrer para llegar a su cim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b420deb2-6873-4c85-8706-5fc1b394a3f4" descr="0830EB98-CD8F-4C73-89D2-95526F7BFC80"/>
          <p:cNvPicPr/>
          <p:nvPr/>
        </p:nvPicPr>
        <p:blipFill>
          <a:blip r:embed="rId1"/>
          <a:stretch/>
        </p:blipFill>
        <p:spPr>
          <a:xfrm>
            <a:off x="3995640" y="1440"/>
            <a:ext cx="5148360" cy="68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Rectángulo"/>
          <p:cNvSpPr/>
          <p:nvPr/>
        </p:nvSpPr>
        <p:spPr>
          <a:xfrm>
            <a:off x="250920" y="476280"/>
            <a:ext cx="2881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a escalera Hai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ónde está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Oahu, Haw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aterial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me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¿Dónde van?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 la pequeña isla de Oahu existe este tremendo recorrido de 3.922 escalones, que suben, cruzan y bajan por una colina de 850 metros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ueron creadas para facilitar la instalación de una antena en 1942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 principio de madera, se modernizaron en los 50, pero desde 1987 están cerradas al públic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www.cookingideas.es/imagenes/025_kolodec-4.jpg?9d7bd4"/>
          <p:cNvPicPr/>
          <p:nvPr/>
        </p:nvPicPr>
        <p:blipFill>
          <a:blip r:embed="rId1"/>
          <a:stretch/>
        </p:blipFill>
        <p:spPr>
          <a:xfrm>
            <a:off x="4500720" y="0"/>
            <a:ext cx="478764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2T18:52:32Z</dcterms:created>
  <dc:creator/>
  <dc:description/>
  <dc:language>en-US</dc:language>
  <cp:lastModifiedBy>juanantonio</cp:lastModifiedBy>
  <dcterms:modified xsi:type="dcterms:W3CDTF">2013-01-02T19:16:54Z</dcterms:modified>
  <cp:revision>3</cp:revision>
  <dc:subject/>
  <dc:title>IMPRESIONANTES ESCALERAS</dc:title>
</cp:coreProperties>
</file>