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3.jpeg" ContentType="image/jpeg"/>
  <Override PartName="/ppt/media/image1.gif" ContentType="image/gif"/>
  <Override PartName="/ppt/media/Contatos%20imediatos-17k.wav" ContentType="audio/x-wav"/>
  <Override PartName="/ppt/media/LosLobos-Tequila-Redz-0.45-134k.wav" ContentType="audio/x-wav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380-6E80-48AA-A255-CCC5935F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0EC-1CA8-4FF3-8721-5037E766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ECF-FB20-4DBC-94BD-7E88559D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950-6193-4F8E-9ACA-54597E85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141-0833-421E-A7C6-41AAEEC0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5D8-B644-44CE-B03B-86B4ECEE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D96-782F-42FA-A7DE-6D98344D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4E8-85E6-457B-8650-1AA478D9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F7A-EE7B-4019-88E6-EE175D11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33B-29B3-4C1B-A4FB-DBA03A99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D65-DEC5-4065-BE83-36D36698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BD4-C664-4C4A-877B-C84C118B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8493-A8BA-4C2B-A9DC-8F9369EB54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LosLobos-Tequila-Redz-0.45-134k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ontatos%20imediatos-17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Qual a diferença entre Paris e New York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24360" y="5229360"/>
            <a:ext cx="10476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838080"/>
            <a:ext cx="899172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cc99"/>
                </a:solidFill>
                <a:latin typeface="Arial Unicode MS"/>
              </a:rPr>
              <a:t>Agora, a eterna questão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Unicode MS"/>
              </a:rPr>
              <a:t>Por quê a mulher vive mais que o hom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7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503280"/>
            <a:ext cx="8839440" cy="59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9172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320" y="468360"/>
            <a:ext cx="899136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Fw the difference between men .jpg"/>
          <p:cNvPicPr/>
          <p:nvPr/>
        </p:nvPicPr>
        <p:blipFill>
          <a:blip r:embed="rId1"/>
          <a:stretch/>
        </p:blipFill>
        <p:spPr>
          <a:xfrm>
            <a:off x="443088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765000"/>
            <a:ext cx="388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Comic Sans MS"/>
              </a:rPr>
              <a:t>Por quê as mulheres são mais atraentes que os home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Fw the difference between me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29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5157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Comic Sans MS"/>
              </a:rPr>
              <a:t>Alguma dúvid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Por quê as mulheres tem duas mão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782"/>
          <a:stretch/>
        </p:blipFill>
        <p:spPr>
          <a:xfrm>
            <a:off x="826920" y="189000"/>
            <a:ext cx="763272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182520"/>
            <a:ext cx="5143320" cy="649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E por quê os homens tem duas mão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753080" cy="6337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 New Yor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cc99"/>
                </a:solidFill>
                <a:latin typeface="Verdana"/>
              </a:rPr>
              <a:t>Qual a diferença entre a Força aérea e o Exércit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cc99"/>
                </a:solidFill>
                <a:latin typeface="Verdana"/>
              </a:rPr>
              <a:t>Esta é a Força Aére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179064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cc99"/>
                </a:solidFill>
                <a:latin typeface="Verdana"/>
              </a:rPr>
              <a:t>E este é o Exérci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355760"/>
            <a:ext cx="769608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Qual a diferença entre um motociclista francês e um motociclista marroquino</a:t>
            </a:r>
            <a:r>
              <a:rPr b="0" lang="fr-FR" sz="3200" spc="-1" strike="noStrike">
                <a:solidFill>
                  <a:srgbClr val="000000"/>
                </a:solidFill>
                <a:latin typeface="Cooper Black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35200" y="0"/>
            <a:ext cx="56736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2:21:01Z</dcterms:created>
  <dc:creator>Muelk</dc:creator>
  <dc:description/>
  <dc:language>en-US</dc:language>
  <cp:lastModifiedBy>Anonimous</cp:lastModifiedBy>
  <dcterms:modified xsi:type="dcterms:W3CDTF">2008-01-29T00:09:20Z</dcterms:modified>
  <cp:revision>12</cp:revision>
  <dc:subject/>
  <dc:title>PowerPoint-Präsentation</dc:title>
</cp:coreProperties>
</file>