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gif" ContentType="image/gif"/>
  <Override PartName="/ppt/media/Contatos%20imediatos-17k.wav" ContentType="audio/x-wav"/>
  <Override PartName="/ppt/media/LosLobos-Tequila-Redz-0.45-134k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482-CC2A-4153-8F2F-8E08C707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DC9-3D87-48AF-8E0B-F9A9878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CC9-F5E6-4C81-B89B-39F1816B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62B-EB51-464D-B5C0-280CF827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345-BEB2-4644-B7AC-D412F25F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E10-1D96-4EA5-AE5B-0F5D7D8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1E2-2C3A-4433-986D-A89AFA6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D6C-527E-4295-A5B2-F2D2AE3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6EE-5ABA-48A3-966B-FE31981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99D-EBEB-4D63-8CAC-AFBC725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0DA-D158-418A-9DE2-CBF83B1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686-E150-4EF4-9481-11CEBD9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518-1C36-4D46-9ED4-E52DFBE05D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LosLobos-Tequila-Redz-0.45-134k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ontatos%20imediatos-17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Qual a diferença entre Paris e New York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5229360"/>
            <a:ext cx="10476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838080"/>
            <a:ext cx="89917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cc99"/>
                </a:solidFill>
                <a:latin typeface="Arial Unicode MS"/>
              </a:rPr>
              <a:t>Agora, a eterna questão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Unicode MS"/>
              </a:rPr>
              <a:t>Por quê a mulher vive mais que o hom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w the difference between men 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76500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000000"/>
                </a:solidFill>
                <a:latin typeface="Comic Sans MS"/>
              </a:rPr>
              <a:t>Por quê as mulheres são mais atraentes que os home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w the difference between me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Comic Sans MS"/>
              </a:rPr>
              <a:t>Alguma dúvid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Por quê as mulhere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782"/>
          <a:stretch/>
        </p:blipFill>
        <p:spPr>
          <a:xfrm>
            <a:off x="826920" y="189000"/>
            <a:ext cx="76327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182520"/>
            <a:ext cx="5143320" cy="649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Times New Roman"/>
              </a:rPr>
              <a:t>E por quê os homens tem duas mã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 New Yor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99"/>
                </a:solidFill>
                <a:latin typeface="Verdana"/>
              </a:rPr>
              <a:t>Qual a diferença entre a Força aérea e o Exérci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sta é a Força Aére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79064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cc99"/>
                </a:solidFill>
                <a:latin typeface="Verdana"/>
              </a:rPr>
              <a:t>E este é o Exérci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355760"/>
            <a:ext cx="7696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Qual a diferença entre um motociclista francês e um motociclista marroquino</a:t>
            </a:r>
            <a:r>
              <a:rPr b="0" lang="fr-FR" sz="3200" spc="-1" strike="noStrike">
                <a:solidFill>
                  <a:srgbClr val="000000"/>
                </a:solidFill>
                <a:latin typeface="Cooper Black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35200" y="0"/>
            <a:ext cx="56736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2:21:01Z</dcterms:created>
  <dc:creator>Muelk</dc:creator>
  <dc:description/>
  <dc:language>en-US</dc:language>
  <cp:lastModifiedBy>Anonimous</cp:lastModifiedBy>
  <dcterms:modified xsi:type="dcterms:W3CDTF">2008-01-29T00:09:20Z</dcterms:modified>
  <cp:revision>12</cp:revision>
  <dc:subject/>
  <dc:title>PowerPoint-Präsentation</dc:title>
</cp:coreProperties>
</file>