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Richard%20Clayderman-Outra%20vez.wav" ContentType="audio/x-wav"/>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CA06-72E7-420E-B87F-28E346448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9DB3-E8D5-4012-80B6-68B8CE77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D2A12A-03DC-4CB4-A6CD-1D153BF99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8C68F9-46EA-4100-A428-42FF86829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D8AB93-C3FB-4DF8-AA27-82172E78B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947F5-CDAD-4537-8BF9-736A90843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9926AC-6EB5-48C4-BF40-5634AB0D8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6FD66A-C6D5-4940-8D2F-6A5AFE215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2B50FC-0239-4CFF-965C-F4DF364D5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2F4EDB-A945-4E6C-88D1-1C79B0E393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C65996-95B2-4E9C-AE8B-60313C6AAD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C43FF9-AABF-4F8B-9360-B49D6375BC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8916A-B149-454F-8A98-15CF554B1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6D198C-76FE-4FB8-9EF8-33962CCF26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D75A29-84B9-4C75-9671-7CAA6F289A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E47CD2-CD10-4414-A6F2-32B90B0D0D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9DF166-364F-432B-8839-94816B5F58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84512C-8C01-433F-B106-9F4CA0AE4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4F1DDF-FCE3-48B2-BB52-1D2C364EE1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499097-6F6F-4239-A6C2-01341C1DD2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416333-4BCD-4A3F-A134-AE4A6FC41E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F43A2F-AE10-4BF1-B798-ABAA3EC9A6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F38BFB-4DB2-451B-BE27-94D59A6D14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0AE44-D4B6-47A9-930B-DC72E5413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CD4C9B-74D4-45D8-81C2-6EA8D0A768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42CBD2-2A12-4577-9FD0-90893174EE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AB59A1-121D-4D25-BC93-DFF5FB36CB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0F8FEB-A52A-4F8C-B1B5-57FDEAAC1B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78E72D-0F90-4FEA-9711-655933F14D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3D4D7D-6D03-4FA2-88D3-3268F0CDE7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03CA54-3AEE-481F-B62A-9ADB3ED1E1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06CB55-9FBD-4749-9C4F-0829C64868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547721-E939-4017-972C-09483C6A58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088685-A379-4308-BF3F-E768DBC86C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26481-E998-4E3A-96DD-20DFB4650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86FB39-4AF5-47ED-93D5-5B90DC1789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73EA7E-35B7-44A5-847A-84746C524C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736EE4-1C63-4E5C-8F70-61970B30AA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D4FEAF-A954-4D6B-A2B5-A05C305AC5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C12B0A-993D-426F-B59A-4476F868F0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12D95F-81AF-4C26-9072-99F62F4198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1DB529-332F-4007-94D8-083F13541F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BA9232-91E0-46C9-BAE7-2A438EED9A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D8731D-E074-44B9-8BFD-21E819681E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4BA35A-B890-4AF2-971E-4DE8CD251B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6FD41-F4F1-41EC-B3E8-0F0532E41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6591DA-EEE2-4456-B54E-6252B3ED01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95D4B4-D0BC-4A38-9E0E-D29126A2B4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132A0F-822F-44CD-B936-8B7A22A312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F49E02-FAD9-48CE-8140-11C74A14BB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6ABDCA-D95A-457F-A3DC-8447BBD547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22F77-A34B-4449-9ECB-862F09F43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11466-41B8-4DAD-9021-9809E9A73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717D2-4C40-4AB8-BD46-210BAA725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342BD-182E-4622-B4B4-846666DAF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82B04-FF80-4C91-9D1B-CA53C4F6B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D418E-04B9-41D4-9CBC-E85292D3E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1E28-CFE4-4703-BA67-FDBB1BCC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4D69A-50D1-4BC1-9973-571120CA0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E20A7-1640-4F81-9A70-46BA65158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2ECB5-45D3-4B2A-B4E1-3FB1C2A01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1D27A-10A1-4670-9BC3-D4AFC0AB3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3CA8D-8A49-4CF7-8B74-944B170DC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04C1C-FA65-4154-A8B5-1944F84B9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FE4C6-2BDC-4C0E-A077-007F3B356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F71B0-EF7F-4448-BF0E-DC3CD1D3B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428C3-5B47-4F2B-8636-1874A23C9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43FF-8139-4FEF-A79F-5FEBDF034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14A6E-7D1D-4338-95EE-3DBC89289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508E1-ADAB-41EE-AE76-5FBA92C58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B72EB-52DF-40A0-9EF8-688DB2104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84B19-A48C-4CD6-997A-32E9EC168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C7CC8-53D3-48A3-85E4-DB08AAEF8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DE1D4-6CD0-4E73-8FDF-BD034EEC62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1D677-A929-4C18-A8CD-B666533E2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BA12A0-83FB-4B5C-9762-28F6D1F80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F573C-1CDC-494C-8708-AD6880400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FF7CE-2F10-48E0-A480-1AEAB0AFA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EFB4C-8AF9-4768-832E-69DA5D0C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D4C74-180C-4CD2-AAF5-C86C2874B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59D82-F230-41FC-A10E-61242BD4E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DF563-EC18-4554-AA26-B686E3517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1EFF9-CD32-4DE8-89D9-2C93DA001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39A18-3848-4E90-9DD9-4B27FB069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07C55-A215-427B-BA6F-98C03E3B9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05BFDE-7B29-49AD-8974-910BE8C02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24334-2A57-4FF7-B731-188720A3A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32CB68-13B4-4413-808A-DCF38F40CC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E17F3B-33A5-4F10-AF4A-4AD3300C86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7D87-14C0-4097-AAA2-8937B4CFD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16FD8-78BF-493B-BB7A-A36900926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84BC7-8310-4AB0-9081-4079F5F3E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5EE88-32F6-4A2A-9814-B87636AC8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C1346-7C4E-4377-8DF2-557734AD5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AF457-9B68-4D16-B8CB-1687E834B3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57C20-EC80-44D1-AC76-EEE2F0373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D532C-6EE8-40B1-BDCD-A5A73A673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BDF97-E46E-42DE-AEE2-F92D06C73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B376E-5D07-4276-BEE0-FB15663C9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52F42-7C71-4749-8C25-DBC64C7A7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E6258-EEF4-4979-B5DD-462CF551E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421899-99F8-46D3-8663-B234A9A41F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5ED5B1-51E1-4401-84BC-D82EB4026F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610C4-6370-4848-B1EC-B45457B91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3B794-B1FC-4F2A-9690-4BE36947D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A65A0-1F47-4675-8B42-BE902FBBB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E90E5-1D21-4A24-9B60-7456D3C80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A0270-59E2-46AF-823D-BC9D0CAF2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E2B35-86FE-4D03-89EE-47F108E85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B4F17-E8BC-4774-AFEC-910F866E4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3A6DD-CB73-43AA-B2F8-14368446D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B0E0-55D9-4B12-B11A-F8DBB2A9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2316B-DADE-4DBD-9328-8761AC45D9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0FD8C0-A4A3-4994-8854-767DA04C09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A4276D-B1E7-4C04-A462-4267CF58E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B9876B-39A4-4217-ABDC-8A13E2511D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29B049-3C4E-4C42-A9D6-C50DBCA26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6263D-B78A-439A-A650-E4DFC40F4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9F13E-30CA-4E33-9760-5590F03B2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A6CA3-DD18-4BF6-BFE1-22F8566A8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5CF8A-2FD9-4A75-916D-D4BCCC4F9A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CF745-095E-4101-B92B-260D2030A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BD15-89A8-490F-A91A-EE76F9DC9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C4A92-B887-4ED7-AC6F-9943A3415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EFF75-A8D1-42E8-8E18-5661C191E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3105C-7E84-4462-8168-C97400FD9A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31A7C-DD9A-4097-A082-6830C7666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11A65B-613F-4EEE-B36E-4026DA3551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B908B1-6892-49D5-946F-0DB4C9C37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BA20E-4943-4005-B8F4-AED8D65726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5D0ACC-A8E5-4A5A-9EFE-EB822F1EA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4B8007-A940-455E-90A4-35316C40C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6E6F5-0DB9-45BE-868C-324F1BC137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835A6-FD85-418F-8A35-3B9BCF1D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AF2D87-90BF-4944-A22B-C4CDDD90F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FE81F-6AF9-4654-9831-07624DF3A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9D286-FB70-49C7-A017-FEEFA5C37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7A11A-78EC-4E89-BCF8-A5342B45E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C3445-32C7-4233-8F3C-FC126BA10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C644C9-44F4-4A9C-BEF9-FB928FB89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8D923C-6599-43D0-98C5-2BE3BC7F33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0260EE-B16C-41B4-A949-D034E63E43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B257A-01D3-4509-8532-853958C275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EE469-99CB-4681-A539-800415C6FC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1E81-9C92-4571-9E57-5A49749323A4}"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AD8D-4A13-4D20-99F6-E57FF163DC67}"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EC72-489C-46C3-BC08-AFF995673A42}"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5D86-3B7A-42E0-88EA-E5CCD91F89B4}"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D820-6767-4CEC-B20B-A846FFABAE3B}"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D0A9-13AA-4F6A-81CF-AB0D68DD00FA}"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B6C8-985B-407D-BDB3-CBB0EC9B7B19}"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00FE-2303-431C-8F8D-74E4B31520B0}"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A062-136A-453F-8182-E5A06E20D78F}"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949B-BF03-4612-A8AC-5D3CEE053669}"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C4BB-7722-4FE1-A995-4458045B42C4}"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410-04ED-46AC-A287-A7853A681BB2}"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audio" Target="../media/Richard%20Clayderman-Outra%20vez.wav"/><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212"/>
          <p:cNvPicPr/>
          <p:nvPr/>
        </p:nvPicPr>
        <p:blipFill>
          <a:blip r:embed="rId1"/>
          <a:stretch/>
        </p:blipFill>
        <p:spPr>
          <a:xfrm>
            <a:off x="2340000" y="981000"/>
            <a:ext cx="4321080" cy="4464000"/>
          </a:xfrm>
          <a:prstGeom prst="rect">
            <a:avLst/>
          </a:prstGeom>
          <a:ln w="0">
            <a:noFill/>
          </a:ln>
        </p:spPr>
      </p:pic>
      <p:sp>
        <p:nvSpPr>
          <p:cNvPr id="493" name="PlaceHolder 1"/>
          <p:cNvSpPr>
            <a:spLocks noGrp="1"/>
          </p:cNvSpPr>
          <p:nvPr>
            <p:ph type="title"/>
          </p:nvPr>
        </p:nvSpPr>
        <p:spPr>
          <a:xfrm>
            <a:off x="684360" y="544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entury Gothic"/>
              </a:rPr>
              <a:t>Mario Benedetti</a:t>
            </a:r>
            <a:endParaRPr b="0" lang="en-US" sz="4400" spc="-1" strike="noStrike">
              <a:solidFill>
                <a:srgbClr val="000000"/>
              </a:solidFill>
              <a:latin typeface="Century Gothic"/>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2"/>
          <p:cNvSpPr/>
          <p:nvPr/>
        </p:nvSpPr>
        <p:spPr>
          <a:xfrm>
            <a:off x="611280" y="436572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pensa e medita  internamente.  De gente que valoriza seus semelhantes, não por um estereotipo social, nem como se apresentam. De gente que não julga, nem deixa que outros julguem. Gosto de gente que tem personalidade.</a:t>
            </a:r>
            <a:endParaRPr b="0" lang="en-US" sz="2400" spc="-1" strike="noStrike">
              <a:solidFill>
                <a:srgbClr val="000000"/>
              </a:solidFill>
              <a:latin typeface="Times New Roman"/>
            </a:endParaRPr>
          </a:p>
        </p:txBody>
      </p:sp>
      <p:sp>
        <p:nvSpPr>
          <p:cNvPr id="519"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4" descr="image010101011"/>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611280" y="4724280"/>
            <a:ext cx="7993080" cy="19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Me encanta a gente que é capaz de entender que o maior erro do ser humano é tentar arrancar da cabeça aquilo que não sai do coração.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522"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4" descr="image011111112"/>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576360" y="3714840"/>
            <a:ext cx="7991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sensibilidade, a coragem, a solidariedade, a bondade, o respeito, a tranquilidade, os valores, a alegria, a humildade, a fé, a felicidade, o tato, a confiança, a esperança, o agradecimento, a sabedoria, os sonhos, o arrependimento, e o amor para com os demais e consigo próprio são coisas fundamentais para se chamar GENTE.</a:t>
            </a:r>
            <a:endParaRPr b="0" lang="en-US" sz="2400" spc="-1" strike="noStrike">
              <a:solidFill>
                <a:srgbClr val="000000"/>
              </a:solidFill>
              <a:latin typeface="Times New Roman"/>
            </a:endParaRPr>
          </a:p>
        </p:txBody>
      </p:sp>
      <p:sp>
        <p:nvSpPr>
          <p:cNvPr id="525" name="Rectangle 3"/>
          <p:cNvSpPr/>
          <p:nvPr/>
        </p:nvSpPr>
        <p:spPr>
          <a:xfrm>
            <a:off x="2771640" y="85716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Picture 4" descr="image012121213"/>
          <p:cNvPicPr/>
          <p:nvPr/>
        </p:nvPicPr>
        <p:blipFill>
          <a:blip r:embed="rId1"/>
          <a:stretch/>
        </p:blipFill>
        <p:spPr>
          <a:xfrm>
            <a:off x="2843280" y="928800"/>
            <a:ext cx="3556080" cy="244944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611280" y="4581360"/>
            <a:ext cx="8246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Com gente como essa, me comprometo, para o que seja, pelo resto de minha vida... já que, por tê-los junto de mim, me dou por bem retribuíd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OBRIGADO POR SER PARTE DESSA GENTE !</a:t>
            </a:r>
            <a:endParaRPr b="0" lang="en-US" sz="2400" spc="-1" strike="noStrike">
              <a:solidFill>
                <a:srgbClr val="000000"/>
              </a:solidFill>
              <a:latin typeface="Times New Roman"/>
            </a:endParaRPr>
          </a:p>
        </p:txBody>
      </p:sp>
      <p:sp>
        <p:nvSpPr>
          <p:cNvPr id="528"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4" descr="image013131314"/>
          <p:cNvPicPr/>
          <p:nvPr/>
        </p:nvPicPr>
        <p:blipFill>
          <a:blip r:embed="rId1"/>
          <a:stretch/>
        </p:blipFill>
        <p:spPr>
          <a:xfrm>
            <a:off x="2843280" y="1700280"/>
            <a:ext cx="3556080" cy="242568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611280" y="549360"/>
            <a:ext cx="79930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Impossível ganhar sem saber per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Impossível andar sem saber cair.                     Impossível acertar sem saber errar.                     Impossível viver sem saber rev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glória não consiste em não cair nunca, mas em     levantar-se todas as vezes que seja necessá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E ISSO É ALGO QUE MUITO POUCA GENTE TEM O PRIVILÉGIO DE PODER EXPERIMENT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Bem aventurados aqueles que já conseguiram receber com a mesma naturalidade o ganhar e o perder, o acerto e o erro, o triunfo e a derro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1222200" y="2143080"/>
            <a:ext cx="66978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 </a:t>
            </a:r>
            <a:r>
              <a:rPr b="0" lang="pt-BR" sz="2800" spc="-1" strike="noStrike">
                <a:solidFill>
                  <a:srgbClr val="ffffff"/>
                </a:solidFill>
                <a:latin typeface="Century Gothic"/>
              </a:rPr>
              <a:t>POR FAVOR, REENVIE ESTA MENSAGEM SOMENTE PARA GENTE QUE MEREÇA CHAMAR-SE </a:t>
            </a:r>
            <a:r>
              <a:rPr b="1" lang="pt-BR" sz="4000" spc="-1" strike="noStrike">
                <a:solidFill>
                  <a:srgbClr val="ffffff"/>
                </a:solidFill>
                <a:latin typeface="Century Gothic"/>
              </a:rPr>
              <a:t>GENTE</a:t>
            </a:r>
            <a:r>
              <a:rPr b="0" lang="pt-BR" sz="2800" spc="-1" strike="noStrike">
                <a:solidFill>
                  <a:srgbClr val="ffffff"/>
                </a:solidFill>
                <a:latin typeface="Century Gothic"/>
              </a:rPr>
              <a:t>.</a:t>
            </a:r>
            <a:endParaRPr b="0" lang="en-US" sz="2800" spc="-1" strike="noStrike">
              <a:solidFill>
                <a:srgbClr val="000000"/>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4"/>
          <p:cNvSpPr/>
          <p:nvPr/>
        </p:nvSpPr>
        <p:spPr>
          <a:xfrm>
            <a:off x="0" y="2997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DA GENTE QUE EU GOSTO.</a:t>
            </a:r>
            <a:endParaRPr b="0" lang="en-US" sz="4000" spc="-1" strike="noStrike">
              <a:solidFill>
                <a:srgbClr val="000000"/>
              </a:solidFill>
              <a:latin typeface="Times New Roman"/>
            </a:endParaRPr>
          </a:p>
        </p:txBody>
      </p:sp>
    </p:spTree>
  </p:cSld>
  <p:transition spd="slow" advTm="3000">
    <p:fade/>
    <p:sndAc>
      <p:stSnd>
        <p:snd r:embed="rId1" name="Richard%20Clayderman-Outra%20vez.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611280" y="436572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Eu gosto de gente que vibra, que não tem de ser empurrada, que não precisa que se lhe diga que faça as coisas, mas que sabe o que tem que fazer. E faz. Gente que cultiva seus sonhos até que esses sonhos se apoderam de sua própria realidade.</a:t>
            </a:r>
            <a:endParaRPr b="0" lang="en-US" sz="2400" spc="-1" strike="noStrike">
              <a:solidFill>
                <a:srgbClr val="000000"/>
              </a:solidFill>
              <a:latin typeface="Times New Roman"/>
            </a:endParaRPr>
          </a:p>
        </p:txBody>
      </p:sp>
      <p:sp>
        <p:nvSpPr>
          <p:cNvPr id="496"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4" descr="image003334"/>
          <p:cNvPicPr/>
          <p:nvPr/>
        </p:nvPicPr>
        <p:blipFill>
          <a:blip r:embed="rId1"/>
          <a:stretch/>
        </p:blipFill>
        <p:spPr>
          <a:xfrm>
            <a:off x="2843280" y="1700280"/>
            <a:ext cx="3529080" cy="2449440"/>
          </a:xfrm>
          <a:prstGeom prst="rect">
            <a:avLst/>
          </a:prstGeom>
          <a:ln w="0">
            <a:noFill/>
          </a:ln>
        </p:spPr>
      </p:pic>
      <p:pic>
        <p:nvPicPr>
          <p:cNvPr id="498" name="Picture 5" descr="image001112"/>
          <p:cNvPicPr/>
          <p:nvPr/>
        </p:nvPicPr>
        <p:blipFill>
          <a:blip r:embed="rId2"/>
          <a:stretch/>
        </p:blipFill>
        <p:spPr>
          <a:xfrm>
            <a:off x="2843280" y="1700280"/>
            <a:ext cx="3556080" cy="2449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4"/>
          <p:cNvSpPr/>
          <p:nvPr/>
        </p:nvSpPr>
        <p:spPr>
          <a:xfrm>
            <a:off x="611280" y="450864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com capacidade para assumir as consequências das suas ações, de gente que arrisca o certo pelo incerto para ir atrás de um sonho, que se permite abandonar os conselhos sensatos, deixando as soluções nas mãos de Deus.</a:t>
            </a:r>
            <a:endParaRPr b="0" lang="en-US" sz="2400" spc="-1" strike="noStrike">
              <a:solidFill>
                <a:srgbClr val="000000"/>
              </a:solidFill>
              <a:latin typeface="Times New Roman"/>
            </a:endParaRPr>
          </a:p>
        </p:txBody>
      </p:sp>
      <p:sp>
        <p:nvSpPr>
          <p:cNvPr id="500"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6" descr="image003334"/>
          <p:cNvPicPr/>
          <p:nvPr/>
        </p:nvPicPr>
        <p:blipFill>
          <a:blip r:embed="rId1"/>
          <a:stretch/>
        </p:blipFill>
        <p:spPr>
          <a:xfrm>
            <a:off x="2843280" y="1700280"/>
            <a:ext cx="3529080" cy="2449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4"/>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é justa com sua gente e consigo mesma, de gente que agradece o novo dia, as coisas boas que existem em sua vida, que vive cada hora com ânimo, dando o melhor de si, agradecida por estar viva, por poder distribuir sorrisos, de oferecer suas mãos e ajudar generosamente sem esperar nada em troca.</a:t>
            </a:r>
            <a:endParaRPr b="0" lang="en-US" sz="2400" spc="-1" strike="noStrike">
              <a:solidFill>
                <a:srgbClr val="000000"/>
              </a:solidFill>
              <a:latin typeface="Times New Roman"/>
            </a:endParaRPr>
          </a:p>
        </p:txBody>
      </p:sp>
      <p:sp>
        <p:nvSpPr>
          <p:cNvPr id="503" name="Rectangle 5"/>
          <p:cNvSpPr/>
          <p:nvPr/>
        </p:nvSpPr>
        <p:spPr>
          <a:xfrm>
            <a:off x="2714760" y="907920"/>
            <a:ext cx="3671640" cy="2592360"/>
          </a:xfrm>
          <a:prstGeom prst="rect">
            <a:avLst/>
          </a:prstGeom>
          <a:solidFill>
            <a:srgbClr val="000000">
              <a:alpha val="90000"/>
            </a:srgbClr>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7" descr="image0099910"/>
          <p:cNvPicPr/>
          <p:nvPr/>
        </p:nvPicPr>
        <p:blipFill>
          <a:blip r:embed="rId1"/>
          <a:stretch/>
        </p:blipFill>
        <p:spPr>
          <a:xfrm>
            <a:off x="2793960" y="979560"/>
            <a:ext cx="3556080" cy="244944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4"/>
          <p:cNvSpPr/>
          <p:nvPr/>
        </p:nvSpPr>
        <p:spPr>
          <a:xfrm>
            <a:off x="611280" y="4392720"/>
            <a:ext cx="799308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capaz de me criticar construtivamente e de frente, mas sem me lastimar ou me ferir. De gente que tem tat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possui sentido de justiç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estes chamo de meus amigos.</a:t>
            </a:r>
            <a:endParaRPr b="0" lang="en-US" sz="2400" spc="-1" strike="noStrike">
              <a:solidFill>
                <a:srgbClr val="000000"/>
              </a:solidFill>
              <a:latin typeface="Times New Roman"/>
            </a:endParaRPr>
          </a:p>
        </p:txBody>
      </p:sp>
      <p:sp>
        <p:nvSpPr>
          <p:cNvPr id="506"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7" name="Picture 6" descr="image005556"/>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4"/>
          <p:cNvSpPr/>
          <p:nvPr/>
        </p:nvSpPr>
        <p:spPr>
          <a:xfrm>
            <a:off x="395280" y="4653000"/>
            <a:ext cx="8462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pt-BR" sz="2400" spc="-1" strike="noStrike">
                <a:solidFill>
                  <a:srgbClr val="ffffff"/>
                </a:solidFill>
                <a:latin typeface="Century Gothic"/>
              </a:rPr>
              <a:t>Gosto de gente que sabe a importância da alegria e a pratica. De gente que por meio de piadas nos ensina a conceber a vida com humor. De gente que nunca deixa de ser animada. Gosto de gente que nos contagia com sua energia. </a:t>
            </a:r>
            <a:endParaRPr b="0" lang="en-US" sz="2400" spc="-1" strike="noStrike">
              <a:solidFill>
                <a:srgbClr val="000000"/>
              </a:solidFill>
              <a:latin typeface="Times New Roman"/>
            </a:endParaRPr>
          </a:p>
        </p:txBody>
      </p:sp>
      <p:sp>
        <p:nvSpPr>
          <p:cNvPr id="509"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0" name="Picture 6" descr="image007778"/>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500040" y="4724280"/>
            <a:ext cx="8358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sincera e franca, capaz de se opor com argumentos razoáveis a qualquer decisã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fiel e persistente, que não descansa quando se trata de alcançar objetivos e ideias. </a:t>
            </a:r>
            <a:endParaRPr b="0" lang="en-US" sz="2400" spc="-1" strike="noStrike">
              <a:solidFill>
                <a:srgbClr val="000000"/>
              </a:solidFill>
              <a:latin typeface="Times New Roman"/>
            </a:endParaRPr>
          </a:p>
        </p:txBody>
      </p:sp>
      <p:sp>
        <p:nvSpPr>
          <p:cNvPr id="512"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3" name="Picture 4" descr="image008889"/>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24000" y="4221000"/>
            <a:ext cx="8569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Me encanta a gente com critérios, que não se envergonha em reconhecer que se equivocou ou que não sabe algo. De gente que, ao aceitar seus erros, se esforça  genuinamente por não voltar a  cometê-los. De gente que luta contra adversidades. Gosto de gente que busca soluções.</a:t>
            </a:r>
            <a:endParaRPr b="0" lang="en-US" sz="2400" spc="-1" strike="noStrike">
              <a:solidFill>
                <a:srgbClr val="000000"/>
              </a:solidFill>
              <a:latin typeface="Times New Roman"/>
            </a:endParaRPr>
          </a:p>
        </p:txBody>
      </p:sp>
      <p:sp>
        <p:nvSpPr>
          <p:cNvPr id="515"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6" name="Picture 4" descr="image0099910"/>
          <p:cNvPicPr/>
          <p:nvPr/>
        </p:nvPicPr>
        <p:blipFill>
          <a:blip r:embed="rId1"/>
          <a:stretch/>
        </p:blipFill>
        <p:spPr>
          <a:xfrm>
            <a:off x="2843280" y="1700280"/>
            <a:ext cx="3556080" cy="2449440"/>
          </a:xfrm>
          <a:prstGeom prst="rect">
            <a:avLst/>
          </a:prstGeom>
          <a:ln w="0">
            <a:noFill/>
          </a:ln>
        </p:spPr>
      </p:pic>
      <p:pic>
        <p:nvPicPr>
          <p:cNvPr id="517" name="Picture 5" descr="image004445"/>
          <p:cNvPicPr/>
          <p:nvPr/>
        </p:nvPicPr>
        <p:blipFill>
          <a:blip r:embed="rId2"/>
          <a:stretch/>
        </p:blipFill>
        <p:spPr>
          <a:xfrm>
            <a:off x="2843280" y="1700280"/>
            <a:ext cx="3556080" cy="244944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1:39:20Z</dcterms:created>
  <dc:creator>Rogerio Ramos</dc:creator>
  <dc:description>Por favor, não retire os créditos.
Para se tornar um associado envie uma mensagem para:
tempo_de_germinar-subscribe@yahoogrupos.com.br</dc:description>
  <dc:language>en-US</dc:language>
  <cp:lastModifiedBy>Rogerio Ramos</cp:lastModifiedBy>
  <dcterms:modified xsi:type="dcterms:W3CDTF">2009-10-16T11:57:51Z</dcterms:modified>
  <cp:revision>2</cp:revision>
  <dc:subject/>
  <dc:title>Mario Benedetti</dc:title>
</cp:coreProperties>
</file>