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CE1-D1E4-42AD-B0A7-BA8EC8DA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E12-ABB0-4517-9CD1-E8EFE0B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6D7-BE4B-47B4-AC02-13206273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816-EB8A-4D0E-B1F3-C9AA1894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2E2-8485-4A25-882B-74BC5BE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B4B-A826-46FF-BDC8-4C91D10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1CB-DF1C-4C69-8CAA-B184E2EC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514-0256-4062-8745-B52BF175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4DC-C88C-4D8F-94DF-52F1C573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1F3-07C8-4640-85DF-F1305DE3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228-C1D5-4E76-9B03-7662FF0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532-F8E8-4F80-BF71-A3637F8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6E67-E069-42F2-A784-6F4CAD8F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600" spc="-1" strike="noStrike">
                <a:solidFill>
                  <a:srgbClr val="0000ff"/>
                </a:solidFill>
                <a:latin typeface="Comic Sans MS"/>
              </a:rPr>
              <a:t>SEXY</a:t>
            </a:r>
            <a:br>
              <a:rPr sz="9600"/>
            </a:br>
            <a:r>
              <a:rPr b="1" lang="sr-Latn-CS" sz="9600" spc="-1" strike="noStrike">
                <a:solidFill>
                  <a:srgbClr val="0000ff"/>
                </a:solidFill>
                <a:latin typeface="Comic Sans MS"/>
              </a:rPr>
              <a:t>HUM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90760" y="333360"/>
            <a:ext cx="436248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59080" y="476280"/>
            <a:ext cx="442584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1920" y="620640"/>
            <a:ext cx="4340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3360" y="476280"/>
            <a:ext cx="428472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84600" y="620640"/>
            <a:ext cx="357480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263600"/>
            <a:ext cx="5759280" cy="433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459080"/>
            <a:ext cx="712944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349280"/>
            <a:ext cx="5759280" cy="415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5160" y="260280"/>
            <a:ext cx="49291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24240" y="692280"/>
            <a:ext cx="4295520" cy="547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3600" y="765000"/>
            <a:ext cx="4276800" cy="532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09840" y="620640"/>
            <a:ext cx="432432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333360"/>
            <a:ext cx="4321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87640" y="260280"/>
            <a:ext cx="502452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21:14:50Z</dcterms:created>
  <dc:creator>Rasa</dc:creator>
  <dc:description/>
  <dc:language>en-US</dc:language>
  <cp:lastModifiedBy>js01913</cp:lastModifiedBy>
  <dcterms:modified xsi:type="dcterms:W3CDTF">2013-02-20T14:26:22Z</dcterms:modified>
  <cp:revision>2</cp:revision>
  <dc:subject/>
  <dc:title>SEXY HUMOR</dc:title>
</cp:coreProperties>
</file>