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20B-AACC-48A1-B759-AF35CE62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B78-75E9-4393-89A1-E8CD8D8C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C07-AA6E-40F4-9227-014AB44B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D5E-88D0-4E29-98BC-CCA571E5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B4A-1F6A-4DD9-835D-8CF3640A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922-1FD7-4E0D-9893-6EB0B6E0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D4B-0DF0-4D47-9FDA-FC4A1176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4B8-6BBE-47CF-BDD7-E9E2EF2F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F1B-CEC6-41D2-9AFA-E22075B4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D46-CFC4-4EBD-A5A9-C71CC004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D43-DCAE-40E1-A170-62D67B44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B46-D20C-4E04-87FD-1E852E85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A33B-B884-4D64-BE7E-1FC1AE34E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600" spc="-1" strike="noStrike">
                <a:solidFill>
                  <a:srgbClr val="0000ff"/>
                </a:solidFill>
                <a:latin typeface="Comic Sans MS"/>
              </a:rPr>
              <a:t>SEXY</a:t>
            </a:r>
            <a:br>
              <a:rPr sz="9600"/>
            </a:br>
            <a:r>
              <a:rPr b="1" lang="sr-Latn-CS" sz="9600" spc="-1" strike="noStrike">
                <a:solidFill>
                  <a:srgbClr val="0000ff"/>
                </a:solidFill>
                <a:latin typeface="Comic Sans MS"/>
              </a:rPr>
              <a:t>HUM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90760" y="333360"/>
            <a:ext cx="436248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59080" y="476280"/>
            <a:ext cx="442584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01920" y="620640"/>
            <a:ext cx="43401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3360" y="476280"/>
            <a:ext cx="428472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84600" y="620640"/>
            <a:ext cx="357480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1263600"/>
            <a:ext cx="5759280" cy="4330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459080"/>
            <a:ext cx="7129440" cy="397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1349280"/>
            <a:ext cx="5759280" cy="4159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5160" y="260280"/>
            <a:ext cx="492912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24240" y="692280"/>
            <a:ext cx="4295520" cy="5473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3600" y="765000"/>
            <a:ext cx="4276800" cy="532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09840" y="620640"/>
            <a:ext cx="432432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333360"/>
            <a:ext cx="432108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87640" y="260280"/>
            <a:ext cx="502452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21:14:50Z</dcterms:created>
  <dc:creator>Rasa</dc:creator>
  <dc:description/>
  <dc:language>en-US</dc:language>
  <cp:lastModifiedBy>js01913</cp:lastModifiedBy>
  <dcterms:modified xsi:type="dcterms:W3CDTF">2013-02-20T14:26:22Z</dcterms:modified>
  <cp:revision>2</cp:revision>
  <dc:subject/>
  <dc:title>SEXY HUMOR</dc:title>
</cp:coreProperties>
</file>