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97E-36DF-400B-A00A-F3A45FBC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EF26-A2D3-445C-9FA0-C7531658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572-3F85-41D1-B8B3-AC86F3F9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2CC-F025-4BD4-ACA7-FBB9C3C0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DF9-A2DE-4A67-9895-29636416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3D0F-D5BE-453F-983B-719974E4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68B-D20E-4517-83BF-77C8889F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3D7-DB02-4764-BBD7-F3633AC2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77B5-5F99-4758-9206-33EF4FD1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079-F591-48D0-82A4-43975698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B0F3-1F1A-49A4-91A9-4C78104B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0F0-991C-4032-8EEE-274493E8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6AE9-98CF-45AA-AB49-820EF7AEE597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Alcochete Air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Último grito… entre os grit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legância… Formosur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ecnologia Avançad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ixaDeTexto 5"/>
          <p:cNvSpPr/>
          <p:nvPr/>
        </p:nvSpPr>
        <p:spPr>
          <a:xfrm>
            <a:off x="5867280" y="6237360"/>
            <a:ext cx="309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entury Gothic"/>
              </a:rPr>
              <a:t>Com avanço automático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alcochete2oz1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lcochete3fw0"/>
          <p:cNvPicPr/>
          <p:nvPr/>
        </p:nvPicPr>
        <p:blipFill>
          <a:blip r:embed="rId1"/>
          <a:stretch/>
        </p:blipFill>
        <p:spPr>
          <a:xfrm>
            <a:off x="250920" y="333360"/>
            <a:ext cx="842472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Arial"/>
              </a:rPr>
              <a:t>E, finalmente, o Passageiro Portuguê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Alcochete_passenger"/>
          <p:cNvPicPr/>
          <p:nvPr/>
        </p:nvPicPr>
        <p:blipFill>
          <a:blip r:embed="rId1"/>
          <a:stretch/>
        </p:blipFill>
        <p:spPr>
          <a:xfrm>
            <a:off x="1258920" y="620640"/>
            <a:ext cx="6842160" cy="5688000"/>
          </a:xfrm>
          <a:prstGeom prst="rect">
            <a:avLst/>
          </a:prstGeom>
          <a:ln w="0">
            <a:noFill/>
          </a:ln>
        </p:spPr>
      </p:pic>
      <p:sp>
        <p:nvSpPr>
          <p:cNvPr id="63" name="CaixaDeTexto 5"/>
          <p:cNvSpPr/>
          <p:nvPr/>
        </p:nvSpPr>
        <p:spPr>
          <a:xfrm>
            <a:off x="3932280" y="645336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entury Gothic"/>
              </a:rPr>
              <a:t>O DEPENADO!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irlisbon"/>
          <p:cNvPicPr/>
          <p:nvPr/>
        </p:nvPicPr>
        <p:blipFill>
          <a:blip r:embed="rId1"/>
          <a:stretch/>
        </p:blipFill>
        <p:spPr>
          <a:xfrm>
            <a:off x="179280" y="257040"/>
            <a:ext cx="8785440" cy="634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airlisno2"/>
          <p:cNvPicPr/>
          <p:nvPr/>
        </p:nvPicPr>
        <p:blipFill>
          <a:blip r:embed="rId1"/>
          <a:stretch/>
        </p:blipFill>
        <p:spPr>
          <a:xfrm>
            <a:off x="179280" y="374760"/>
            <a:ext cx="8713800" cy="61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airlisno3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airlisbon4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Diapositivo1-2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Diapositivo2-2"/>
          <p:cNvPicPr/>
          <p:nvPr/>
        </p:nvPicPr>
        <p:blipFill>
          <a:blip r:embed="rId1"/>
          <a:stretch/>
        </p:blipFill>
        <p:spPr>
          <a:xfrm>
            <a:off x="468360" y="0"/>
            <a:ext cx="8351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ttachfileu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attachfileu1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26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0:54:26Z</dcterms:created>
  <dc:creator/>
  <dc:description/>
  <dc:language>en-US</dc:language>
  <cp:lastModifiedBy>Lenovo User</cp:lastModifiedBy>
  <dcterms:modified xsi:type="dcterms:W3CDTF">2010-07-31T21:05:31Z</dcterms:modified>
  <cp:revision>17</cp:revision>
  <dc:subject/>
  <dc:title>Alcochete Aeroport</dc:title>
</cp:coreProperties>
</file>