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DF2-7980-4869-BD0A-14BEBA29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AA2-AA9F-44D9-A4EF-14E3820C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5A7-3D21-4184-A111-4C32B9D9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08E-5D34-4EDB-8173-A66AF31B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CBC-0B74-46D2-9D42-6A5FBAA2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597-F602-4AAD-AA11-E66A4747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6AB-C608-4EB5-8268-E5033482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B3F-9246-4484-877B-B83E9F8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9E4-D7F0-42C6-BDED-693B9B0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F4D-B640-4004-9C78-66DBF22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C05-1A71-4FCD-AB09-8CDFC71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7CD-FC11-469B-92DD-870433A3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377-015A-4199-8001-8E868CF9F8B0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Alcochete Air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Último grito… entre os grit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legância… Formosur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cnologia Avança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5"/>
          <p:cNvSpPr/>
          <p:nvPr/>
        </p:nvSpPr>
        <p:spPr>
          <a:xfrm>
            <a:off x="5867280" y="6237360"/>
            <a:ext cx="30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entury Gothic"/>
              </a:rPr>
              <a:t>Com avanço automático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lcochete2oz1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cochete3fw0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E, finalmente, o Passageiro Portuguê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Alcochete_passenger"/>
          <p:cNvPicPr/>
          <p:nvPr/>
        </p:nvPicPr>
        <p:blipFill>
          <a:blip r:embed="rId1"/>
          <a:stretch/>
        </p:blipFill>
        <p:spPr>
          <a:xfrm>
            <a:off x="1258920" y="620640"/>
            <a:ext cx="6842160" cy="5688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5"/>
          <p:cNvSpPr/>
          <p:nvPr/>
        </p:nvSpPr>
        <p:spPr>
          <a:xfrm>
            <a:off x="3932280" y="645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entury Gothic"/>
              </a:rPr>
              <a:t>O DEPENADO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irlisbon"/>
          <p:cNvPicPr/>
          <p:nvPr/>
        </p:nvPicPr>
        <p:blipFill>
          <a:blip r:embed="rId1"/>
          <a:stretch/>
        </p:blipFill>
        <p:spPr>
          <a:xfrm>
            <a:off x="179280" y="257040"/>
            <a:ext cx="878544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irlisno2"/>
          <p:cNvPicPr/>
          <p:nvPr/>
        </p:nvPicPr>
        <p:blipFill>
          <a:blip r:embed="rId1"/>
          <a:stretch/>
        </p:blipFill>
        <p:spPr>
          <a:xfrm>
            <a:off x="179280" y="374760"/>
            <a:ext cx="871380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irlisno3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irlisbon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Diapositivo1-2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iapositivo2-2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ttachfileu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attachfileu1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0:54:26Z</dcterms:created>
  <dc:creator/>
  <dc:description/>
  <dc:language>en-US</dc:language>
  <cp:lastModifiedBy>Lenovo User</cp:lastModifiedBy>
  <dcterms:modified xsi:type="dcterms:W3CDTF">2010-07-31T21:05:31Z</dcterms:modified>
  <cp:revision>17</cp:revision>
  <dc:subject/>
  <dc:title>Alcochete Aeroport</dc:title>
</cp:coreProperties>
</file>