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B3A2-9B61-4512-BFE8-8896502F6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1206-CCC3-4DAD-B638-44AEA11C3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3FA6-D4FF-4502-A9E3-7E3C60C69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100B6-DDFD-4A40-9A6B-3945C40E5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80D4-9A99-4063-A071-8BA50EC21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ED96-9E60-4506-9AE2-57CEC175D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40DB-7799-42CD-AB54-83AE06F60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7F84-A852-49AB-942D-A24F871FA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2CB6-8779-4D82-B291-5B8F2BD98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0104-149B-4204-AABF-DB1A3BC7E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2A0A-ECA0-4061-914A-5D7033485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53D1-5ED8-4B34-AC4A-1A92A59C7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5ED0-AABC-4F94-AFB2-ECDC7DAA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968D-E651-46F2-8ADD-41A449D44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3BD8-82B7-4D81-AD90-5981D408E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33BC-924A-48D7-8DBF-CDD657E9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E852-A5F5-49C9-BEA3-0E1F9E9A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6C50-069F-4931-B7B2-D91649D3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5EB2-C36A-4D33-B7BB-B4F72881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C682-CCC2-47C3-8A60-B58539CE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0F4A-19FC-4674-B9EC-27BDC1D1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A948-5C75-41BB-97ED-D1745D72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A30B-A6AB-4BF5-89A4-6962333C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EAEB-AC88-4F36-B05C-761261BB61C7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Mondego2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Rio Mondego e Cidade A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0" y="6031080"/>
            <a:ext cx="23842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Década 19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D:\Trabalho\Fotos\_Screen\2011\2011 (1493).jpg"/>
          <p:cNvPicPr/>
          <p:nvPr/>
        </p:nvPicPr>
        <p:blipFill>
          <a:blip r:embed="rId1"/>
          <a:stretch/>
        </p:blipFill>
        <p:spPr>
          <a:xfrm>
            <a:off x="0" y="406440"/>
            <a:ext cx="9144000" cy="58849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0" y="5767560"/>
            <a:ext cx="206064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no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Ponte de Santa Cl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pontes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Ponte de Santa Cl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0" y="6031080"/>
            <a:ext cx="23842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Década 19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D:\Trabalho\Fotos\_Screen\2011\2011 (1325).jpg"/>
          <p:cNvPicPr/>
          <p:nvPr/>
        </p:nvPicPr>
        <p:blipFill>
          <a:blip r:embed="rId1"/>
          <a:stretch/>
        </p:blipFill>
        <p:spPr>
          <a:xfrm>
            <a:off x="0" y="363600"/>
            <a:ext cx="9136080" cy="60800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0" y="635652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Ponte de Santa Cl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0" y="5958000"/>
            <a:ext cx="196524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no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D:\Trabalho\Fotos_diversas\Coimbra\CoimbraAntiga-06-HotelAstria.jpg"/>
          <p:cNvPicPr/>
          <p:nvPr/>
        </p:nvPicPr>
        <p:blipFill>
          <a:blip r:embed="rId1"/>
          <a:stretch/>
        </p:blipFill>
        <p:spPr>
          <a:xfrm>
            <a:off x="0" y="0"/>
            <a:ext cx="9097920" cy="63054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0" y="5845320"/>
            <a:ext cx="23842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Década 19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v. Navarro (junto ao Hotel Astó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D:\Trabalho\Fotos\_Screen\2011\2011 (1536).jpg"/>
          <p:cNvPicPr/>
          <p:nvPr/>
        </p:nvPicPr>
        <p:blipFill>
          <a:blip r:embed="rId1"/>
          <a:stretch/>
        </p:blipFill>
        <p:spPr>
          <a:xfrm>
            <a:off x="0" y="3412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v. Navarro (junto ao Hotel Astó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0" y="5943600"/>
            <a:ext cx="187164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no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D:\Trabalho\Fotos_diversas\Coimbra\ESTAO_~1.JPG"/>
          <p:cNvPicPr/>
          <p:nvPr/>
        </p:nvPicPr>
        <p:blipFill>
          <a:blip r:embed="rId1"/>
          <a:stretch/>
        </p:blipFill>
        <p:spPr>
          <a:xfrm>
            <a:off x="0" y="204840"/>
            <a:ext cx="9144000" cy="62103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0" y="6029280"/>
            <a:ext cx="23842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Década 19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v. Navarro (junto à Estação No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D:\Trabalho\Fotos\_Screen\2011\2011 (921).jpg"/>
          <p:cNvPicPr/>
          <p:nvPr/>
        </p:nvPicPr>
        <p:blipFill>
          <a:blip r:embed="rId1"/>
          <a:stretch/>
        </p:blipFill>
        <p:spPr>
          <a:xfrm>
            <a:off x="0" y="3268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v. Navarro (junto à Estação No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0" y="5886360"/>
            <a:ext cx="200340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no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PraçadoComércio"/>
          <p:cNvPicPr/>
          <p:nvPr/>
        </p:nvPicPr>
        <p:blipFill>
          <a:blip r:embed="rId1"/>
          <a:srcRect l="6508" t="6142" r="7146" b="7942"/>
          <a:stretch/>
        </p:blipFill>
        <p:spPr>
          <a:xfrm>
            <a:off x="0" y="0"/>
            <a:ext cx="918828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Praça do Comér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0" y="6110280"/>
            <a:ext cx="23842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Década 19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D:\Trabalho\Fotos\_Screen\2011\2011 (1168).jpg"/>
          <p:cNvPicPr/>
          <p:nvPr/>
        </p:nvPicPr>
        <p:blipFill>
          <a:blip r:embed="rId1"/>
          <a:stretch/>
        </p:blipFill>
        <p:spPr>
          <a:xfrm>
            <a:off x="-6480" y="355680"/>
            <a:ext cx="9150480" cy="60879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Praça do Comér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0" y="6005520"/>
            <a:ext cx="207504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no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D:\Trabalho\Fotos_diversas\Coimbra\AV__FE~2.JPG"/>
          <p:cNvPicPr/>
          <p:nvPr/>
        </p:nvPicPr>
        <p:blipFill>
          <a:blip r:embed="rId1"/>
          <a:stretch/>
        </p:blipFill>
        <p:spPr>
          <a:xfrm>
            <a:off x="0" y="492120"/>
            <a:ext cx="9129600" cy="58672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0" y="5934240"/>
            <a:ext cx="23842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Década 19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v. Fernão de Magalhães (junto ao Largo das Amei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D:\Trabalho\Fotos\_Screen\2011\2011 (1292).jpg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0" y="5942160"/>
            <a:ext cx="204624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no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Rio Mondego e Cidade A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D:\Trabalho\Fotos\_Screen\2011\2011 (1539).jpg"/>
          <p:cNvPicPr/>
          <p:nvPr/>
        </p:nvPicPr>
        <p:blipFill>
          <a:blip r:embed="rId1"/>
          <a:stretch/>
        </p:blipFill>
        <p:spPr>
          <a:xfrm>
            <a:off x="0" y="262080"/>
            <a:ext cx="9144000" cy="60861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0" y="5934240"/>
            <a:ext cx="206064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no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v. Fernão de Magalhães (junto ao Largo das Amei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AvFernãodeMagalhães"/>
          <p:cNvPicPr/>
          <p:nvPr/>
        </p:nvPicPr>
        <p:blipFill>
          <a:blip r:embed="rId1"/>
          <a:stretch/>
        </p:blipFill>
        <p:spPr>
          <a:xfrm>
            <a:off x="0" y="0"/>
            <a:ext cx="9144000" cy="64152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v. Fernão de Magalhães (no Largo do Arna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0" y="5838840"/>
            <a:ext cx="23842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Década 19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D:\Trabalho\Fotos\_Screen\2011\2011 (1107)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289080"/>
            <a:ext cx="9161640" cy="60973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0" y="5900760"/>
            <a:ext cx="181440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no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v. Fernão de Magalhães (no Largo do Arna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CasadoSal"/>
          <p:cNvPicPr/>
          <p:nvPr/>
        </p:nvPicPr>
        <p:blipFill>
          <a:blip r:embed="rId1"/>
          <a:srcRect l="0" t="4950" r="0" b="6065"/>
          <a:stretch/>
        </p:blipFill>
        <p:spPr>
          <a:xfrm>
            <a:off x="0" y="341280"/>
            <a:ext cx="9144000" cy="61279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Casa do 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539640" y="5770440"/>
            <a:ext cx="238464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Década 19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Imagem 2" descr="2011 (978).jpg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0861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Casa do 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0" y="5900760"/>
            <a:ext cx="200664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no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Ponte Açude"/>
          <p:cNvPicPr/>
          <p:nvPr/>
        </p:nvPicPr>
        <p:blipFill>
          <a:blip r:embed="rId1"/>
          <a:srcRect l="5717" t="5297" r="4765" b="11177"/>
          <a:stretch/>
        </p:blipFill>
        <p:spPr>
          <a:xfrm>
            <a:off x="0" y="0"/>
            <a:ext cx="9166320" cy="6415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0" y="635652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Ponte Aç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0" y="6045120"/>
            <a:ext cx="23842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Década 19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D:\Trabalho\Fotos\_Screen\2011\2011 (1566).jpg"/>
          <p:cNvPicPr/>
          <p:nvPr/>
        </p:nvPicPr>
        <p:blipFill>
          <a:blip r:embed="rId1"/>
          <a:stretch/>
        </p:blipFill>
        <p:spPr>
          <a:xfrm>
            <a:off x="-14400" y="304920"/>
            <a:ext cx="9158400" cy="60958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0" y="635652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Ponte Aç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0" y="6045120"/>
            <a:ext cx="23842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no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JBotânico"/>
          <p:cNvPicPr/>
          <p:nvPr/>
        </p:nvPicPr>
        <p:blipFill>
          <a:blip r:embed="rId1"/>
          <a:stretch/>
        </p:blipFill>
        <p:spPr>
          <a:xfrm>
            <a:off x="44280" y="219240"/>
            <a:ext cx="9099720" cy="61959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Jardim Botâ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0" y="6002280"/>
            <a:ext cx="23842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Década 19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D:\Trabalho\Fotos\_Screen\2011\2011 (1193)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368280"/>
            <a:ext cx="9144000" cy="59403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Jardim Botâ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0" y="5738760"/>
            <a:ext cx="196524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no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Solum"/>
          <p:cNvPicPr/>
          <p:nvPr/>
        </p:nvPicPr>
        <p:blipFill>
          <a:blip r:embed="rId1"/>
          <a:stretch/>
        </p:blipFill>
        <p:spPr>
          <a:xfrm>
            <a:off x="0" y="406440"/>
            <a:ext cx="9144000" cy="60735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0" y="5938920"/>
            <a:ext cx="23842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Década 19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Estádio, Igreja de São José e Bairro Norton de M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Mondego"/>
          <p:cNvPicPr/>
          <p:nvPr/>
        </p:nvPicPr>
        <p:blipFill>
          <a:blip r:embed="rId1"/>
          <a:stretch/>
        </p:blipFill>
        <p:spPr>
          <a:xfrm>
            <a:off x="0" y="0"/>
            <a:ext cx="92059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0" y="6045120"/>
            <a:ext cx="23842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Década 19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Rio Mondego e Cidade A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D:\Trabalho\Fotos\Assinada\2004\2004 (112).jpg"/>
          <p:cNvPicPr/>
          <p:nvPr/>
        </p:nvPicPr>
        <p:blipFill>
          <a:blip r:embed="rId1"/>
          <a:stretch/>
        </p:blipFill>
        <p:spPr>
          <a:xfrm>
            <a:off x="-4680" y="314280"/>
            <a:ext cx="9148680" cy="61358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0" y="5749920"/>
            <a:ext cx="207504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no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Estádio, Igreja de São José e Bairro Norton de M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D:\Trabalho\Fotos_diversas\Coimbra\AQUEDU~2.JPG"/>
          <p:cNvPicPr/>
          <p:nvPr/>
        </p:nvPicPr>
        <p:blipFill>
          <a:blip r:embed="rId1"/>
          <a:stretch/>
        </p:blipFill>
        <p:spPr>
          <a:xfrm>
            <a:off x="2538360" y="-1440"/>
            <a:ext cx="4130640" cy="68594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0" y="5705640"/>
            <a:ext cx="23842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Década 19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rcos do Jardim (Arco de São Sebastiã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D:\Trabalho\Fotos\_Screen\2011\2011 (1562).jpg"/>
          <p:cNvPicPr/>
          <p:nvPr/>
        </p:nvPicPr>
        <p:blipFill>
          <a:blip r:embed="rId1"/>
          <a:stretch/>
        </p:blipFill>
        <p:spPr>
          <a:xfrm>
            <a:off x="2365200" y="0"/>
            <a:ext cx="456588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0" y="5705640"/>
            <a:ext cx="23842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no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rcos do Jardim (Arco de São Sebastiã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UC"/>
          <p:cNvPicPr/>
          <p:nvPr/>
        </p:nvPicPr>
        <p:blipFill>
          <a:blip r:embed="rId1"/>
          <a:stretch/>
        </p:blipFill>
        <p:spPr>
          <a:xfrm>
            <a:off x="0" y="0"/>
            <a:ext cx="916632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5396040"/>
            <a:ext cx="23842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Década 19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0" y="5842080"/>
            <a:ext cx="9144000" cy="10159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Subida para a Univers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(Calçada Martin de Freitas e entrada do Bairro Sousa Pin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Imagem 2" descr="2011 (954).jpg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0861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3"/>
          <p:cNvSpPr/>
          <p:nvPr/>
        </p:nvSpPr>
        <p:spPr>
          <a:xfrm>
            <a:off x="0" y="5505480"/>
            <a:ext cx="185724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no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5842080"/>
            <a:ext cx="9144000" cy="10159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Subida para a Univers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(Calçada Martin de Freitas e entrada do Bairro Sousa Pin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D:\Trabalho\Fotos_diversas\Coimbra\CoimbraAntiga-MuseuMachadodeCastro.jpg"/>
          <p:cNvPicPr/>
          <p:nvPr/>
        </p:nvPicPr>
        <p:blipFill>
          <a:blip r:embed="rId1"/>
          <a:stretch/>
        </p:blipFill>
        <p:spPr>
          <a:xfrm>
            <a:off x="0" y="258840"/>
            <a:ext cx="9151920" cy="62373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Museu Machado de Cas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0" y="6056280"/>
            <a:ext cx="23842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Década 19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D:\Trabalho\Fotos\_Screen\2011\2011 (1226).jpg"/>
          <p:cNvPicPr/>
          <p:nvPr/>
        </p:nvPicPr>
        <p:blipFill>
          <a:blip r:embed="rId1"/>
          <a:stretch/>
        </p:blipFill>
        <p:spPr>
          <a:xfrm>
            <a:off x="0" y="4096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Museu Machado de Cas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0" y="6039000"/>
            <a:ext cx="192420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no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aixaDeTexto 5"/>
          <p:cNvSpPr/>
          <p:nvPr/>
        </p:nvSpPr>
        <p:spPr>
          <a:xfrm>
            <a:off x="7073280" y="5288040"/>
            <a:ext cx="2266920" cy="1557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600" spc="-1" strike="noStrike">
                <a:solidFill>
                  <a:srgbClr val="ffffff"/>
                </a:solidFill>
                <a:latin typeface="Edwardian Script ITC"/>
              </a:rPr>
              <a:t>Fim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D:\Trabalho\Fotos\Assinada\2008\2008 (1000).jpg"/>
          <p:cNvPicPr/>
          <p:nvPr/>
        </p:nvPicPr>
        <p:blipFill>
          <a:blip r:embed="rId1"/>
          <a:stretch/>
        </p:blipFill>
        <p:spPr>
          <a:xfrm>
            <a:off x="0" y="0"/>
            <a:ext cx="920124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0" y="6059520"/>
            <a:ext cx="197964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no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Rio Mondego e Cidade A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pontes"/>
          <p:cNvPicPr/>
          <p:nvPr/>
        </p:nvPicPr>
        <p:blipFill>
          <a:blip r:embed="rId1"/>
          <a:stretch/>
        </p:blipFill>
        <p:spPr>
          <a:xfrm>
            <a:off x="0" y="0"/>
            <a:ext cx="91933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0" y="6005520"/>
            <a:ext cx="23842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Década 19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0" y="639612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Ponte de Santa Clara, acesso à Por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D:\Trabalho\Fotos\_Screen\2011\2011 (1320).jpg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363600"/>
            <a:ext cx="9158400" cy="60958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Ponte de Santa Clara, acesso à Por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0" y="5979960"/>
            <a:ext cx="193032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no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D:\Trabalho\Fotos_diversas\Coimbra\portagem 1905.jpg"/>
          <p:cNvPicPr/>
          <p:nvPr/>
        </p:nvPicPr>
        <p:blipFill>
          <a:blip r:embed="rId1"/>
          <a:stretch/>
        </p:blipFill>
        <p:spPr>
          <a:xfrm>
            <a:off x="0" y="0"/>
            <a:ext cx="9147240" cy="64008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0" y="5881680"/>
            <a:ext cx="23842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Década 1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640728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Largo da Por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D:\Trabalho\Fotos\_Screen\2011\2011 (1528).jpg"/>
          <p:cNvPicPr/>
          <p:nvPr/>
        </p:nvPicPr>
        <p:blipFill>
          <a:blip r:embed="rId1"/>
          <a:stretch/>
        </p:blipFill>
        <p:spPr>
          <a:xfrm>
            <a:off x="-14400" y="304920"/>
            <a:ext cx="9158400" cy="60958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0" y="640728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Largo da Por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0" y="5902200"/>
            <a:ext cx="23842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no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D:\Trabalho\Fotos_diversas\Coimbra\8635948_m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190440"/>
            <a:ext cx="9144000" cy="62960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0" y="6029280"/>
            <a:ext cx="23842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Década 19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38073" dir="2400819" blurRad="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Ponte de Santa Cl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17:42:50Z</dcterms:created>
  <dc:creator/>
  <dc:description/>
  <dc:language>en-US</dc:language>
  <cp:lastModifiedBy>Your User Name</cp:lastModifiedBy>
  <dcterms:modified xsi:type="dcterms:W3CDTF">2011-09-13T11:28:27Z</dcterms:modified>
  <cp:revision>56</cp:revision>
  <dc:subject/>
  <dc:title>Diapositivo 1</dc:title>
</cp:coreProperties>
</file>