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8B18-5973-477B-A9A9-2DD8A83B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8753-A1AA-4D80-8441-B79A2A50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675-EBAE-48CA-9CC4-8627B40E9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1297-C1EF-48E0-8D1D-1CF227995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636-B66E-4970-830B-F13AC17F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141-D3DF-499A-AC11-2936948F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E53F-4D3C-4B1C-846C-48283407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47E-7A4B-4AD4-8D7B-7F271547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CEDB-A20E-4955-94A6-B5A3BFDD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A06F-CF24-4ED8-8B61-2C5038C2A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8B7F-B598-477B-A26D-368C9D96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501-9388-4D0A-9D2A-BFE00E04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D55-CA6D-4FF5-9BF2-281BAE5D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0FE-8C24-42C0-BCE4-0EE072B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98B-BF35-46B7-93A7-F72888CC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DFD-B47A-4F7D-AD86-82BD591A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E3C-F5EF-4B30-A2ED-8614741F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44C-6E3A-4F36-A7EB-809C450D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664-E563-43D7-92C4-21A7407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36A-4638-4C7D-A79F-CB4C6CC6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782-8540-4687-9017-8AEF0C1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E56-D540-4829-9578-EF6B670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6E2-D916-4872-8FC1-628A4C0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32D7-02CC-44BA-B5F9-9721288F999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ondego2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0310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Trabalho\Fotos\_Screen\2011\2011 (1493)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5884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5767560"/>
            <a:ext cx="2060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ontes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60310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D:\Trabalho\Fotos\_Screen\2011\2011 (1325).jpg"/>
          <p:cNvPicPr/>
          <p:nvPr/>
        </p:nvPicPr>
        <p:blipFill>
          <a:blip r:embed="rId1"/>
          <a:stretch/>
        </p:blipFill>
        <p:spPr>
          <a:xfrm>
            <a:off x="0" y="363600"/>
            <a:ext cx="9136080" cy="6080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5958000"/>
            <a:ext cx="1965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Trabalho\Fotos_diversas\Coimbra\CoimbraAntiga-06-HotelAstria.jpg"/>
          <p:cNvPicPr/>
          <p:nvPr/>
        </p:nvPicPr>
        <p:blipFill>
          <a:blip r:embed="rId1"/>
          <a:stretch/>
        </p:blipFill>
        <p:spPr>
          <a:xfrm>
            <a:off x="0" y="0"/>
            <a:ext cx="9097920" cy="6305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0" y="58453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ao Hotel Astó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:\Trabalho\Fotos\_Screen\2011\2011 (1536).jpg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ao Hotel Astó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5943600"/>
            <a:ext cx="1871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Trabalho\Fotos_diversas\Coimbra\ESTAO_~1.JPG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6029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à Estação 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:\Trabalho\Fotos\_Screen\2011\2011 (921).jpg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à Estação 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5886360"/>
            <a:ext cx="20034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açadoComércio"/>
          <p:cNvPicPr/>
          <p:nvPr/>
        </p:nvPicPr>
        <p:blipFill>
          <a:blip r:embed="rId1"/>
          <a:srcRect l="6508" t="6142" r="7146" b="7942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aça do Comé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6110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:\Trabalho\Fotos\_Screen\2011\2011 (1168).jpg"/>
          <p:cNvPicPr/>
          <p:nvPr/>
        </p:nvPicPr>
        <p:blipFill>
          <a:blip r:embed="rId1"/>
          <a:stretch/>
        </p:blipFill>
        <p:spPr>
          <a:xfrm>
            <a:off x="-6480" y="355680"/>
            <a:ext cx="9150480" cy="6087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aça do Comé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6005520"/>
            <a:ext cx="2075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Trabalho\Fotos_diversas\Coimbra\AV__FE~2.JPG"/>
          <p:cNvPicPr/>
          <p:nvPr/>
        </p:nvPicPr>
        <p:blipFill>
          <a:blip r:embed="rId1"/>
          <a:stretch/>
        </p:blipFill>
        <p:spPr>
          <a:xfrm>
            <a:off x="0" y="492120"/>
            <a:ext cx="9129600" cy="586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59342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junto ao Largo das Ame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D:\Trabalho\Fotos\_Screen\2011\2011 (1292)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5942160"/>
            <a:ext cx="2046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D:\Trabalho\Fotos\_Screen\2011\2011 (1539).jpg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5934240"/>
            <a:ext cx="2060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junto ao Largo das Ame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vFernãodeMagalhães"/>
          <p:cNvPicPr/>
          <p:nvPr/>
        </p:nvPicPr>
        <p:blipFill>
          <a:blip r:embed="rId1"/>
          <a:stretch/>
        </p:blipFill>
        <p:spPr>
          <a:xfrm>
            <a:off x="0" y="0"/>
            <a:ext cx="9144000" cy="6415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no Largo do Ar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58388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D:\Trabalho\Fotos\_Screen\2011\2011 (1107)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289080"/>
            <a:ext cx="9161640" cy="6097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5900760"/>
            <a:ext cx="18144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no Largo do Ar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CasadoSal"/>
          <p:cNvPicPr/>
          <p:nvPr/>
        </p:nvPicPr>
        <p:blipFill>
          <a:blip r:embed="rId1"/>
          <a:srcRect l="0" t="4950" r="0" b="6065"/>
          <a:stretch/>
        </p:blipFill>
        <p:spPr>
          <a:xfrm>
            <a:off x="0" y="3412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asa do 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9640" y="5770440"/>
            <a:ext cx="2384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m 2" descr="2011 (978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asa do 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5900760"/>
            <a:ext cx="2006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onte Açude"/>
          <p:cNvPicPr/>
          <p:nvPr/>
        </p:nvPicPr>
        <p:blipFill>
          <a:blip r:embed="rId1"/>
          <a:srcRect l="5717" t="5297" r="4765" b="11177"/>
          <a:stretch/>
        </p:blipFill>
        <p:spPr>
          <a:xfrm>
            <a:off x="0" y="0"/>
            <a:ext cx="9166320" cy="64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Aç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60451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Trabalho\Fotos\_Screen\2011\2011 (1566).jpg"/>
          <p:cNvPicPr/>
          <p:nvPr/>
        </p:nvPicPr>
        <p:blipFill>
          <a:blip r:embed="rId1"/>
          <a:stretch/>
        </p:blipFill>
        <p:spPr>
          <a:xfrm>
            <a:off x="-14400" y="304920"/>
            <a:ext cx="9158400" cy="6095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Aç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60451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JBotânico"/>
          <p:cNvPicPr/>
          <p:nvPr/>
        </p:nvPicPr>
        <p:blipFill>
          <a:blip r:embed="rId1"/>
          <a:stretch/>
        </p:blipFill>
        <p:spPr>
          <a:xfrm>
            <a:off x="44280" y="219240"/>
            <a:ext cx="9099720" cy="619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Jardim Botâ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002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Trabalho\Fotos\_Screen\2011\2011 (1193)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368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Jardim Botâ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5738760"/>
            <a:ext cx="1965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Solum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73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0" y="59389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stádio, Igreja de São José e Bairro Norton de 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ondego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0451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:\Trabalho\Fotos\Assinada\2004\2004 (112).jpg"/>
          <p:cNvPicPr/>
          <p:nvPr/>
        </p:nvPicPr>
        <p:blipFill>
          <a:blip r:embed="rId1"/>
          <a:stretch/>
        </p:blipFill>
        <p:spPr>
          <a:xfrm>
            <a:off x="-4680" y="314280"/>
            <a:ext cx="9148680" cy="6135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5749920"/>
            <a:ext cx="2075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stádio, Igreja de São José e Bairro Norton de 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D:\Trabalho\Fotos_diversas\Coimbra\AQUEDU~2.JPG"/>
          <p:cNvPicPr/>
          <p:nvPr/>
        </p:nvPicPr>
        <p:blipFill>
          <a:blip r:embed="rId1"/>
          <a:stretch/>
        </p:blipFill>
        <p:spPr>
          <a:xfrm>
            <a:off x="2538360" y="-1440"/>
            <a:ext cx="4130640" cy="6859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0" y="57056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rcos do Jardim (Arco de São Sebasti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Trabalho\Fotos\_Screen\2011\2011 (1562).jpg"/>
          <p:cNvPicPr/>
          <p:nvPr/>
        </p:nvPicPr>
        <p:blipFill>
          <a:blip r:embed="rId1"/>
          <a:stretch/>
        </p:blipFill>
        <p:spPr>
          <a:xfrm>
            <a:off x="2365200" y="0"/>
            <a:ext cx="45658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0" y="57056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rcos do Jardim (Arco de São Sebasti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UC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3960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5842080"/>
            <a:ext cx="9144000" cy="10159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ubida para a Univer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Calçada Martin de Freitas e entrada do Bairro Sousa Pi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m 2" descr="2011 (954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55054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5842080"/>
            <a:ext cx="9144000" cy="10159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ubida para a Univer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Calçada Martin de Freitas e entrada do Bairro Sousa Pi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Trabalho\Fotos_diversas\Coimbra\CoimbraAntiga-MuseuMachadodeCastro.jpg"/>
          <p:cNvPicPr/>
          <p:nvPr/>
        </p:nvPicPr>
        <p:blipFill>
          <a:blip r:embed="rId1"/>
          <a:stretch/>
        </p:blipFill>
        <p:spPr>
          <a:xfrm>
            <a:off x="0" y="258840"/>
            <a:ext cx="9151920" cy="623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Museu Machado de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6056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Trabalho\Fotos\_Screen\2011\2011 (1226)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Museu Machado de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6039000"/>
            <a:ext cx="19242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5"/>
          <p:cNvSpPr/>
          <p:nvPr/>
        </p:nvSpPr>
        <p:spPr>
          <a:xfrm>
            <a:off x="7073280" y="5288040"/>
            <a:ext cx="2266920" cy="155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Edwardian Script ITC"/>
              </a:rPr>
              <a:t>F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Trabalho\Fotos\Assinada\2008\2008 (1000).jp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6059520"/>
            <a:ext cx="1979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ontes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60055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, acesso à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Trabalho\Fotos\_Screen\2011\2011 (1320)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63600"/>
            <a:ext cx="91584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, acesso à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5979960"/>
            <a:ext cx="193032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Trabalho\Fotos_diversas\Coimbra\portagem 1905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58816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64072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Largo da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Trabalho\Fotos\_Screen\2011\2011 (1528).jpg"/>
          <p:cNvPicPr/>
          <p:nvPr/>
        </p:nvPicPr>
        <p:blipFill>
          <a:blip r:embed="rId1"/>
          <a:stretch/>
        </p:blipFill>
        <p:spPr>
          <a:xfrm>
            <a:off x="-14400" y="304920"/>
            <a:ext cx="9158400" cy="6095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0" y="64072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Largo da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590220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Trabalho\Fotos_diversas\Coimbra\8635948_m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1904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6029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7:42:50Z</dcterms:created>
  <dc:creator/>
  <dc:description/>
  <dc:language>en-US</dc:language>
  <cp:lastModifiedBy>Your User Name</cp:lastModifiedBy>
  <dcterms:modified xsi:type="dcterms:W3CDTF">2011-09-13T11:28:27Z</dcterms:modified>
  <cp:revision>56</cp:revision>
  <dc:subject/>
  <dc:title>Diapositivo 1</dc:title>
</cp:coreProperties>
</file>