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7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12a%20I'll%20Be%20Home.wav" ContentType="audio/x-wav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755-1302-4969-AC7D-FD39B403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604-246A-47B7-853A-9C300BC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5F0-90A4-475C-A82F-86F97AE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6D7-CC26-4CBB-8F5B-2A5D590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ECC-D208-4974-82D9-6787B197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C2A-A5AC-4299-B6B7-A41002AD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3C-00C7-4581-98B3-018C735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839-D693-4FD5-B488-0DFB9654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183-80E4-4B50-A90C-29126ED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59C-7104-4B35-9FD8-468BC3E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016-48F9-41C8-8B1F-4864EBB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3F6-0B20-47D7-810E-A0CC1F6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A2BD-4412-4888-B146-6D794D5FDCD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12a%20I&apos;ll%20Be%20Home.wav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hyperlink" Target="http://www.incredimail.com/app/?tag=emoticon_click_me&amp;lang=22&amp;version=5863986&amp;setup_id=22000007&amp;aff_id=422&amp;addon=IncrediMail&amp;id=95202&amp;guid=06803F05-8BD0-413F-8389-8847F234BDF3" TargetMode="External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hyperlink" Target="http://www.rovosrail.com/" TargetMode="External"/><Relationship Id="rId4" Type="http://schemas.openxmlformats.org/officeDocument/2006/relationships/hyperlink" Target="http://www.rovosrail.com/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6184800"/>
            <a:ext cx="316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549360"/>
            <a:ext cx="292428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ovos rail – Pride of Af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rgulho da Áf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89000"/>
            <a:ext cx="3657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gue o som e avançe manualmente!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ll dir="r"/>
    <p:sndAc>
      <p:stSnd>
        <p:snd r:embed="rId3" name="12a%20I'll%20Be%20Ho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6280" y="6399360"/>
            <a:ext cx="412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Serpenteando entre vales e montanha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120" y="6399360"/>
            <a:ext cx="21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harme e confort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6280" y="640548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O requinte do restaurant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640" y="640548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Lá se vai o grande comboi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6920" y="0"/>
            <a:ext cx="5148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6920" y="0"/>
            <a:ext cx="5148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840" y="6399360"/>
            <a:ext cx="38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Atravessando os vales e plantaçõ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56000" y="6093000"/>
            <a:ext cx="458172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ão vários modelos de acomodações disponíveis..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867280" y="6093000"/>
            <a:ext cx="3019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aqui???</a:t>
            </a:r>
            <a:endParaRPr b="1" lang="en-US" sz="16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É preferível nem comentar!!!</a:t>
            </a:r>
            <a:endParaRPr b="1" lang="en-US" sz="16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Clique em mim!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47000" y="5877000"/>
            <a:ext cx="65736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62564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vosrail.com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5950080"/>
            <a:ext cx="67608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"/>
              </a:rPr>
              <a:t>R.B.F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"/>
              </a:rPr>
              <a:t>2009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9920" y="640548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Vencendo os desafios geográfico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47712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m paisagens de tirar o fôleg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59:22Z</dcterms:created>
  <dc:creator>ÚM</dc:creator>
  <dc:description/>
  <dc:language>en-US</dc:language>
  <cp:lastModifiedBy>.</cp:lastModifiedBy>
  <dcterms:modified xsi:type="dcterms:W3CDTF">2009-05-30T19:18:40Z</dcterms:modified>
  <cp:revision>6</cp:revision>
  <dc:subject/>
  <dc:title>Rovos rail</dc:title>
</cp:coreProperties>
</file>