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7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33.jpeg" ContentType="image/jpeg"/>
  <Override PartName="/ppt/media/12a%20I'll%20Be%20Home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89C-AF1E-4551-85EC-06BBD6E5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E1E-AC2C-4B38-B45B-A7FD1B4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06F-2268-4AAC-9333-2E533A00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1E5-75C9-4D0F-BAFD-558694F7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63E-81B2-4F0F-A8D5-9DD2FDB0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0F5-0A27-4049-8C34-6C7CD286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172-0D3B-4F17-9C8A-ACDB7484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122-471C-4715-9F6C-5CDA9DF8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200-0F5D-4E4B-BF0A-59DF2385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93A-5604-430C-B769-170536F7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2B7-F9D9-4F52-B2DE-00E0EBD9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C62-E60D-47D3-BDCC-01D970C1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F180-356B-4B19-AAAD-314EA2F8992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12a%20I&apos;ll%20Be%20Home.wav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hyperlink" Target="http://www.incredimail.com/app/?tag=emoticon_click_me&amp;lang=22&amp;version=5863986&amp;setup_id=22000007&amp;aff_id=422&amp;addon=IncrediMail&amp;id=95202&amp;guid=06803F05-8BD0-413F-8389-8847F234BDF3" TargetMode="External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hyperlink" Target="http://www.rovosrail.com/" TargetMode="External"/><Relationship Id="rId4" Type="http://schemas.openxmlformats.org/officeDocument/2006/relationships/hyperlink" Target="http://www.rovosrail.com/" TargetMode="Externa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6184800"/>
            <a:ext cx="316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549360"/>
            <a:ext cx="292428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ovos rail – Pride of Afric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rgulho da Áfric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189000"/>
            <a:ext cx="3657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gue o som e avançe manualmente!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r"/>
    <p:sndAc>
      <p:stSnd>
        <p:snd r:embed="rId3" name="12a%20I'll%20Be%20Ho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6280" y="6399360"/>
            <a:ext cx="412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Serpenteando entre vales e montanha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120" y="639936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harme e confort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6280" y="6405480"/>
            <a:ext cx="28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O requinte do restaurant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640" y="640548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Lá se vai o grande comboi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96920" y="0"/>
            <a:ext cx="5148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96920" y="0"/>
            <a:ext cx="5148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840" y="6399360"/>
            <a:ext cx="38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travessando os vales e plantaçõe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356000" y="6093000"/>
            <a:ext cx="458172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ão vários modelos de acomodações disponíveis...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867280" y="6093000"/>
            <a:ext cx="301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 aqui???</a:t>
            </a:r>
            <a:endParaRPr b="1" lang="en-US" sz="16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É preferível nem comentar!!!</a:t>
            </a:r>
            <a:endParaRPr b="1" lang="en-US" sz="16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" descr="Clique em mim!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47000" y="5877000"/>
            <a:ext cx="657360" cy="466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62564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vosrail.com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5950080"/>
            <a:ext cx="67608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ill Sans Ultra Bold"/>
              </a:rPr>
              <a:t>R.B.F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ill Sans Ultra Bold"/>
              <a:ea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ill Sans Ultra Bold"/>
              </a:rPr>
              <a:t>2009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ill Sans Ultra Bold"/>
              <a:ea typeface="Gill Sans Ultra Bold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9920" y="6405480"/>
            <a:ext cx="36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Vencendo os desafios geográfico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" y="6477120"/>
            <a:ext cx="32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Em paisagens de tirar o fôleg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59:22Z</dcterms:created>
  <dc:creator>ÚM</dc:creator>
  <dc:description/>
  <dc:language>en-US</dc:language>
  <cp:lastModifiedBy>.</cp:lastModifiedBy>
  <dcterms:modified xsi:type="dcterms:W3CDTF">2009-05-30T19:18:40Z</dcterms:modified>
  <cp:revision>6</cp:revision>
  <dc:subject/>
  <dc:title>Rovos rail</dc:title>
</cp:coreProperties>
</file>