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AmazingGrace_Mantovani.wav" ContentType="audio/x-wav"/>
  <Override PartName="/ppt/media/image12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E2E-383D-425D-88F1-F005B3CF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843-8DC9-4F2A-A92E-8F64B7F3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B9C-1285-482E-BCA7-5379CB39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613-A0E0-4303-8521-B05D47CB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62C-B408-4ECC-A058-35365A1C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FC5-0326-4116-8607-75A049B9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419-F600-4B10-B72F-81A8F6B6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83F-CB37-4F1B-8717-98A61BCD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847-32E3-467A-A867-9FEAB9DC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69B-657C-4C6D-8523-822448D9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518-E2BE-4F08-90F8-F7E00467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BF6-F9EE-4AFD-B064-15B6EA8F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1E0D-E7E8-48CB-8E0D-6493657BCA6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zingGrace_Mantovani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80880" y="304920"/>
            <a:ext cx="8534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Les meilleures photos 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L'année 20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D'aprè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ffffff"/>
                </a:solidFill>
                <a:latin typeface="Times New Roman"/>
              </a:rPr>
              <a:t>NB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181_a6ad960ec08c9d2c195f54ff3366e544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7075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428760" y="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Uma vida a dois, cheia de ternura, alcança a felicidade ao se aproximarem de D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  <p:sndAc>
      <p:stSnd>
        <p:snd r:embed="rId2" name="AmazingGrace_Mantovan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275_61ecbdbfb2d5af0d8e0d62f1f4095962"/>
          <p:cNvPicPr/>
          <p:nvPr/>
        </p:nvPicPr>
        <p:blipFill>
          <a:blip r:embed="rId1"/>
          <a:stretch/>
        </p:blipFill>
        <p:spPr>
          <a:xfrm>
            <a:off x="468360" y="19080"/>
            <a:ext cx="820728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spondi,  « Deus, rogo que o Senhor cuide da pessoa que está lendo esta mensagem assim como sua família e seus bons amigos.  Eles merecem-no e eu amo-os muito.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 amor de Deus é como um oceano, você pode ver onde ele começa mas nunca pode ver onde ele term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76_9c804a8c78919f28fc1880db8ac82625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385_da3d22a619a3f316e8423e07a5589098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426_78f4c68bb622617f5ae31bdd49403248"/>
          <p:cNvPicPr/>
          <p:nvPr/>
        </p:nvPicPr>
        <p:blipFill>
          <a:blip r:embed="rId1"/>
          <a:stretch/>
        </p:blipFill>
        <p:spPr>
          <a:xfrm>
            <a:off x="1776240" y="0"/>
            <a:ext cx="5591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432_4c815aaab16cbbd490f4cbdd709c528b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sta mensagem começa a agir agora. Aqueles que tenham dúvidas sobre ela devem saber que as pessoas que a enviaram-me foram motivadas pelo fato do quão rapidamente ocorreu com 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ejamos se é verdad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487_b8a5413da8f4b6631d46eb610b114790"/>
          <p:cNvPicPr/>
          <p:nvPr/>
        </p:nvPicPr>
        <p:blipFill>
          <a:blip r:embed="rId1"/>
          <a:stretch/>
        </p:blipFill>
        <p:spPr>
          <a:xfrm>
            <a:off x="1208160" y="0"/>
            <a:ext cx="6727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543_2396a109c14e96b3e6c77f52b92674ba"/>
          <p:cNvPicPr/>
          <p:nvPr/>
        </p:nvPicPr>
        <p:blipFill>
          <a:blip r:embed="rId1"/>
          <a:stretch/>
        </p:blipFill>
        <p:spPr>
          <a:xfrm>
            <a:off x="250920" y="7920"/>
            <a:ext cx="86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546_ab760a29dc4be7b326e133517c7b3f63"/>
          <p:cNvPicPr/>
          <p:nvPr/>
        </p:nvPicPr>
        <p:blipFill>
          <a:blip r:embed="rId1"/>
          <a:stretch/>
        </p:blipFill>
        <p:spPr>
          <a:xfrm>
            <a:off x="196056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076_28901304650a1252c383191a256566f3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716_e8aee9357128a0a2846e256f26d17d3f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1143000" y="2071800"/>
            <a:ext cx="6500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njos existem, mas às vezes não têm asa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ós os chamamos de « amigos 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751_d88a1076c5da0525b74547dbb7ee162d"/>
          <p:cNvPicPr/>
          <p:nvPr/>
        </p:nvPicPr>
        <p:blipFill>
          <a:blip r:embed="rId1"/>
          <a:stretch/>
        </p:blipFill>
        <p:spPr>
          <a:xfrm>
            <a:off x="900000" y="14400"/>
            <a:ext cx="7344000" cy="682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773_72ffa35095baa68337a1cb195ec3a17e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7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822_0fa775e950d2f0ae7e5a4db492435d5a"/>
          <p:cNvPicPr/>
          <p:nvPr/>
        </p:nvPicPr>
        <p:blipFill>
          <a:blip r:embed="rId1"/>
          <a:stretch/>
        </p:blipFill>
        <p:spPr>
          <a:xfrm>
            <a:off x="1459080" y="0"/>
            <a:ext cx="622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16933"/>
          <p:cNvPicPr/>
          <p:nvPr/>
        </p:nvPicPr>
        <p:blipFill>
          <a:blip r:embed="rId1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1143000" y="1357200"/>
            <a:ext cx="69292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nvie esta mensagem a seus amigos e algo maravilhoso acontecer-lhe-á à noite antes das 23:2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lgo que você sempre quis ouv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friends"/>
          <p:cNvPicPr/>
          <p:nvPr/>
        </p:nvPicPr>
        <p:blipFill>
          <a:blip r:embed="rId1"/>
          <a:stretch/>
        </p:blipFill>
        <p:spPr>
          <a:xfrm>
            <a:off x="1116000" y="34920"/>
            <a:ext cx="6912000" cy="678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lurp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981_51e11fbcc7630be9e4777aa1f276b82f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0jou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810_39123417a7259cde2ecaf5517d0a6c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sto não é uma piada. Alguém irá chamá-lo para dar-lhe as notícias que você está aguardando, ou talvez um anjo vai dar-lhe a resposta à noite em um son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ão quebre esta corr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r favor, envie esta mensagem a pelo menos 7 pessoas e à pessoa que a enviou-l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9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0"/>
          <p:cNvPicPr/>
          <p:nvPr/>
        </p:nvPicPr>
        <p:blipFill>
          <a:blip r:embed="rId1"/>
          <a:stretch/>
        </p:blipFill>
        <p:spPr>
          <a:xfrm>
            <a:off x="0" y="398520"/>
            <a:ext cx="9144000" cy="6060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82_6fba0ef8e9f826cf6d809527f24a5a7b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 rot="16200000">
            <a:off x="-2287080" y="2798280"/>
            <a:ext cx="60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</a:rPr>
              <a:t>S ORRIS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Photographe"/>
          <p:cNvPicPr/>
          <p:nvPr/>
        </p:nvPicPr>
        <p:blipFill>
          <a:blip r:embed="rId1"/>
          <a:stretch/>
        </p:blipFill>
        <p:spPr>
          <a:xfrm>
            <a:off x="0" y="0"/>
            <a:ext cx="9144000" cy="6273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285920" y="63244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agora, uma foto su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128_adbbd9f4181bed7ee2a05bb3ebb70b5e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130_80d6f2381ae2555680bdebc9a547b200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357200" y="1071720"/>
            <a:ext cx="7000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Esta manhã, quando Deus abriu a janela dos céus, ele viu-me e perguntou-me, «  Minha criança, qual é o seu maior desejo para hoje? 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162_dc698fa672b7bcc354ed30b345c1b9b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230_2a4345f379390828b32f241ea26f3fc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254_e8b5f376d2363e9326b01bd5dd1a9ff6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0:21:49Z</dcterms:created>
  <dc:creator>Tardif</dc:creator>
  <dc:description/>
  <dc:language>en-US</dc:language>
  <cp:lastModifiedBy>Roberto</cp:lastModifiedBy>
  <dcterms:modified xsi:type="dcterms:W3CDTF">2009-08-06T15:51:22Z</dcterms:modified>
  <cp:revision>60</cp:revision>
  <dc:subject/>
  <dc:title>Présentation PowerPoint</dc:title>
</cp:coreProperties>
</file>