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A29-FAE6-417A-A43C-F1A40DCB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058-3DA3-416F-95E8-20A53165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969-62C7-48D0-BB8F-A9841199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1C2-BB2B-4B52-A937-18BD7847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8D3-0D6C-4D78-B03B-10C28B26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A76-EDD6-4822-9917-20561DA9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787-3569-48AC-B65C-3E88D44C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AEE-3A11-4C87-835A-C1DD8328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581-98D6-4608-B5D4-B65DD87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3F9-849E-42FB-ABF3-6A9D349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4FF-6FB8-4C59-B65A-C004E39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7B4-F9BE-4059-B5AE-DCCA0142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E04A-5F43-40E3-B3A5-C41DEE167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 Black"/>
              </a:rPr>
              <a:t>A CRIAÇÃO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disse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    "Que cresça a erva, que a erva dê semente, que da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semente cresçam árvores e dêem fruto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Deus criou os sapatos de corrida, e o Homem perdeu aqueles quilos extr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81480" y="990720"/>
            <a:ext cx="3962520" cy="2842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3724200"/>
            <a:ext cx="6012000" cy="313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990720"/>
            <a:ext cx="5334120" cy="304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3975120"/>
            <a:ext cx="39625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14800" y="-360"/>
            <a:ext cx="5029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Satanás criou a televisão a cabo com controle remoto para que o homem não tivesse de se levantar para mudar de canal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o Homem ganhou mais vinte quil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41920" y="2057400"/>
            <a:ext cx="3502080" cy="396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2954160" cy="426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71800" y="4898880"/>
            <a:ext cx="2666880" cy="195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Deus disse: "Estás passando dos limites"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E Satanás criou o ataque cardíaco.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7391520" cy="5943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62520" y="2897280"/>
            <a:ext cx="5181480" cy="396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29000" y="990720"/>
            <a:ext cx="38862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3760" y="-36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criou a intervenção cirúrgica cardíaca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E Satanás criou o sistema de Segurança Social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19720" cy="335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19720" y="3513240"/>
            <a:ext cx="47242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as Deus deu ao homem os convênios... e a aposentadoria para que ele pudesse descansar, dando-lhe nova chance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57640" y="2133720"/>
            <a:ext cx="2576520" cy="3504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715000" y="1219320"/>
            <a:ext cx="3429000" cy="2295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0" y="4505400"/>
            <a:ext cx="3305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 Black"/>
              </a:rPr>
              <a:t>Então Satanás criouJosé Sócrates</a:t>
            </a: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Arial Black"/>
              </a:rPr>
              <a:t> Então Deus desistiu.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76720" y="1844640"/>
            <a:ext cx="26143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Deus povoou a Terra com brócolis, couve-flor, espinafre, milho e vegetais de todas as espécies, para que o Homem e a Mulher pudessem viver longas e saudáveis vidas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6197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E Satanás criou o McDonald's e a promoção de dois Big Macs a cinco reais. </a:t>
            </a:r>
            <a:br>
              <a:rPr sz="2000"/>
            </a:b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E Satanás disse ao Homem: Queres as batatas fritas com que?"</a:t>
            </a:r>
            <a:br>
              <a:rPr sz="2000"/>
            </a:b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 E o homem disse: "Na promoção, com Coca-cola, catchup e mostarda".</a:t>
            </a:r>
            <a:br>
              <a:rPr sz="2000"/>
            </a:br>
            <a:r>
              <a:rPr b="0" lang="pt-BR" sz="2000" spc="-1" strike="noStrike">
                <a:solidFill>
                  <a:srgbClr val="ffff00"/>
                </a:solidFill>
                <a:latin typeface="Arial Black"/>
              </a:rPr>
              <a:t> E o Homem engordou cinco quil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245736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332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criou o iogurte saudável, para que a Mulher pudesse manter a forma esbelta de que o Homem tanto gostava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Satanás criou o chocolate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E a Mulher engordou cinco quil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952720" y="1371600"/>
            <a:ext cx="374796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3257640" cy="291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411960" y="4114800"/>
            <a:ext cx="273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disse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"Experimentem as minhas salada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66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00600" y="358128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3920" y="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Satanás criou os pratos de bacalhau com creme e marisco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a Mulher engordou 10k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3909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029200" y="1828800"/>
            <a:ext cx="3492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E Deus disse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"Enviei-vos bons e saudáveis vegetais e o azeite para que vos possam cozinhar"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3606840"/>
            <a:ext cx="3886200" cy="3251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52680" y="1905120"/>
            <a:ext cx="2621160" cy="358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715000" y="3456000"/>
            <a:ext cx="3429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9520" y="-360"/>
            <a:ext cx="5334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 Satanás inventou a gordura hidrogenada, a galinha frita e o peixe frito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E o Homem ganhou dez quilos e os níveis de colesterol bateram no tet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95680" y="3444840"/>
            <a:ext cx="46483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9:09:00Z</dcterms:created>
  <dc:creator/>
  <dc:description/>
  <dc:language>en-US</dc:language>
  <cp:lastModifiedBy>..</cp:lastModifiedBy>
  <dcterms:modified xsi:type="dcterms:W3CDTF">2008-05-26T18:37:28Z</dcterms:modified>
  <cp:revision>6</cp:revision>
  <dc:subject/>
  <dc:title>A CRIAÇÃO   E Deus disse:      "Que cresça a erva, que a erva dê semente, que da  semente cresçam árvores e dêem frutos".</dc:title>
</cp:coreProperties>
</file>