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B7A0-4896-4B5B-852E-13E8C8ED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1D5-8C08-4E9A-9867-00B45D04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9A6-57C2-4C4F-9F87-FD88F5B2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279-58AB-4A9F-A566-89A4888C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C41E-779F-4F15-B2C7-9F0CF00F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3C7E-05CC-4D0A-8722-9BD71C38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62A-489D-4B16-A375-1395713E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7A9-D7B2-4DE0-9F71-8C098E90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600-CE7B-44FA-8CA6-EC6382D1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294-0610-4F96-8582-9D6628AF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313A-A2FE-49F3-A274-412ACD5A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99AF-31E8-45C8-8B7A-85A68B6F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8FF8-0840-49F0-85A2-3AACA98E7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2880" y="0"/>
            <a:ext cx="4191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Arial Black"/>
              </a:rPr>
              <a:t>A CRIAÇÃO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E Deus disse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   "Que cresça a erva, que a erva dê semente, que da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semente cresçam árvores e dêem frutos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E Deus criou os sapatos de corrida, e o Homem perdeu aqueles quilos extr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181480" y="990720"/>
            <a:ext cx="3962520" cy="2842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132000" y="3724200"/>
            <a:ext cx="6012000" cy="313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0" y="990720"/>
            <a:ext cx="5334120" cy="3047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0" y="3975120"/>
            <a:ext cx="39625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14800" y="-36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E Satanás criou a televisão a cabo com controle remoto para que o homem não tivesse de se levantar para mudar de canal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E o Homem ganhou mais vinte quil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641920" y="2057400"/>
            <a:ext cx="3502080" cy="3962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2590920"/>
            <a:ext cx="2954160" cy="4267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971800" y="4898880"/>
            <a:ext cx="2666880" cy="1959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E Deus disse: "Estás passando dos limites"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 E Satanás criou o ataque cardíaco.</a:t>
            </a:r>
            <a:br>
              <a:rPr sz="36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7391520" cy="5943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962520" y="2897280"/>
            <a:ext cx="5181480" cy="396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429000" y="990720"/>
            <a:ext cx="38862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3760" y="-36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E Deus criou a intervenção cirúrgica cardíaca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E Satanás criou o sistema de Segurança Social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4419720" cy="3505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19720" cy="3355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419720" y="3513240"/>
            <a:ext cx="47242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Mas Deus deu ao homem os convênios... e a aposentadoria para que ele pudesse descansar, dando-lhe nova chance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257640" y="2133720"/>
            <a:ext cx="2576520" cy="3504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715000" y="45720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715000" y="1219320"/>
            <a:ext cx="3429000" cy="2295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0" y="4505400"/>
            <a:ext cx="3305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Arial Black"/>
              </a:rPr>
              <a:t>Então Satanás criouJosé Sócrates</a:t>
            </a:r>
            <a:br>
              <a:rPr sz="3600"/>
            </a:br>
            <a:r>
              <a:rPr b="0" lang="pt-BR" sz="3600" spc="-1" strike="noStrike">
                <a:solidFill>
                  <a:srgbClr val="ffff00"/>
                </a:solidFill>
                <a:latin typeface="Arial Black"/>
              </a:rPr>
              <a:t> Então Deus desistiu...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76720" y="1844640"/>
            <a:ext cx="261432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1811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00"/>
                </a:solidFill>
                <a:latin typeface="Arial Black"/>
              </a:rPr>
              <a:t>Deus povoou a Terra com brócolis, couve-flor, espinafre, milho e vegetais de todas as espécies, para que o Homem e a Mulher pudessem viver longas e saudáveis vidas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761976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 Black"/>
              </a:rPr>
              <a:t>E Satanás criou o McDonald's e a promoção de dois Big Macs a cinco reais. </a:t>
            </a:r>
            <a:br>
              <a:rPr sz="2000"/>
            </a:br>
            <a:r>
              <a:rPr b="0" lang="pt-BR" sz="2000" spc="-1" strike="noStrike">
                <a:solidFill>
                  <a:srgbClr val="ffff00"/>
                </a:solidFill>
                <a:latin typeface="Arial Black"/>
              </a:rPr>
              <a:t>E Satanás disse ao Homem: Queres as batatas fritas com que?"</a:t>
            </a:r>
            <a:br>
              <a:rPr sz="2000"/>
            </a:br>
            <a:r>
              <a:rPr b="0" lang="pt-BR" sz="2000" spc="-1" strike="noStrike">
                <a:solidFill>
                  <a:srgbClr val="ffff00"/>
                </a:solidFill>
                <a:latin typeface="Arial Black"/>
              </a:rPr>
              <a:t> E o homem disse: "Na promoção, com Coca-cola, catchup e mostarda".</a:t>
            </a:r>
            <a:br>
              <a:rPr sz="2000"/>
            </a:br>
            <a:r>
              <a:rPr b="0" lang="pt-BR" sz="2000" spc="-1" strike="noStrike">
                <a:solidFill>
                  <a:srgbClr val="ffff00"/>
                </a:solidFill>
                <a:latin typeface="Arial Black"/>
              </a:rPr>
              <a:t> E o Homem engordou cinco quil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76720" y="2457360"/>
            <a:ext cx="5867280" cy="4400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2438280"/>
            <a:ext cx="3321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76560" y="0"/>
            <a:ext cx="426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E Deus criou o iogurte saudável, para que a Mulher pudesse manter a forma esbelta de que o Homem tanto gostava.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876920" y="320040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E Satanás criou o chocolate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E a Mulher engordou cinco quil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952720" y="1371600"/>
            <a:ext cx="3747960" cy="5486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762120"/>
            <a:ext cx="3257640" cy="2914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411960" y="4114800"/>
            <a:ext cx="2732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E Deus disse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"Experimentem as minhas saladas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664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00600" y="3581280"/>
            <a:ext cx="4343400" cy="3276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31431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23920" y="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E Satanás criou os pratos de bacalhau com creme e marisco.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E a Mulher engordou 10kg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343400" cy="3909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029200" y="1828800"/>
            <a:ext cx="3492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E Deus disse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"Enviei-vos bons e saudáveis vegetais e o azeite para que vos possam cozinhar"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3606840"/>
            <a:ext cx="3886200" cy="3251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352680" y="1905120"/>
            <a:ext cx="2621160" cy="3581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715000" y="3456000"/>
            <a:ext cx="3429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9520" y="-360"/>
            <a:ext cx="5334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E Satanás inventou a gordura hidrogenada, a galinha frita e o peixe frito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 E o Homem ganhou dez quilos e os níveis de colesterol bateram no tet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495680" y="3444840"/>
            <a:ext cx="46483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9:09:00Z</dcterms:created>
  <dc:creator/>
  <dc:description/>
  <dc:language>en-US</dc:language>
  <cp:lastModifiedBy>..</cp:lastModifiedBy>
  <dcterms:modified xsi:type="dcterms:W3CDTF">2008-05-26T18:37:28Z</dcterms:modified>
  <cp:revision>6</cp:revision>
  <dc:subject/>
  <dc:title>A CRIAÇÃO   E Deus disse:      "Que cresça a erva, que a erva dê semente, que da  semente cresçam árvores e dêem frutos".</dc:title>
</cp:coreProperties>
</file>