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Carl%20Orff%20-%20Fortuna%20Imperatrix%20Mundi%20-%20I_%20O%20Fortuna.wav" ContentType="audio/x-wav"/>
  <Override PartName="/ppt/media/image1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C59-9B12-4402-9596-0645D51C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4E0-AEEC-4126-9989-99257272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BD2-4771-452A-90DA-A62E6D6F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D81-4B21-4623-ADA1-EC19DD07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968-5B28-412B-9C75-990B34DB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C08-B81D-4FD4-ABA5-787B11DB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664-B2CC-42DB-A573-BAD83769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048-C971-4820-883C-5FD81BC9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7B2-FE21-41AA-B891-85C3C79D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C27-BEC2-49FF-AC27-5672AF9B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34C-4149-4476-8743-4BBDF95E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3FD-DF7E-4FC2-95A4-F7F00490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95E1-FBE3-4421-BB1C-897447A1D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l%20Orff%20-%20Fortuna%20Imperatrix%20Mundi%20-%20I_%20O%20Fortun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5000"/>
            <a:ext cx="763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VO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E BEST EMAIL                    OF THIS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(votado como o melhor email este a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80000" y="213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tudar te chatei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eles não!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1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tudar chateia-t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9500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48360" y="177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deias verdur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38172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morrem de fo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4911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 carinho dos teus pais cansa-t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6524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não têm nenhu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6308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njoado dos mesmos jogo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524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não tem opçã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6021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guém te deu um Adidas em vez de um Nik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524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s só tem uma marc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8160" y="649116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s só tem uma marc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14920" y="2205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ão estás agradecido                         por uma cama para dormi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gostariam de não acord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hings in your life          that will catch your eye,                             but only a few will catch your heart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xistem muitas coisas na tua vida                                   que irão surpreender os teus olhos,                                  mas poucas coisas irão surpreender o teu coração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19280" y="49417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inda recla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5661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Observa à tua volta e sê agradecido                                                      por tudo o que tens nesta vida passageira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51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ós somos afortunados, nós temos muito mais do que precisamos para ser feliz..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mos tentar não alimentar esse ciclo sem fim de consumismo e imoralidade no qual esta sociedade 'moderna e avançada' esquece, e ignora os outros dois trilhões de irmãos e irmã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4954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587700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are unhappy, look a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é infeliz, olhe para 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4360" y="544500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nvie esta apresentação sem nenhuma obrigação ou expectativa em receber s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ão a mantenha, envie-a e não será em v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58920" y="55897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mos reclamar menos e dar mais!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email                                   needs to circulate forever.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00"/>
                </a:solidFill>
                <a:latin typeface="Arial"/>
              </a:rPr>
              <a:t>este email precisa circular sempre...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113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95008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r salary is low, how about 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o seu salário é baixo, que tal o de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688000" cy="489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87700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don't have many friend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não tem tem muitos amig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6985080" cy="5211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021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you feel like giving up, think of this ma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ando pensar em desistir, pense neste home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127640" cy="482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5805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suffer in life, do you suffer as much as he d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sofre na vida, sofre tanto quanto 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128000" cy="481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58770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complain about your transport system, how about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reclama sobre o seu sistema de transporte, que tal o de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104000" cy="460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587700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r society is unfair to you, how about 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 sua sociedade é injusta consigo, que tal a de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joy the life                                             how it is and as it come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ings are worse for others                and much better for u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3645000"/>
            <a:ext cx="662472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proveite 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como ela é e como ela v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s coisas são piores para os ou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 muito melhores para nó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8:37:28Z</dcterms:created>
  <dc:creator>Utilizador</dc:creator>
  <dc:description/>
  <dc:language>en-US</dc:language>
  <cp:lastModifiedBy>Joao Francisco</cp:lastModifiedBy>
  <dcterms:modified xsi:type="dcterms:W3CDTF">2008-12-22T18:34:36Z</dcterms:modified>
  <cp:revision>3</cp:revision>
  <dc:subject/>
  <dc:title>Diapositivo 1</dc:title>
</cp:coreProperties>
</file>