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Carl%20Orff%20-%20Fortuna%20Imperatrix%20Mundi%20-%20I_%20O%20Fortuna.wav" ContentType="audio/x-wav"/>
  <Override PartName="/ppt/media/image17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BBD8-7F66-469B-A2EC-D87CCD7AF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1882-E842-433F-93BB-3A303635A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29BF-471E-4823-82E1-CE0E22806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03C6-32EA-4E9D-BCF1-8A5EE9DE6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ABF9-C579-47C3-8524-E8A56B27E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D9A9-0B55-429E-8A13-C77E14B3C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D9E2-84F5-4A57-A0CE-E19C1F88E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1877-DAE6-4EDE-BAFC-64DC12EFC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862A-170F-4869-B41F-319912BDD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0475-3C4F-4637-BD62-6E899E31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C198-0D68-420D-B831-CD0A5D8A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E2BE-ABCF-4049-9707-3D236960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B5232-4D71-475E-A4CE-179C8B789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rl%20Orff%20-%20Fortuna%20Imperatrix%20Mundi%20-%20I_%20O%20Fortuna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2205000"/>
            <a:ext cx="763272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VOT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THE BEST EMAIL                    OF THIS YE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(votado como o melhor email este an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580000" y="213372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studar te chateia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61657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eles não!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96000" y="213372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Estudar chateia-te?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950080"/>
            <a:ext cx="280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148360" y="177336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Odeias verdura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6381720"/>
            <a:ext cx="32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Eles morrem de fome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50920" y="649116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 carinho dos teus pais cansa-te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652464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Eles não têm nenhu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24000" y="630864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Enjoado dos mesmos jogos?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03640" y="652464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Eles não tem opção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55640" y="602136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lguém te deu um Adidas em vez de um Nike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88000" y="65246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s só tem uma marca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38160" y="6491160"/>
            <a:ext cx="28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es só tem uma marca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614920" y="2205000"/>
            <a:ext cx="35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ão estás agradecido                         por uma cama para dormir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6491160"/>
            <a:ext cx="39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Eles gostariam de não acorda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re are many things in your life          that will catch your eye,                             but only a few will catch your heart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4005000"/>
            <a:ext cx="8229600" cy="21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Existem muitas coisas na tua vida                                   que irão surpreender os teus olhos,                                  mas poucas coisas irão surpreender o teu coração…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619280" y="494172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Ainda reclama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84360" y="566100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Observa à tua volta e sê agradecido                                                      por tudo o que tens nesta vida passageira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0" y="551664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Nós somos afortunados, nós temos muito mais do que precisamos para ser feliz..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Vamos tentar não alimentar esse ciclo sem fim de consumismo e imoralidade no qual esta sociedade 'moderna e avançada' esquece, e ignora os outros dois trilhões de irmãos e irmã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7704000" cy="49546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26920" y="5877000"/>
            <a:ext cx="749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you think you are unhappy, look at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000" spc="-1" strike="noStrike">
                <a:solidFill>
                  <a:srgbClr val="000000"/>
                </a:solidFill>
                <a:latin typeface="Arial"/>
              </a:rPr>
              <a:t>Se acha que é infeliz, olhe para e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84360" y="5445000"/>
            <a:ext cx="78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Envie esta apresentação sem nenhuma obrigação ou expectativa em receber sor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Não a mantenha, envie-a e não será em vã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258920" y="558972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Vamos reclamar menos e dar mais!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s email                                   needs to circulate forever..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47242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400" spc="-1" strike="noStrike">
                <a:solidFill>
                  <a:srgbClr val="ffff00"/>
                </a:solidFill>
                <a:latin typeface="Arial"/>
              </a:rPr>
              <a:t>este email precisa circular sempre...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0"/>
                            </p:stCondLst>
                            <p:childTnLst>
                              <p:par>
                                <p:cTn id="14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7704000" cy="5113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00000" y="5950080"/>
            <a:ext cx="770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you think your salary is low, how about h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000" spc="-1" strike="noStrike">
                <a:solidFill>
                  <a:srgbClr val="000000"/>
                </a:solidFill>
                <a:latin typeface="Arial"/>
              </a:rPr>
              <a:t>Se acha que o seu salário é baixo, que tal o de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19280" y="765000"/>
            <a:ext cx="5688000" cy="48992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9640" y="5877000"/>
            <a:ext cx="80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you think you don't have many friends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000" spc="-1" strike="noStrike">
                <a:solidFill>
                  <a:srgbClr val="000000"/>
                </a:solidFill>
                <a:latin typeface="Arial"/>
              </a:rPr>
              <a:t>Se acha que não tem tem muitos amigos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42920" y="692280"/>
            <a:ext cx="6985080" cy="5211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95280" y="602136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you feel like giving up, think of this man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Quando pensar em desistir, pense neste homem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71640" y="836640"/>
            <a:ext cx="7127640" cy="4824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9640" y="5805360"/>
            <a:ext cx="79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you think you suffer in life, do you suffer as much as he do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000" spc="-1" strike="noStrike">
                <a:solidFill>
                  <a:srgbClr val="000000"/>
                </a:solidFill>
                <a:latin typeface="Arial"/>
              </a:rPr>
              <a:t>Se acha que sofre na vida, sofre tanto quanto e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0"/>
                            </p:stCondLst>
                            <p:childTnLst>
                              <p:par>
                                <p:cTn id="6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00000" y="836640"/>
            <a:ext cx="7128000" cy="4813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9640" y="5877000"/>
            <a:ext cx="813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you complain about your transport system, how about th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000" spc="-1" strike="noStrike">
                <a:solidFill>
                  <a:srgbClr val="000000"/>
                </a:solidFill>
                <a:latin typeface="Arial"/>
              </a:rPr>
              <a:t>Se reclama sobre o seu sistema de transporte, que tal o del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0"/>
                            </p:stCondLst>
                            <p:childTnLst>
                              <p:par>
                                <p:cTn id="7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68360" y="907920"/>
            <a:ext cx="4104000" cy="4608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84360" y="5877000"/>
            <a:ext cx="80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your society is unfair to you, how about h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000" spc="-1" strike="noStrike">
                <a:solidFill>
                  <a:srgbClr val="000000"/>
                </a:solidFill>
                <a:latin typeface="Arial"/>
              </a:rPr>
              <a:t>Se a sua sociedade é injusta consigo, que tal a de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0"/>
                            </p:stCondLst>
                            <p:childTnLst>
                              <p:par>
                                <p:cTn id="9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joy the life                                             how it is and as it comes.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things are worse for others                and much better for us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00000" y="3645000"/>
            <a:ext cx="6624720" cy="24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0" algn="ct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Aproveite a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 algn="ct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como ela é e como ela v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 algn="ct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 algn="ct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As coisas são piores para os ou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 algn="ct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e muito melhores para nó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0"/>
                            </p:stCondLst>
                            <p:childTnLst>
                              <p:par>
                                <p:cTn id="12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1T18:37:28Z</dcterms:created>
  <dc:creator>Utilizador</dc:creator>
  <dc:description/>
  <dc:language>en-US</dc:language>
  <cp:lastModifiedBy>Joao Francisco</cp:lastModifiedBy>
  <dcterms:modified xsi:type="dcterms:W3CDTF">2008-12-22T18:34:36Z</dcterms:modified>
  <cp:revision>3</cp:revision>
  <dc:subject/>
  <dc:title>Diapositivo 1</dc:title>
</cp:coreProperties>
</file>