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103-5ABE-4540-A3DB-A30D32DE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8A2-08B1-4A4E-A833-C1C43EBA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880-6DCD-4776-85A5-540080CD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BEA-6C91-4A9E-AE05-DDFCBAC4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F68-A5F5-452B-A697-E2773AE6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C21-66DE-4618-8EFA-C421B652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F95-2E3D-45DA-8676-7DC3FF6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CB7-2D3D-4BC2-8681-8E80DDE7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89B-754D-4209-918A-1329E77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22D-6AA8-4E21-8EC0-A0F6E7F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C76-F68D-4F35-A689-A7CA873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09F-1F8C-4B49-8BC1-24076BC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A4A7-8E98-4E7F-956F-A9F50AB393C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Kép 3" descr="ATT00008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ATT000021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ATT0000111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ATT0001112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ép 1" descr="ATT000102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ép 1" descr="ATT000073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ép 1" descr="ATT000054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ATT000095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ATT000046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ATT00003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ATT000128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ATT00006997.jp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16:00Z</dcterms:created>
  <dc:creator>Kovács István</dc:creator>
  <dc:description/>
  <dc:language>en-US</dc:language>
  <cp:lastModifiedBy>Kovács István</cp:lastModifiedBy>
  <dcterms:modified xsi:type="dcterms:W3CDTF">2009-11-06T08:26:10Z</dcterms:modified>
  <cp:revision>1</cp:revision>
  <dc:subject/>
  <dc:title>1. dia</dc:title>
</cp:coreProperties>
</file>