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55A-F3B5-447C-A444-A3BD8AF4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69A-BD14-41B0-AB9F-10257BE3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F5F-9B1F-448F-A23E-C4FC4C8C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F1-A225-47A7-B366-7A0FEBD3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E99-B0A1-4C20-9F64-2A725527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200-11F9-447B-85FD-85E3C2E4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0F3-5F62-4BEA-AB91-A0A5C2F6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C83-4170-4F2F-A2F0-BD1C87A5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F40-036F-45FC-9248-D00A871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F9B-86CA-4368-9E65-939A443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E87-2DAA-445A-B5C6-C908162A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FB5-7DA4-4D09-976A-21E3839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A36-B539-427A-957D-C0E7750C122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Kép 3" descr="ATT00008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ATT000021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ATT0000111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ATT0001112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ép 1" descr="ATT000102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ép 1" descr="ATT000073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ép 1" descr="ATT000054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ATT000095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ATT000046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ATT00003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ATT000128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ATT00006997.jp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16:00Z</dcterms:created>
  <dc:creator>Kovács István</dc:creator>
  <dc:description/>
  <dc:language>en-US</dc:language>
  <cp:lastModifiedBy>Kovács István</cp:lastModifiedBy>
  <dcterms:modified xsi:type="dcterms:W3CDTF">2009-11-06T08:26:10Z</dcterms:modified>
  <cp:revision>1</cp:revision>
  <dc:subject/>
  <dc:title>1. dia</dc:title>
</cp:coreProperties>
</file>