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55E-E5F3-42DA-8410-02626340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7B0-4919-4DCC-8115-AAA5D6F9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E38-A24C-4846-AC2B-CAAF0546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B95-D3D0-4A9E-80D5-0EACB786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7AA-1143-4A39-B659-922E0C89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C39-CAA9-41BC-8099-6E67DCA0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866-7FB6-478C-B423-98881B42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E95-4DE6-4D95-90E4-387FBEFC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E65-538D-458E-A1C4-B121E54C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68A-6C3D-49F0-9FD9-ED9CCBCD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0C6-7B03-43C5-811A-FF272331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26B-00CD-40D2-8DC2-4C0D26F6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633E-B35F-4032-9E43-E31F4D3A7134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מסע אופניים לארץ הקוקולנד</a:t>
            </a:r>
            <a:br>
              <a:rPr sz="4400"/>
            </a:b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נמיביה</a:t>
            </a:r>
            <a:br>
              <a:rPr sz="4400"/>
            </a:b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B110-B747-46CC-B3FD-8913791A21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228600" y="22860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סלעי קוורץ לאורך הדר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E38-3F95-4AD3-B154-57A6416722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וולוצ'יה הצמח הנמיבי החי מאות שנ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FD3-0D98-43AE-977C-EEED7B51DA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62720" y="53341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רא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BAD-B063-4B85-8999-DDCDF2B6F7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24280" y="55627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תיקון תק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4DE-5704-4216-A2D4-E3192EE871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B3C-2839-42C4-9BAB-8F0FE48AB7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D27-5CE4-42E2-9551-D39C84531D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22860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הרכב הכחול הרגיז את הפי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46F-0B9B-4FC2-9C4F-CB869FEB46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22860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לביאה אחת מחמש שהעדיפו להתרח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126-FE90-4AA8-B7C0-422F613630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14800" y="22860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כקילומטר אחרי הלביאות פרקנו אופניים והתחלנו לרכו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B62-5DF6-4B4A-A3D7-989BEE5AA6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D23-2D30-4934-BD15-476824FB6A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920" y="518148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סביבנו עדרי צבאים, ראמים וזברו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329C-05D7-47F0-AA94-086D718D2F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E6F-58B2-4D83-A6DA-BC11020FE7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7E2-6F16-4D06-A1EE-4E1B84DA84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392-CEAA-49F2-AD1D-35A5606F94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57800" y="3049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עקבת  ארי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CA0-9B0C-40D2-9B58-D1AE409CA5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878-65B3-4161-B6AC-5CB44A81B6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0FEB-65DB-48D5-A056-F9C0344ADAD7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30481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867280" y="380880"/>
            <a:ext cx="3048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</a:rPr>
              <a:t>בבונים נמלטים לה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24280" y="30492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שיכור בפורו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490-E853-4F02-BA40-1454622F9E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513160"/>
            <a:ext cx="5791320" cy="4344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30492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בת שבט ההרר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EC1-F208-4257-9EE7-DF347318AA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19920" y="380880"/>
            <a:ext cx="28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שבט ההימב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5F8-87F5-489A-B0DC-F47A747F3B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2F84-C999-48E3-8EB0-D47B0CFAB38C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7621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דיונה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-53352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457200"/>
            <a:ext cx="3124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</a:rPr>
              <a:t>פטנט למניעת כינ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D31-EDA6-4B40-8984-D2C7F18ED3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93B-FA28-411F-8B78-03168C057E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E2B-3BCF-411E-B719-A139DA6BEF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-685800" y="15228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בית ההימב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D50-1F17-4B78-A538-B746A37D8B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236-2D8A-4553-95A7-5950160FCF0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A1E-A093-40D7-A967-2E397AA4EA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F37-7293-408C-8305-68A957909EA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045-6E0F-437E-B510-178D895F16C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343400" y="22860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הררו והימבה יחדי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B2E-6C2B-46F8-8B33-7803F758B2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32576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800" y="9144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מחצבת שי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32B-DB3A-41CB-A6BF-C0E115F570A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2286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עול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FE7-7CCB-4497-A97B-BEC6863850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4F2-7CDF-4379-A310-CB0002E207A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AC6-EB1E-45F1-A10E-5253691DB5F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01960" y="0"/>
            <a:ext cx="5138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682-F365-4C84-9418-683F9CBFA0A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B72-A8DE-433D-9D8C-6F0D2AA450F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1CD-23D1-4FFF-AF33-49EBBD3B23B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228600"/>
            <a:ext cx="46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נהר ה- </a:t>
            </a: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KUNE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F7D-D738-4DD4-A744-2B48B6D3FBB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" y="548640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תנין בצד אנגולה של הנה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A2C-03BC-4AFF-805B-5BD916CF9C4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629400" y="4570560"/>
            <a:ext cx="2514600" cy="228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VAN ZYL´S PA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847-E26F-451A-97F6-C505017B31E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010280" y="5105520"/>
            <a:ext cx="1905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בובת הימב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128-F76F-462D-9A43-153DF2C678E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5F2-5D21-4BF1-B6C0-F1BCA10D08D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3AB-62C3-4EC2-9016-704EA1001F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FCE9-8E66-439C-8558-030A1BBDD5D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943600" y="541008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עץ באובב היקף גזע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 מטר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D5B-FF69-4EAB-B57F-8C80BA01DE0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6AC-EDBB-4B39-9B51-965A0A7B97E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410080" y="30492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תל תרמיט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A86-98D1-4AE5-9F00-F4DC740126C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14600" y="56386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לטאת כוח חצתה את הכבי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835-05B6-4F6B-8EEF-D6A345FB270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572000" y="152280"/>
            <a:ext cx="4191120" cy="2104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Times New Roman"/>
              </a:rPr>
              <a:t>פארק אטוש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81B-B551-45FB-915E-99317145C16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68596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076-60B6-4617-AB08-F94003C19DF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A32-5AE8-4E18-A612-B488928D1BD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268596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25B-D148-4801-9D23-552B9A89932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15000" y="2895480"/>
            <a:ext cx="342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Kori Bustard</a:t>
            </a: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העוף הכבד בעולם שמסוגל לעו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D89-D0BA-4D8D-B1D6-66D95B2463C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4B2-099C-4A13-B379-C45F7991D9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EA3-424D-4999-9FF0-C9CEFC53F6A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019920" y="556272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תן שחור ג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706-D197-42D2-A33C-F4E66E60317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B2F-92DC-4AED-AB07-CFE781AB4F3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48520" y="3049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גנ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43C-FB96-4F8D-929F-EF272A43BB9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BD5-8AA3-4F8D-B664-F48DCE9641F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791320" y="58672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ראמ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FFF-8208-49E8-A7D3-6D85999B47E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b3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3257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106668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סנאי חולו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AC5-25D5-4DAC-AF9C-BC4AB24D35D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62720" y="3049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ויורד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901-72F9-4259-86F1-F86AEBD08B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228600"/>
            <a:ext cx="3657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מפעל מלח לחוף האוקיינוס האטלנט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FC5-3B7D-4FA5-9664-5BA83C3A9C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15228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חוף כלבי ה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510-0A01-4E54-9720-C2007007C6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8:31:48Z</dcterms:created>
  <dc:creator>one</dc:creator>
  <dc:description/>
  <dc:language>en-US</dc:language>
  <cp:lastModifiedBy>ephraim</cp:lastModifiedBy>
  <dcterms:modified xsi:type="dcterms:W3CDTF">2008-10-14T18:23:43Z</dcterms:modified>
  <cp:revision>12</cp:revision>
  <dc:subject/>
  <dc:title>מסע אופניים לארץ הקוקולנד נמיביה 2008</dc:title>
</cp:coreProperties>
</file>