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FB8D-05A8-44FC-8D71-5165ED47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CB9-BC76-493C-9327-B90FD781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B5D-2D8C-4907-B38D-1DE68F61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C26-C529-4477-8A8C-E50EDF56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65D-7732-455E-8D71-75EAD70D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9F1-61A2-42A3-BB97-883848D6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705-00FB-483F-A4B6-D30E1826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64E6-7567-4585-9CFF-3D91DC3D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5D1-2046-4342-8FEB-FAF4344C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296-AB0C-45FE-B1C4-DD2B6515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EF6-DC3A-4CA4-AE58-0CAED5CD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634-6575-43D4-B514-170130E4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04D4-8FD8-472E-B4D1-37B634C5508A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מסע אופניים לארץ הקוקולנד</a:t>
            </a:r>
            <a:br>
              <a:rPr sz="4400"/>
            </a:b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נמיביה</a:t>
            </a:r>
            <a:br>
              <a:rPr sz="4400"/>
            </a:br>
            <a:r>
              <a:rPr b="1" lang="he-IL" sz="44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34E-CCE9-444F-99AE-3A3E20C347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228600" y="22860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סלעי קוורץ לאורך הדר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1F7-5356-42BF-9EC2-985DEB0CBA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1448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וולוצ'יה הצמח הנמיבי החי מאות שנ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4F81-4E82-4376-9787-C1CF903970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562720" y="53341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רא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F269-115E-4BDD-921A-B7AA707840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24280" y="55627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תיקון תק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8B1-0964-4A37-A03E-461E80D5F4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EF7-8268-4385-9130-09D790A72C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340-0A7F-4217-8FD7-B2ED8DB4A1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22860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הרכב הכחול הרגיז את הפי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C75-1440-4C7F-AE3A-4B1A53733A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22860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לביאה אחת מחמש שהעדיפו להתרח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974-050F-40B7-BA01-9F55BE232F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14800" y="22860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כקילומטר אחרי הלביאות פרקנו אופניים והתחלנו לרכו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0AD-57CD-4734-ADA4-3F5ED38F15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EA2-6860-41AD-B747-06755B89ED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4920" y="518148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סביבנו עדרי צבאים, ראמים וזברו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24C-F628-4397-A58F-718C831929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FF9-C0B6-4D8D-8F91-A307F62881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4F0-8E96-41BE-B78E-3DB8C2F6AC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52D-4A53-4050-A2C1-BDD9DA4722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57800" y="3049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עקבת  ארי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D84-1455-4B3E-A76D-C4E7F65288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EF4-9ABA-4024-AC22-8CCFCF8462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A64F-D3E0-47A1-817E-9B6C539EC3F6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30481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867280" y="380880"/>
            <a:ext cx="3048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</a:rPr>
              <a:t>בבונים נמלטים לה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24280" y="30492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שיכור בפורו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0A0-CD58-4CFC-B1F1-8C925CC51D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513160"/>
            <a:ext cx="5791320" cy="4344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30492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בת שבט ההרר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D6C1-72BA-49FA-80B6-13F0705DF3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19920" y="380880"/>
            <a:ext cx="281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שבט ההימב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513-BB6B-41D1-860C-A4C858FDBA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E579-B2EA-4868-A04A-2C239375377D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285768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7621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דיונה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76920" y="-53352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457200"/>
            <a:ext cx="3124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</a:rPr>
              <a:t>פטנט למניעת כינ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323-434D-4414-A2CD-5DF20E768A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F25-18E7-4C3C-8C71-FAECFDEB8F4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47E-D07A-49CE-9179-8FFAEA002E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-685800" y="15228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בית ההימב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9C4-CF71-44C4-9379-6CC7372945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0B0-EC61-4A63-ACAF-35799407BC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A71-CE1E-43B0-86AF-BACB5737E9C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243-5F8B-48AF-A15A-A89FB0311D4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428-BE61-4147-AFF7-47C6C2A8CD2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343400" y="22860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הררו והימבה יחדי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FA3-4EBE-4ABC-8438-E01C42CCC50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325764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800" y="91440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מחצבת שי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042-E33A-41F4-9DE3-FE54D21A6E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2286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עול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994-E7CC-4107-9F29-F99A8418F8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D23-5D7F-4EEF-87CA-5259A8D85CE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DA73-D62F-4E1F-A069-950387C01E2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01960" y="0"/>
            <a:ext cx="5138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17C-C98A-4514-B8B1-05E93A4F2AF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18E-85AA-48F0-93DE-E74359CDF83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4F69-C42F-4528-9736-5EDC4BCDF1C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" y="228600"/>
            <a:ext cx="464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נהר ה- </a:t>
            </a: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KUNE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77A-09FA-4E9D-9878-C65499A9930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8600" y="548640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תנין בצד אנגולה של הנה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AEF-C57B-4B4F-8674-8830A3B1842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629400" y="4570560"/>
            <a:ext cx="2514600" cy="228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VAN ZYL´S PA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04F-69FD-4873-9B6E-FE2B9362BD2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010280" y="5105520"/>
            <a:ext cx="1905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בובת הימב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658-BDB4-4F0C-9140-1D60BE1D174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4ED-CC40-4776-8539-2DD7BEFBD0B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260-84AD-4E66-88A8-AF02926A09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728-C2AB-4428-83A4-57577F4A80D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943600" y="541008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</a:rPr>
              <a:t>עץ באובב היקף גזע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</a:rPr>
              <a:t> מטר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82C-6874-462D-8502-3136E288526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285768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FD6-E349-4FD0-92E4-06A4F625D6E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410080" y="30492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תל תרמיט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B662-D8EE-4A1F-B568-9F9F23C4697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14600" y="56386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לטאת כוח חצתה את הכבי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82C-3BD6-43A1-8C1C-DF81309BF5C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572000" y="152280"/>
            <a:ext cx="4191120" cy="2104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Times New Roman"/>
              </a:rPr>
              <a:t>פארק אטוש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1FA-57B7-4D5A-AF8C-59395E1B0AB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68596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520-9EC2-4DB8-B322-22A27599F3C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026-6C10-444F-A5E3-FE016E1A6D1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268596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1BE-A227-46AA-97C9-6B032C6C248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715000" y="2895480"/>
            <a:ext cx="342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Kori Bustard</a:t>
            </a:r>
            <a:r>
              <a:rPr b="1" lang="he-IL" sz="4800" spc="-1" strike="noStrike">
                <a:solidFill>
                  <a:srgbClr val="000000"/>
                </a:solidFill>
                <a:latin typeface="Times New Roman"/>
              </a:rPr>
              <a:t>העוף הכבד בעולם שמסוגל לעו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8F7-EACB-4D69-B5CB-B3D08037E84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176F-2665-4D58-A03F-4BD2F8C9FB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CEE-41D2-4396-9501-792240BD371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019920" y="5562720"/>
            <a:ext cx="28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תן שחור ג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8F9-CA29-4BE7-9A03-858699B5CE7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7A4C-8890-4519-B437-C2DE6245368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248520" y="3049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גנ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746-3AD0-4C2F-A9C9-CE1BB6F089E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B5A-5041-4D2D-A5D2-41C326EEAD2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791320" y="58672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ראמ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F61-4DC6-4914-9BF4-2DE695E1C51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b3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32576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106668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סנאי חולו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494-0FBF-42B6-A46C-701D948E0F2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62720" y="3049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ויורד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5F0-ABAC-4697-B7E6-8BC32C775A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228600"/>
            <a:ext cx="3657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מפעל מלח לחוף האוקיינוס האטלנט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5B8-AFF7-4300-BAE7-3CA756FFDD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15228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Times New Roman"/>
              </a:rPr>
              <a:t>חוף כלבי הי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307-E181-42D8-98D2-F61F0BB3BE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8:31:48Z</dcterms:created>
  <dc:creator>one</dc:creator>
  <dc:description/>
  <dc:language>en-US</dc:language>
  <cp:lastModifiedBy>ephraim</cp:lastModifiedBy>
  <dcterms:modified xsi:type="dcterms:W3CDTF">2008-10-14T18:23:43Z</dcterms:modified>
  <cp:revision>12</cp:revision>
  <dc:subject/>
  <dc:title>מסע אופניים לארץ הקוקולנד נמיביה 2008</dc:title>
</cp:coreProperties>
</file>