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C24-3D20-491E-83E4-4C971921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08F-B9B5-4850-A7C4-689D87D5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F88-0A25-489B-AE51-A9FCF4AF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5D6-F7DF-4378-9510-8D443C5D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C67-1EF7-4F2A-9926-D4EE7213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C21-4136-4352-8001-1C7D6AEE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216-85C5-482D-A3EA-275E6C95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01B-8311-48A6-BFC3-6E12361D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596-DF1E-480B-B5AC-7D40982E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312-88F2-4F77-957C-9F3A2F4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F0F-C112-4DFC-9AE7-73277EA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D6A-0FF3-4EBE-8B84-6511B09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4040-4558-4244-8F32-A0ED11DA8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3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9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8.jpe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4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9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4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6400800"/>
            <a:chOff x="228600" y="228600"/>
            <a:chExt cx="8686800" cy="64008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434340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029200" y="1371600"/>
              <a:ext cx="342900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410080" y="1752480"/>
              <a:ext cx="2664000" cy="33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72000" y="586728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368b6"/>
                  </a:solidFill>
                  <a:latin typeface="Jokerman LET"/>
                </a:rPr>
                <a:t>Mariscos &amp; Cª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" y="30492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lgumas indicações sobre mar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990720"/>
              <a:ext cx="4038840" cy="51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Mexilhão, só o coma de Setembro a Dezembr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Marisco, só em mês com “r”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Para cozer a  lagosta , o lagostim , o camarão ou o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 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percebe , mergulhe-os em água a ferver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O caranguejo , a santola devem ser mergulhados e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  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água fria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368b6"/>
                  </a:solidFill>
                  <a:latin typeface="Jokerman LET"/>
                </a:rPr>
                <a:t>Tempo de cozedura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gosta e lagostim: 15 a 17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ranguejo, santola e burro: 20 a 27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marão e percebe: 5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0368b6"/>
                  </a:solidFill>
                  <a:latin typeface="Verdana"/>
                </a:rPr>
                <a:t>Nota: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O tempo depende da corpulência do marisco  e só começa a contar-se quando a água entrar em  ebulição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368b6"/>
                  </a:solidFill>
                  <a:latin typeface="Jokerman LET"/>
                </a:rPr>
                <a:t>Quantidade de sal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pas , búzios e mexilhões: cozem-se sem 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gosta: 20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marão ou percebe: 18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ranguejo ou santola: 20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81800" y="228600"/>
            <a:ext cx="8780760" cy="6474600"/>
            <a:chOff x="181800" y="228600"/>
            <a:chExt cx="8780760" cy="64746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860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Cataplana de amêijo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1219320"/>
              <a:ext cx="3048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00 g miolo de camarão; 1 cebola; 6 dente(s) de alho; 2 tomate(s); 300 g cogumelos laminados: 1 dl vinho branco; 1 dl caldo de cubo de peixe; 2 c. sopa farinha; azeite q.b.; salsa picada q.b.; puré de bata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486400" y="21607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loura-se a cebola e o alho picados no azei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Adiciona-se o tomate pelado, os cogumelos fatiados e o camar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a-se com o vinho e o caldo de peixe e polvilha-se com a farinha. Deixa-se cozinhar mexendo frequente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Depois, divide-se por frigideiras individuais em pirex, à volta dispõe-se puré de batata utilizando um saco de pasteleir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Vai ao forno bem quente por 10 minutos. Serve-se polvilhado com salsa pi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19320" y="4572000"/>
              <a:ext cx="3124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4 ostras (já abertas); 50 g manteiga; 150 g espinafres cozidos e picados; 1 c. sopa cebola picada; 1 c. sopa salsa picada; sal c. chá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pitada pimenta-de-caiena; 30 g pão ralado; 2 fatias bacon cortado em cubos; queijo parmesão ralado ; 1 folha de louro; 3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6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Ostras no for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Camarão gratin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193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, 1 cebola; 100 g presunto; 100 g chouriço; 1 c. sopa farinha de trigo; 1 dl vinho branco; 50 g banha; 1 c. sopa pimentão do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malagueta; sal q.b.; pimenta branc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219320" y="2209680"/>
              <a:ext cx="32004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rreta a manteiga na cataplana e refogue a cebola picada com um pouco de malague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o sal, pimenta, farinha e o pimentão e misture muito bem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ue com o vinho e adicione o presunto e o chouriço picados aos bocadinh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Finalmente junte as amêijoas e com a cataplana fechada deixe cozinhar durante 15 a 20 minutos. Sirva ainda quente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62720" y="4556160"/>
              <a:ext cx="327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peitos de peru; natas azedas; 1 pimento verde cortado em quadradinhos; 1 pimento vermelho cortado em quadradinhos; 200 g camarão descas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410080" y="5529240"/>
              <a:ext cx="335304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car o peru, os pimentos e os camarões num prato não muito fundo. Regar com a marinada de nata azeda e deixar em repouso durante uma ho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nfiar no espeto alternadamente o peru, os pimentos e os camarões, pincelar com a marinada e grelhar em fogo moderado, virando e untando de vez em quando com a marin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rvir com arroz e salada de alface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1H2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0" y="3657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Espetada de peru e camar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19320" y="5635800"/>
              <a:ext cx="3200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é-aqueça o forno a 220ºc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m lume médio, salteie com margarina os espinafres, a cebola, a salsa, o louro, sal e pimenta. Junte pão ralado e retire do lum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loque as ostras num tabuleiro. Cubra-as com o preparado de espinafres. Polvilhe com bacon e queij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Leve ao forno durante cerca de 10 minutos, até fritar o bacon. Antes de servir, decore com gomos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385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68580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5223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81800" y="228600"/>
            <a:ext cx="8780040" cy="6409800"/>
            <a:chOff x="181800" y="228600"/>
            <a:chExt cx="8780040" cy="64098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Tortilha de Gamb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200 g presunto; 200 g farinha de milho; 1 chouriço de carne; 1 dl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486400" y="1981080"/>
              <a:ext cx="32004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Colocam-se as amêijoas de molho em água e sal ou águas salgadas a fim de lhes retirar todas as areias que ainda possam t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Entretanto, corta-se o chouriço em rodelas e o presunto em tiras finas, e frita-se tudo numa frigideir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Retiram-se as amêijoas da água e levam-se ao lume a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Retiram-se do lume e escorre-se a água da cozedura, passando-a por um passado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Retira-se o miolo das amêijoas e coloca-se num tach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Junta-se a água da cozedura, adiciona-se o vinho e leva-se tudo ao lume a ferver um pouc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Retira-se do lume e junta-se a farinha em forma de chuva, mexendo sempr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7. Leva-se novamente ao lume para acabar de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8. Juntam-se as carnes e serve-se bem quent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457200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olvo; 2 cebolas;1 ramo salsa; 2 ovos cozidos; 4 c. sopa azeite; 1 c. sopa vinagre; 4 tomates; 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lada de Pol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Xar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9320" y="1219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ovos; 16 azeitonas recheadas com pi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preta moída q.b.; 120 g gambas cozidas e descascadas; 3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s azeitonas em rodel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Bata os ovos com sal, pimenta, pimentão e noz-mos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Misture as azeitonas cortadas e as gambas escorridas com os ov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queça o azeite numa frigideira adequada para o efeito. Deite os ovos batidos e deixe-os cozer em lume brando. Logo que a tortilha estiver cozida de um lado, vire-a com a ajuda de uma espátula. Deixe cozer durante cerca de 2 minutos do outro l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 tortilha acompanhada de uma boa salada e de pão. Ou então, deixe arrefecer e sirva como aperitiv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86400" y="457200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2 gambas; 200 g manteiga; 3 dentes alho esmagado; 3 malaguetas; 1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410080" y="541008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s gambas ao meio no sentido do comprimento, sem separar a cauda e a cabeç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Tempere com sal e pimenta e aloure-as em 150 g de manteiga, juntamente com os dentes de alho esmagados e as malague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s gambas estiverem bem louras, retire do lume e regue-as com o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tretanto, coza o arroz em abudante água com sal. Depois de cozido, escorra-o e junte-lhe a manteiga resta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s gambas com o arroz e o mol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pic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9320" y="53341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epare e lave o polvo e introduza-o na panela de pressão com 1 copo de água e 1 cebola sem ser descascad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 panela a lume forte e quando levantar pressão, reduza o lume para o mínimo. Deixe cozer 20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 pressão tiver evaporado, escorra o polvo e corte-o em bocadinhos. Coloque-o na salad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ique 1 cebola e 1 ramo de salsa e junte ao polvo. Regue a salada com o azeite e vinagre. Tempere com sal e pimenta e acompanhe com ovo cozido e tomate cortado em bo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3784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181080" y="228600"/>
            <a:ext cx="8780400" cy="6409800"/>
            <a:chOff x="181080" y="228600"/>
            <a:chExt cx="8780400" cy="640980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00200" y="990720"/>
              <a:ext cx="2895480" cy="55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VIEI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de vieira contém 13.3 g de proteínas, 0.9 g de gordura, 0.7 g de hidratos de carbono e 64 Kcal. São ricas em vitaminas B12, niacina, selénio, potássio e zin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LAVAG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de lavagante contém 22.6 g de proteínas, 0.8 g de gordura, 0.5 g de hidratos de carbono e 99 Kcal. É rico em sais minerais, nomeadamente fósforo e cálcio e vitaminas do grupo B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SAPATEIRA E  SANTOL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ntém aproximadamente 16 g de proteínas, 1 g de gordura, 0.9 g de hidratos de carbono e 77 Kcal. São uma boa fonte de minerais como o potássio, magnésio e zinco, vitaminas B6, ácido pantogénico e riboflavin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CAMARÃO, GAMBA E LAGOST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zida deste crustáceos contém cerca de 20 g de proteínas, 1 g de gordura e 0.3 g de hidratos de carbono. O seu valor calórico varia entre as 89 e 95 Kcal. Todos eles fornecem quantidades razoáveis de sais minerais, vitamina B12 e niacin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LAGOS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lagosta cozida contém cerca de 20.6 g de proteínas, 0.8 g de gordura, 0.2 g de hidratos de carbono e 90 Kcal. Fornece também alguns minerais como fósforo, ferro e cálcio e vitaminas B1, B2 e P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5029200" y="9907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5029200" y="205740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5029200" y="31240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533520" y="9907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533520" y="2057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533520" y="3200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533520" y="4343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533520" y="55627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28600" y="304920"/>
              <a:ext cx="86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Jokerman LET"/>
                </a:rPr>
                <a:t>VALOR NUTRI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374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920" y="990720"/>
              <a:ext cx="2895480" cy="44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OSTRA</a:t>
              </a:r>
              <a:r>
                <a:rPr b="1" lang="pt-PT" sz="900" spc="-1" strike="noStrike">
                  <a:solidFill>
                    <a:srgbClr val="fcab03"/>
                  </a:solidFill>
                  <a:latin typeface="Gill San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ntém 8.6 g de proteínas, 1.7 g de gordura, 3.9 g de hidratos de carbono e 65 Kcal. Constitui uma excelente fonte de vitamina B12, vitamina E e niacina. Fornece sais minerais, entre os quais zinco, cobre, ferro, potássio, selénio e io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MEXILH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contém 12 g de proteínas, 1.5 g de gordura, 2 g de hidratos de carbono e 70 Kcal. Fornece vitamina B12, vitamina E, riboflavina e ácido fólico. Ricos em ferro, iodo e selén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AMÊIJO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contém 13.2 g de proteínas, 1.3 g de gordura, 1.6 g de hidratos de carbono e 71 Kcal. Por serem ricas em colesterol, convém consumí-las com moderação, no caso de ser propenso para níveis altos desta gordu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BÚZI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búzios frescos contém cerca de 20.8 g de proteínas, 1.4 g de gordura, 2.5 g de hidratos de carbono e 206 Kcal. São também muito ricos em fósforo, cálcio, ferro e cobre, fornecendo ainda vitaminas B1, B2 e P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10"/>
            <a:stretch/>
          </p:blipFill>
          <p:spPr>
            <a:xfrm>
              <a:off x="5029200" y="4343400"/>
              <a:ext cx="787320" cy="838080"/>
            </a:xfrm>
            <a:prstGeom prst="rect">
              <a:avLst/>
            </a:prstGeom>
            <a:ln w="9360">
              <a:solidFill>
                <a:srgbClr val="bd7648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16720" y="228600"/>
            <a:ext cx="8709120" cy="6409800"/>
            <a:chOff x="216720" y="228600"/>
            <a:chExt cx="8709120" cy="6409800"/>
          </a:xfrm>
        </p:grpSpPr>
        <p:sp>
          <p:nvSpPr>
            <p:cNvPr id="52" name=""/>
            <p:cNvSpPr/>
            <p:nvPr/>
          </p:nvSpPr>
          <p:spPr>
            <a:xfrm>
              <a:off x="5105520" y="541008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99"/>
                  </a:solidFill>
                  <a:latin typeface="Jokerman LET"/>
                </a:rPr>
                <a:t>Mariscos &amp; Cª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Marisco &amp; Cª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1050840"/>
              <a:ext cx="2514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A palavra marisco engloba dois grupos distintos de animais marinhos comestíveis: os moluscos e os crustáceos. Os primeiros seres de corpo mole, protegidos por uma concha, com uma ou duas valvas, denominados por univalves ou bivalves, respectivamente. Os crustáceos incluem todos aqueles cujo corpo é coberto por uma carapaça, que renovam várias vezes ao longo das suas vida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80880" y="1066680"/>
              <a:ext cx="14320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2895480"/>
              <a:ext cx="381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Com um elevado teor de proteínas, vitaminas e sais minerais e com poucas calorias, os mariscos são autênticos concentrados de nutrientes, sendo por isso um alimento excelente, para além de muito apreciado. O maior inconveniente dos mariscos é a probabilidade de desencadearem reacções alérgicas em pessoas propensas para tal e o perigo de intoxicações alimentares, quando estes não são frescos. Daí a necessidade de certificar-se sempre da sua frescura antes de consumi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520" y="4267080"/>
              <a:ext cx="281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Antes de cozinhar os bivalves, lave-os muito bem e deixe-os de molho em água com sal durante 2 horas, para que soltem toda a areia e outras impurezas. Pode também juntar farinha à água, em vez de utilizar sal. Depois, lave-os novamente antes de os levar ao lum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57200" y="4267080"/>
              <a:ext cx="11206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57200" y="54100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Durante a cozedura, todos os bivalves devem abrir as suas conchas. Se isso não acontecer e estas permanecerem fechadas, não os coma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Nunca coma moluscos crus, caso contrário corre o risco de se expor a contaminações de germes que apenas são destruídos após uma cozedura de, pelo menos, seis minuto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67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7348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200 g presunto; 200 g farinha de milho; 1 chouriço de carne; 1 dl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1981080"/>
              <a:ext cx="32004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Colocam-se as amêijoas de molho em água e sal ou águas salgadas a fim de lhes retirar todas as areias que ainda possam t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Entretanto, corta-se o chouriço em rodelas e o presunto em tiras finas, e frita-se tudo numa frigideir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Retiram-se as amêijoas da água e levam-se ao lume a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Retiram-se do lume e escorre-se a água da cozedura, passando-a por um passado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Retira-se o miolo das amêijoas e coloca-se num tach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Junta-se a água da cozedura, adiciona-se o vinho e leva-se tudo ao lume a ferver um pouc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Retira-se do lume e junta-se a farinha em forma de chuva, mexendo sempr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7. Leva-se novamente ao lume para acabar de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8. Juntam-se as carnes e serve-se bem quent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Jokerman LET"/>
                </a:rPr>
                <a:t>Xar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486400" y="457200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2 gambas; 200 g manteiga; 3 dentes alho esmagado; 3 malaguetas; 1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6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7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410080" y="541008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s gambas ao meio no sentido do comprimento, sem separar a cauda e a cabeç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Tempere com sal e pimenta e aloure-as em 150 g de manteiga, juntamente com os dentes de alho esmagados e as malague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s gambas estiverem bem louras, retire do lume e regue-as com o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tretanto, coza o arroz em abundante água com sal. Depois de cozido, escorra-o e junte-lhe a manteiga resta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s gambas com o arroz e o mol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pic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7320" y="639288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81080" y="228600"/>
            <a:ext cx="8744400" cy="6409800"/>
            <a:chOff x="181080" y="228600"/>
            <a:chExt cx="8744400" cy="64098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28600" y="3314880"/>
              <a:ext cx="8686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reme de Maris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62720" y="1219320"/>
              <a:ext cx="25905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50 g farinha torrada; santolas q.b.; gambas q.b.; pão torrado ; 2 Lt água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cebolas; 1 c. sopa polpa de; tomate; alho-francês q.b.; cenouras ; sal q.b; piripiri em pó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562720" y="22096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Refogue a cebola, alho francês e cenou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 água e o tomate. Tempere com sal  e picante q.b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Ligue com a farinha torrada, junte a carne passada da santol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e algumas gamb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No fim obtém-se um creme meio espess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Sirva com cubos de pão fri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62720" y="4648320"/>
              <a:ext cx="25905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amar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ogumelos lamin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dl natas; 2 c. sopa ketchup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7242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562720" y="56386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Numa frigideira, coloque os camarões descascados e os   cogumelos a fritarem com um pouco de margarin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s natas e o ketchup. Continua em lume brando até engrossar um pouc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 necessário pode-se retocar a quantidade de ketchup. Tempere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3581280"/>
              <a:ext cx="86868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Delícia de camar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731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4572000" y="228600"/>
              <a:ext cx="4017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4572000" y="3581280"/>
              <a:ext cx="4287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Tortilha de Gamb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0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57200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olvo; 2 cebolas;1 ramo salsa; 2 ovos cozidos; 4 c. sopa azeite; 1 c. sopa vinagre; 4 tomates; 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1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2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lada de Pol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1219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ovos; 16 azeitonas recheadas com pi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preta moída q.b.; 120 g gambas cozidas e descascadas; 3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s azeitonas em rodel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Bata os ovos com sal, pimenta, pimentão e noz-mos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Misture as azeitonas cortadas e as gambas escorridas com os ov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queça o azeite numa frigideira adequada para o efeito. Deite os ovos batidos e deixe-os cozer em lume brando. Logo que a tortilha estiver cozida de um lado, vire-a com a ajuda de uma espátula. Deixe cozer durante cerca de 2 minutos do outro l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 tortilha acompanhada de uma boa salada e de pão. Ou então, deixe arrefecer e sirva como aperitiv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53341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epare e lave o polvo e introduza-o na panela de pressão com 1 copo de água e 1 cebola sem ser descascad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 panela a lume forte e quando levantar pressão, reduza o lume para o mínimo. Deixe cozer 20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 pressão tiver evaporado, escorra o polvo e corte-o em bocadinhos. Coloque-o na salad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ique 1 cebola e 1 ramo de salsa e junte ao polvo. Regue a salada com o azeite e vinagre. Tempere com sal e pimenta e acompanhe com ovo cozido e tomate cortado em bo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228600" y="35812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17440" y="228600"/>
            <a:ext cx="8744040" cy="6409800"/>
            <a:chOff x="217440" y="228600"/>
            <a:chExt cx="8744040" cy="64098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lada de carangue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219320"/>
              <a:ext cx="2590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500 g carne de carangue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alface; 4 tomate; 1 abacate; pepino em fatias; azeitonas pretas s/caroç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Tenha pré-preparado para acompanhamento o Molho Rémoulade fresquin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arte-se o caranguejo cozido e retira-se-lhe a carne, que se corta em pedaç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rranjam-se as folhas de alface numa saladeira larg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loca-se a carne de caranguejo no centro da travessa e enfeita-se com os tomates, o abacate (sem casca, sem caroço, cortado em fatias e esfregado com sumo de limão), o pepino e as azeitonas em volta do caranguej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Acompanhe com Molho Rémoulade</a:t>
              </a:r>
              <a:r>
                <a:rPr b="0" lang="pt-PT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4648320"/>
              <a:ext cx="2590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pateira; 1 ovo cozido; 1 c. chá mostarda; maione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oentros ; queijo ral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Jokerman LET"/>
                </a:rPr>
                <a:t>   </a:t>
              </a: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pateira à Escoc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ntola Rechea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1219320"/>
              <a:ext cx="327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ntola; 3 dl maionese; 1 c. sopa pão ralado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c. sopa ketchup; 1 c. chá cebolinho picado; sal q.b.; Pimenta q.b.; queijo parmesão ralado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562720" y="2133720"/>
              <a:ext cx="335268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za a santola durante cerca de 15 minutos. Retire e deixe arrefecer um pou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Separe a carapaça das patas e extraia-lhe tudo o que for comestível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Junte à carne que retirou, a maionese, o pão ralado, o cebolinho e o ketchup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Misture tudo muito bem e tempere com sal e pimenta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Recheie a carapaça com o creme, polvilhe com um pouco de queijo parmesão ralado e leve ao forno a gratinar, por cerca de 5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Sirva decorando o prato com as patas e folhas de alfac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1H1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2720" y="4556160"/>
              <a:ext cx="3200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alface; 4 gemas de ovo; pepino salsa 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25 g mexilhões enlatados; cebolinho; 5 dentes de alho; sal q.b.; 1 c. chá sumo de limão; 1 dl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10080" y="5334120"/>
              <a:ext cx="3353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meçar com o “aioli”: num almofariz pisar o alho e o sal. Juntar o sumo de limão e as gemas. Acrescentar o azeite, à temperatura ambiente, gota a gota, mexendo sempr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ispor os mexilhões num “cama” de alface cortada fina, salsa e cebolinho pica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rtar o pepino em palitos e pôr à vol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Deitar o molho ou parte dele sobre a salada, servindo o resto à par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0" y="3657600"/>
              <a:ext cx="434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lada de mexilhões com aio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19320" y="5638680"/>
              <a:ext cx="32004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 sapateira cozida reservando as pern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Aproveite toda a carne da sapateira e desfaça-a para uma tijel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Junte o ovo cozido picado, a mostarda e os coentr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volva tudo com a maionese e recheie a casca da sapat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Polvilhe com queijo ralado e leve ao forno a gratinar por 15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744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374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6094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81800" y="228600"/>
            <a:ext cx="8743320" cy="6409800"/>
            <a:chOff x="181800" y="228600"/>
            <a:chExt cx="8743320" cy="640980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4648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gamba; 1 cabeça de alho; 1 dl azeite 3 malaguetas; 1 dl óleo; sal e pimenta ; 1 c. chá molho inglês; 2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0H35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à alhin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455616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ercebes; 3 dentes alh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6 folha louro; 3 Lt água do 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410080" y="5334120"/>
              <a:ext cx="3353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 preferência apanhe os percebes na maré vazia. Os melhores são os gordos, escuros e de lábio vermelho – não apanhe os castanh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asse-os depois por água corrente para perderem arei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Ferva na água do mar os alhos e o louro.Quando começar a ferver, introduza os percebes e deixe levantar outra vez a fervura (sempre o lume forte) e tire-os de imediato e sirva-os com uma cerveja bem geladinh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657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Percebes à moda do Che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19320" y="5410080"/>
              <a:ext cx="3200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Pegue nas gambas e corte as barbas e a parte da cabeça onde estão os olhos. Abra-as com uma tesoura pelo ventre e retire as carapaças, deixando as cabeças agarradas ao corp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Pique finamente a cabeça de alho e abra ao meio as malaguetas de piripiri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Numa frigideira, deixe azeite e óleo e leve ao lume a aquecer e introduza os dentes de alho e o piripiri. Quando a gordura estiver bem quente, coloque as gambas e deixe fritar durante 6 a 10 minutos. Tempere com sal e pimenta, molho inglês e sumo de limã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Sirva com pão mole ou torrad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7276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Petisco de Amêijo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19320" y="1219320"/>
              <a:ext cx="31240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-preta; 1 dl vinho branco; 2 cebolas; 3 c. sopa margarina; salsa q.b.; coentros q.b.; 1 fatia presunto; pimenta branca moída q.b.; piripiri em pó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8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9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9320" y="2133720"/>
              <a:ext cx="3352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Lave as amêijoas e deixe-as de molho em água com sal durante 2 horas, para perderem a arei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pois de escorridas, ponha-as num tacho, junte o vinho e leve ao lume até abrirem. Com uma escumadeira, retire as amêijoas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Através de um pano fino, coe o líquido que largaram e reserv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Descasque as cebolas, e corte-as em meias-luas e leve ao lume com a margarina. Refogue em lume brando, até a cebola ficar translúcid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Polvilhe com salsa e coentros picados, e junte o presunto sem couratos cortado em tirinhas. Refogue de novo e, aos poucos adicione o líquido que reservou e um pouco de águ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Adicione as amêijoas, tempere com pimenta ou piripiri e aqueça bem, e sirva polvilhadas com mais um pouco de coentros picados fresco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318960"/>
              <a:ext cx="434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Gambas com molho requeij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1219320"/>
              <a:ext cx="3047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00 g gambas descascadas e cozi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50 g requeijão; 1 dl natas; queijo ralad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cálice conhaque; sal e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sa picada ; folhas de alface ; rabane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0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1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62720" y="2209680"/>
              <a:ext cx="3200400" cy="12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Depois de cozidas e descascadas, enxugue as gambas espalhando-as num pano de cozinh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sfaça o requeijão (que deve ser muito fresco) com a varinha mágica ou um passador, de forma a que fique macio e homogéne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Junte o conhaque ou, em alternativa, a aguardente, o queijo ralado (aproximadamente 4 colheres), sal e piment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Incorpore as natas batidas e junte cuidadosamente as gambas, reservando algumas para decora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Sirva em tacinhas guarnecidas com folhas de alface muito fresca, salsa fresca picada, rabanetes cortados em flor e as gambas que reservou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Guardar no frigorífico, mas nunca mais de uma hora antes de servi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1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Bás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2"/>
            <a:stretch/>
          </p:blipFill>
          <p:spPr>
            <a:xfrm>
              <a:off x="228600" y="358128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60948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16720" y="228600"/>
            <a:ext cx="8745840" cy="6409800"/>
            <a:chOff x="216720" y="228600"/>
            <a:chExt cx="8745840" cy="64098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Paté de maris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219320"/>
              <a:ext cx="30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iolo de camarão; delícias do mar; salsa picada ; piripiri em pó ; maionese ; tostas de cente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219320" y="2209680"/>
              <a:ext cx="320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icar salsa e delícias do mar na picado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Colocar numa taça e, adicionar maionese (caseira)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Temperar, a gosto, com gotas de piripiri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Levar ao fr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Servir com pão tostado (tostas), vinho branco verde ou cervej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8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19320" y="4648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50 g camarão descascado; 3 gemas de o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c. sopa queijo ralado; 2 dl molho becham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pitada pimenta-de-caiena; 2 c. chá ketch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Flans de cama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carn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750 g gamba fresca descascada; 2 folhas de lo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 dentes de alho esmagados; azeite co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preta moída q.b.; 1 copo vinagre de vinho branco; 1 c. café sal; 1 c. sopa especiarias (a gost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562720" y="2133720"/>
              <a:ext cx="33526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Ferver todos os ingredientes, excepto as gambas, durante            +/- 2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ar as gambas e deixar cozer durante 3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Tirar as gambas em seguida com uma escumadeira para que fiquem frias e não muito passad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ôr as gambas e o molho em frascos quentes previamente esterilizados, levar ao frigorífico durante 48 horas. Servir f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720" y="4556160"/>
              <a:ext cx="3200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lagosta; 1 folha de louro; 2 cebolas; 4 c. sopa azeite; 1 ramo salsa; vinho branco ; vinho do Por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ão q.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410080" y="533412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colha uma lagosta viva e extraia-lhe a tripa com a ajuda de uma das anten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epois de cortar a lagosta em pedaços, coloque-a num tacho com a cebola, a salsa, os alhos , o louro, tudo muito bem picado e ainda o sal e o azeite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ue com partes iguais de vinho branco e do Porto de forma a cobrir completamente a lagos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za em lume brando, não mex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Logo que termine a cozedura sirva de imedia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Lagosta à minha mo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320" y="5410080"/>
              <a:ext cx="3200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Faz-se o bechamel, retira-se do lume e bate-se com o ketchup, as gemas de ovos e piment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am-se os camarões, reservando de parte alguns dos maiore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istribui-se por covilhetes de pirex untados que se polvilham com o queij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õem-se em cima de cada um 2 camarões , enterrando-os levemente, e cozem-se no forn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67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385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2"/>
            <a:stretch/>
          </p:blipFill>
          <p:spPr>
            <a:xfrm>
              <a:off x="228600" y="3581280"/>
              <a:ext cx="430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4557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53360" y="228600"/>
            <a:ext cx="8818200" cy="6409800"/>
            <a:chOff x="153360" y="228600"/>
            <a:chExt cx="8818200" cy="64098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00160" y="228600"/>
              <a:ext cx="87624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00160" y="762120"/>
              <a:ext cx="87624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0160" y="228600"/>
              <a:ext cx="87624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8136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160" y="3276720"/>
              <a:ext cx="4381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0160" y="3581280"/>
              <a:ext cx="4381200" cy="533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0160" y="304920"/>
              <a:ext cx="43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Mexilhões Gratin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99520" y="1066680"/>
              <a:ext cx="3151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mexilhões; 1 cebola; 5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vinho branco seco Lt; 1 emb. Salsa; 4 dentes de alho; 80 g queijo parmesão ralado; 5 c. sopa pão ralado; sal q.b.; pimenta pret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353520" y="1219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353520" y="2209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199520" y="1817640"/>
              <a:ext cx="338184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Limpe bem os mexilhões. Os que estiverem abertos ou concha partida, não os seleccione. 2. Descasque e pique a cebola. Deite uma colher de sopa de azeite numa caçarola grande e deixe fritar a cebola até alourar. Deite para dentro os mexilhões e borrife com o vinho. Deixe-os abrir, com a caçarola tapada durante 5 a 7 minutos, mexendo a caçarola de vez em quand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Escorra os mexilhões e não aproveite os que não abriram, pois não estão certamente em boas condições. Retire as conchas vazias e aproveite as que conservam o molusco. Disponha-os num prato de ir ao forno, ou em dois, se preferir. 4. Aqueça previamente o forno a 250ºc. 5. Lave a salsa à torneira e seque-a bem. Pique-a muito finamente, juntamente com os alhos descascados. Misture o queijo e o pão ralado numa tigela e deite por cima o azeite restante. Tempere com sal e pimenta a gosto. Distribua esta mistura por cima dos mexilhões. 6. Coloque o prato com os mexilhões no centro do forno. Em 5 a 8 minutos ficarão com um apetitoso tom dourado. 7. Sirva-os quentes e acompanhe-os com uma salada com rabanete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0160" y="762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9520" y="4556160"/>
              <a:ext cx="3304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azeite dl; 2 dentes alho; 1 ramo coen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 c. sopa vinho branco; sal q.b.; Pimenta q.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353520" y="457200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353520" y="5638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45440" y="5529240"/>
              <a:ext cx="33822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Lave muito bem as amêijoas. Leve ao lume o azeite e frite nele os dentes de alh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m seguida, adicione os coentros picados e as amêijoas e tempere com sal e pimen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Vá sacudindo a frigideira até que as amêijoas estejam todas abertas e depois regue-as com o vinho. Deixe evaporar um pouco e sirva de segu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0160" y="411480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 rot="10800000">
              <a:off x="4581360" y="3581280"/>
              <a:ext cx="4381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0160" y="3657600"/>
              <a:ext cx="43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Amêijoas à Bulhão P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3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1920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81360" y="304920"/>
              <a:ext cx="43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Folhados de marisco e cogume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80720" y="1219320"/>
              <a:ext cx="30740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50 g massa folhada; 20 g cogumelos lamin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00 g miolo de camarão; 100 g delícias do 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dl natas; 1 gema de ovo; 2 c. sopa mantei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dente de alho; 1 ramo coentros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branca moída q.b.; piripiri em pó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8"/>
            <a:stretch/>
          </p:blipFill>
          <p:spPr>
            <a:xfrm>
              <a:off x="4735080" y="1219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4735080" y="2209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580720" y="2209680"/>
              <a:ext cx="32281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enda a massa folhada, corte pequenos círculos e pincele-os com a gema de ov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o forno cerca de 15 minutos, à temperatura de 170ºC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Entretanto, ponha a manteiga ao lume e refogue o alho picado, o miolo de camarão, as delícias do mar e os cogumelos pi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dicione as natas, mexa bem, deixe engrossar e tempere. Polvilhe com os coentros pi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Retire os folhadinhos do forno, abra-os ao meio e recheie-os com este preparado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81360" y="762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80720" y="4648320"/>
              <a:ext cx="31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amarão descascado; natas, maionese; ananá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0"/>
            <a:stretch/>
          </p:blipFill>
          <p:spPr>
            <a:xfrm>
              <a:off x="4735080" y="4648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1"/>
            <a:stretch/>
          </p:blipFill>
          <p:spPr>
            <a:xfrm>
              <a:off x="4735080" y="5638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581360" y="4191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81360" y="3657600"/>
              <a:ext cx="43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Folhados de camarão com anan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0720" y="5029200"/>
              <a:ext cx="322812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enda a massa folhada , já descongelada, e corte-a em quadrados com 15cm de la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obre os cantos formando uma espécie de cesto, mas deixando uma abertura para colocar o recheio, e leve ao forno até doura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za os camarões em água e sal e descasque-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Misture as natas com a maionese e tempere com gotas de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Corte o ananás em pedacinhos e junte à mistura. Adicione também os camarões, reservando alguns para decora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Quando os cestinhos estiverem frios, encha-os com o reche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7. Decore com a alface, os camarões e azeiton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200160" y="228600"/>
              <a:ext cx="53784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200160" y="3581280"/>
              <a:ext cx="461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7880" y="228600"/>
            <a:ext cx="8744760" cy="6409800"/>
            <a:chOff x="227880" y="228600"/>
            <a:chExt cx="8744760" cy="6409800"/>
          </a:xfrm>
        </p:grpSpPr>
        <p:sp>
          <p:nvSpPr>
            <p:cNvPr id="260" name=""/>
            <p:cNvSpPr/>
            <p:nvPr/>
          </p:nvSpPr>
          <p:spPr>
            <a:xfrm>
              <a:off x="23976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 rot="10800000">
              <a:off x="4582080" y="3581280"/>
              <a:ext cx="434340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239760" y="228600"/>
              <a:ext cx="86868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3976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8316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976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mêijoas à minha moda (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756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3 c. sopa azeite; 2 dentes de alho esmagados; 1 limão; coentros pica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39204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39204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497560" y="213372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que as amêijoas numa tigela, cubra com água, junte bastante sal e deixe de molho por algumas hor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ave as amêijoas até retirar toda a areia e escor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Numa panela coloque o azeite e deixe aquecer em lume bran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Junte o alho picado e frite alourar. Acrescente as amêijoas e os coentr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Tempere com sal e pimenta a gosto e cozinhe, sacudindo a panela de vez em quando até todas as amêijoas ficarem aber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Regue com o sumo do limão e retire do lume, servindo imediatam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976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73880" y="457200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brioches (em forma de queque); 200 g carne de caranguejo; limão; 2 pés coentros frescos; 2 c. sopa natas; caril em pó c. sopa; 100 g ervilhas; agriõ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branc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5"/>
            <a:stretch/>
          </p:blipFill>
          <p:spPr>
            <a:xfrm>
              <a:off x="473544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6"/>
            <a:stretch/>
          </p:blipFill>
          <p:spPr>
            <a:xfrm>
              <a:off x="473544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8316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976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9760" y="3581280"/>
              <a:ext cx="43434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316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Brioche surpre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3160" y="304920"/>
              <a:ext cx="43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Amêijoas à minha moda</a:t>
              </a:r>
              <a:r>
                <a:rPr b="0" lang="en-US" sz="2800" spc="-1" strike="noStrike">
                  <a:solidFill>
                    <a:srgbClr val="ffffff"/>
                  </a:solidFill>
                  <a:latin typeface="Jokerman LET"/>
                </a:rPr>
                <a:t> 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30480" y="1219320"/>
              <a:ext cx="3124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3 c. sopa azeite; 2 dentes alho pi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limão; Pimenta q.b.; sal q.b.; coentros picados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473544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473544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230480" y="2209680"/>
              <a:ext cx="3200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que as amêijoas numa tigela, cubra com água, junte bastante sal e deixe de molho por algumas horas. Lave as amêijoas até retirar toda a areia e escor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Numa panela coloque o azeite e deixe aquecer em lume brando. Junte o alho picado e frite alourar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crescente as amêijoas e os coentros. Tempere com sal e pimenta a gosto e cozinhe, sacudindo a panela de vez em quando até todas as amêijoas ficarem aber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Regue com o sumo do limão e retire do lume, servindo imediata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316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73880" y="5421240"/>
              <a:ext cx="3200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Escorra a carne de caranguejo, desfie-a e deite-a numa tigela. Polvilhe com a casca de limão ralada e regue-a com o sumo do mesm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sfolhe os pés de coentros e migue as folha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Deite as natas numa tigela, junte o caril, tempere com sal pimenta e bata. Adicione este creme ao caranguejo e mistur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Acrescente as ervilhas e os coentros e misture tudo muito bem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Corte um chapéu aos brioches e escave-lhes cuidadosamente o miolo com ajuda de uma colhe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Recheie os brioches com o preparo de caranguejo, enfeite com umas folhinhas de agrião e sirva.</a:t>
              </a: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788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4864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0480" y="4479840"/>
              <a:ext cx="327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camarão; 8 ovos cozi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anteiga derretida q.b.; 2 folhas de al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10"/>
            <a:stretch/>
          </p:blipFill>
          <p:spPr>
            <a:xfrm>
              <a:off x="392040" y="449568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11"/>
            <a:stretch/>
          </p:blipFill>
          <p:spPr>
            <a:xfrm>
              <a:off x="392040" y="5562720"/>
              <a:ext cx="681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077840" y="5452920"/>
              <a:ext cx="33530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zem-se os camarões como de costume, com sal, pimenta, cebola e logo que estejam cozidos devem ser descascad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Coloque-os num prato de sobremesa, sobre uma bonita folha de alface - cortada muito fina, deixando uma barrinha a toda a volta do prato, onde devem ficar rodelas de ovo cozi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O resto dos ovos é aproveitado, picando os mesmos e deitando-os sobre os camarões, regando-se de seguida com manteiga derreti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9760" y="403848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9760" y="35812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Camarões maravilh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12"/>
            <a:stretch/>
          </p:blipFill>
          <p:spPr>
            <a:xfrm>
              <a:off x="239760" y="358128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13"/>
            <a:stretch/>
          </p:blipFill>
          <p:spPr>
            <a:xfrm>
              <a:off x="239760" y="22860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81080" y="228600"/>
            <a:ext cx="8743680" cy="6409800"/>
            <a:chOff x="181080" y="228600"/>
            <a:chExt cx="8743680" cy="64098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Ensopado de mexilh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pateira; 1 cebola; 3 dl azeite; 3 c. sopa polpa de tomate; 750 g pão caseiro; 4 ovos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486400" y="2057400"/>
              <a:ext cx="3200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 cebola às rodelas, deite num tacho e regue com azeite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onha a carne retirada da sapateira por cim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eixe a cebola refogar com a sapateira e quando estiver loura regue com um pouco de água. Adicione a calda de tomate e deixe apurar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rte o pão em fatias, coloque-as no tacho e deixe embeber bem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Bata os ovos com um pouco de sal e pimenta, junte-os à açorda e mexa tudo muito bem para impedir que os ovos talhem. Sirva imediata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9320" y="457200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50 g camarão; 4 c. sopa maionese; 1 c. sopa ketchup; 4 c. sopa natas batidas; 1 c. sopa salsa picada; alfaces cortadas em pedaços q.b.; paprika q.b.; 1 c. café molho inglês; 3 c. sopa conhaqu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ocktail de cama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çorda de sapateira com tom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193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kg mexilhão; 2 cebolas; 4 tom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dentes de alho; garrafa de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oentros frescos molho; 4 fatias pão fr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molho pican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219320" y="2209680"/>
              <a:ext cx="320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ufar no azeite as cebolas e os alh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Molhe com o vinho e acrescente o tomate esmagado. Deixe cozinhar 20 minu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bra os mexilhões dentro deste estuf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olvilhe com os coentros picados. Sirva sobre pão frito.</a:t>
              </a: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62720" y="4556160"/>
              <a:ext cx="32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amarão descascado; 1 lata cogumelos laminados; 2 dl natas; 2 c. sopa ketchup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410080" y="5529240"/>
              <a:ext cx="33530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Numa frigideira põe-se os camarões e os cogumelos, a fritarem com um pouco de margarin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s natas e o ketchup. Continua em lume brando até engrossar um pouc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 necessário pode-se retocar a quantidade de ketchup. Tempere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companhe com Vinho Ver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amarões delicios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9320" y="542124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pois de cozidos, descasque os camarões e reserv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Numa taça, coloque maionese e adicione o ketchup, o molho inglês, o conhaque e tempere com sal e pimenta. Por fim, misture cuidadosamente as natas batidas bem frias e os camarões. Envolva bem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istribua a alface por taças individuais e o cocktail de camarão por cim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olvilhe com a salsa picada e uma pitada de paprika. Sirva muito fres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7240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53352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430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5:54:46Z</dcterms:created>
  <dc:creator>123 321</dc:creator>
  <dc:description/>
  <dc:language>en-US</dc:language>
  <cp:lastModifiedBy>CEGER</cp:lastModifiedBy>
  <cp:lastPrinted>2004-03-17T19:08:21Z</cp:lastPrinted>
  <dcterms:modified xsi:type="dcterms:W3CDTF">2004-03-25T16:56:42Z</dcterms:modified>
  <cp:revision>67</cp:revision>
  <dc:subject/>
  <dc:title>PowerPoint Presentation</dc:title>
</cp:coreProperties>
</file>