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EL%20PASTOR%20SOLITARIO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58E3-0585-4D88-87C4-5324B5BD1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26ED-982E-4715-B804-6F8DEAD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A1F1-EF08-4D43-B8C4-013A057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2FEC-64D7-4CAD-A152-7957A17A7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0C48-CAFD-470B-99EA-E5491284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21CA-C18D-4B8C-AFC8-FA99A6B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FAD8B-9EC1-420C-B731-1DED2DB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DF14-8DB9-4C68-AE5B-A02EF38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01681-2CC1-4218-8D9C-B0D397C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90CB-340D-4229-988D-0DB578A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E8CD9-604F-4C9A-9AB2-3EBE083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793A-C49A-415A-A001-51A0959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D78CC-012B-4E1F-B634-B03F68B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342DA-D585-4450-95FA-4C70BAC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6CBB8-9683-4964-B968-7F051D0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62B12-1C96-4293-91AE-96CE3EB0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F6810-7B09-4BAD-81CE-7F4B5B2A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545A-DB57-4366-9D9E-2635B226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6CC5-D223-4335-A3F3-95DB9C2E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0C17-465C-48FE-861B-391A7D17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CD2D-2DFA-4606-B721-E2A8CFC9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99FB-0C95-47AE-B58F-78E8CA9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125A-1AB6-4851-8B75-38B6F61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D9F0-5CCE-408F-9258-FB480FC4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447A-AB82-471B-AA27-D78B1542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6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7CD-909E-4A6D-8BAE-88F1691BF0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EL%20PASTOR%20SOLITARI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046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6000" spc="-1" strike="noStrike">
                <a:solidFill>
                  <a:srgbClr val="ffffcc"/>
                </a:solidFill>
                <a:latin typeface="Arial"/>
              </a:rPr>
              <a:t>ORAÇÃO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838080" y="3200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19520" y="2590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198108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781680" y="160020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3"/>
          <p:cNvSpPr/>
          <p:nvPr/>
        </p:nvSpPr>
        <p:spPr>
          <a:xfrm>
            <a:off x="2500200" y="60930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cc"/>
                </a:solidFill>
                <a:latin typeface="Arial"/>
              </a:rPr>
              <a:t>A ORAÇÃO QUE CAUSOU CONTROVÉRSIA....  </a:t>
            </a: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EL%20PASTOR%20SOLITARI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80880" y="1125360"/>
            <a:ext cx="3733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826920" y="781560"/>
            <a:ext cx="37213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Esta Igreja recebe agora petições do mundo inteiro, da Índia, África, Ásia, para que o pároco Wright ore por eles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O comentarista Paul Harvey difundiu esta oração na sua emissão de rádio ' The Rest of the Story ', (O Resto da História), e recebeu um acolhimento muito  mais favorável por esta emissão, que por qualquer outr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0880" y="68580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39640" y="178380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Com a ajuda de Deus, gostaríamos que esta oração se derramasse sobre a nossa nação, e que nasça em nossos corações o desejo de chegar a ser uma  ''Nação debaixo do olhar de Deus"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638680" y="692280"/>
            <a:ext cx="3505320" cy="53337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55640" y="3292560"/>
            <a:ext cx="468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55640" y="1843560"/>
            <a:ext cx="446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Se o podes fazer, envia esta oração aos teus amigos e em 30 dias o mundo inteiro a terá  lido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Se não temos o valor de nos mantermos firmes nas  </a:t>
            </a: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nossas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convicções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, então caíremos diante de  qualquer outro argumento, ou inimigo.    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62120" y="449568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066680" y="17524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52g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3048120" y="1295280"/>
            <a:ext cx="7426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52g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4952880" y="7621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52g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6934320" y="457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755640" y="4294080"/>
            <a:ext cx="756144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Oração de abertura no senado de Kansas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Talvez queiras ler esta oração que foi feita em Kansas na sessão de inauguração da 'Kansas House of Representatives</a:t>
            </a: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.'</a:t>
            </a:r>
            <a:br>
              <a:rPr sz="1800"/>
            </a:b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43280" y="2276640"/>
            <a:ext cx="39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cc"/>
                </a:solidFill>
                <a:latin typeface="Arial"/>
              </a:rPr>
              <a:t>Quando se pediu ao reverendo Joe Wright que fizesse a oração de abertura no Senado de Kansas, todos esperavam  uma oração ordinária, mas isto foi o que todo escutaram: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09480" y="388620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52g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1523880" y="2438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52g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2514600" y="1295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52g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3429000" y="380880"/>
            <a:ext cx="7430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733920" y="2602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523880" y="1371600"/>
            <a:ext cx="743040" cy="1981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3419640" y="1046880"/>
            <a:ext cx="453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"Senhor, viemos diante de Ti neste dia, para Te pedir  perdão e para pedir a tua direcção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Sabemos que a tua Palavra disse: 'Maldição àqueles que  chamam "bem" ao que está "mal“, e é exactamente o que temos feito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perdido o equilíbrio espiritual e temos mudado os nossos valores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438280" y="228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295280" y="12952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2070000" y="2319840"/>
            <a:ext cx="6534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explorado o pobre e temos chamado a isso "sorte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recompensado a preguiça e chamámo-la de "Ajuda Social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matado os nossos filhos que ainda não nasceram e temo-lo chamado “a livre escolha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abatido os nossos condenados 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chamámo-lo de "justiça"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09480" y="29988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611280" y="1489680"/>
            <a:ext cx="5761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2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sido negligentes ao disciplinar os nossos filhos e chamámo-lo “desenvolver a sua auto-estima”. 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abusado do poder e temos chamado a isso: "Política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cobiçado os bens do nosso vizinho e a isso temo-lo chamado "ter ambição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contaminado as ondas de rádio e televisão com  muita grosseria e pornografia e temo-lo chamado "liberdade de expressão"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2120" y="838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55640" y="1850040"/>
            <a:ext cx="42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ridicularizado os valores establecidos desde há muito tempo pelos nossos ancestrais e a isto temo-lo chamado de "obsoleto e passado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Oh Deus!, olha no profundo dos nossos corações; purifíca-nos e livra-nos dos nossos  pecados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Amen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62120" y="12193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539640" y="2469600"/>
            <a:ext cx="4103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A reacção foi imedi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Um Parlamentar abandonou a sala durante a oração. Três outros criticaram a oração do Padre classificando a oração como “uma mensagem de intolerância”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66680" y="4419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8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4"/>
          <p:cNvSpPr/>
          <p:nvPr/>
        </p:nvSpPr>
        <p:spPr>
          <a:xfrm>
            <a:off x="1187280" y="4264920"/>
            <a:ext cx="748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Durante as seis semanas seguintes, a Igreja  'Central Catholic Church‘ onde trabalha o sacerdote Wright recebeu mais de 5.000 chamadas telefónicas, das quais só 47 foram desfavoráve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50:54Z</dcterms:created>
  <dc:creator>Elísio Portela</dc:creator>
  <dc:description/>
  <dc:language>en-US</dc:language>
  <cp:lastModifiedBy>Elísio Portela</cp:lastModifiedBy>
  <dcterms:modified xsi:type="dcterms:W3CDTF">2009-10-20T15:34:34Z</dcterms:modified>
  <cp:revision>1</cp:revision>
  <dc:subject/>
  <dc:title>Slide 1</dc:title>
</cp:coreProperties>
</file>