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EL%20PASTOR%20SOLITARIO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1143-71B0-41FE-992D-AB77A34635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FD6D-A6B8-483E-B35E-1758ECB5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69D1-0001-41DD-A8DE-24AA486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B428-3C6E-45CE-8F77-AC044FE64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032B5-21D1-4636-B653-E48BE753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F2E8-A48D-451B-83D8-A914DD89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B8B7B-A291-403E-95F1-25531BB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1822-0916-4449-8E29-9B97A59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9F6E-5704-473E-B7AB-505CC52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35E24-105A-4113-B142-7C60134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B12D8-B240-4796-84E7-B35CC94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6320-5D4F-4B86-9A89-4FA224DB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05EA-68FC-4EF5-8C42-BD3DE68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55BC1-5008-4E3E-AE73-8CE3A81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74FB6-CB79-4CD7-B202-CEB2E85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9022F-0BA3-4DE4-9302-64C89D1C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C94D-80D8-4446-81B5-3FB02C35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5570-26DA-41B8-A65B-601333FF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E288-B0E8-433D-A92E-421D748E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AB06-4B92-420B-BBCA-CF0F78C4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238E-A93D-4412-8DB3-C87CBB5B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A6D1-5FB8-4382-A43A-B2609A2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512C-5F16-466B-AB2E-5457DAA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B674-A700-4106-A669-CE864EF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217E-6B3A-4C1E-9E15-C48496207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6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>
                <a:gd name="textAreaLeft" fmla="*/ 0 w 2904840"/>
                <a:gd name="textAreaRight" fmla="*/ 2905200 w 290484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84D-5FB3-413A-8024-07C1A3577D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EL%20PASTOR%20SOLITARI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046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6000" spc="-1" strike="noStrike">
                <a:solidFill>
                  <a:srgbClr val="ffffcc"/>
                </a:solidFill>
                <a:latin typeface="Arial"/>
              </a:rPr>
              <a:t>ORAÇÃO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838080" y="3200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19520" y="2590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198108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781680" y="160020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3"/>
          <p:cNvSpPr/>
          <p:nvPr/>
        </p:nvSpPr>
        <p:spPr>
          <a:xfrm>
            <a:off x="2500200" y="609300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ffffcc"/>
                </a:solidFill>
                <a:latin typeface="Arial"/>
              </a:rPr>
              <a:t>A ORAÇÃO QUE CAUSOU CONTROVÉRSIA....  </a:t>
            </a: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EL%20PASTOR%20SOLITARI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80880" y="1125360"/>
            <a:ext cx="3733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Picture 6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826920" y="781560"/>
            <a:ext cx="37213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Esta Igreja recebe agora petições do mundo inteiro, da Índia, África, Ásia, para que o pároco Wright ore por eles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O comentarista Paul Harvey difundiu esta oração na sua emissão de rádio ' The Rest of the Story ', (O Resto da História), e recebeu um acolhimento muito  mais favorável por esta emissão, que por qualquer outra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0880" y="68580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39640" y="1783800"/>
            <a:ext cx="36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Com a ajuda de Deus, gostaríamos que esta oração se derramasse sobre a nossa nação, e que nasça em nossos corações o desejo de chegar a ser uma  ''Nação debaixo do olhar de Deus"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638680" y="692280"/>
            <a:ext cx="3505320" cy="53337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55640" y="3292560"/>
            <a:ext cx="468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55640" y="1843560"/>
            <a:ext cx="4464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Se o podes fazer, envia esta oração aos teus amigos e em 30 dias o mundo inteiro a terá  lido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Se não temos o valor de nos mantermos firmes nas  </a:t>
            </a: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nossas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convicções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, então caíremos diante de  qualquer outro argumento, ou inimigo.    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62120" y="449568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066680" y="17524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52g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3048120" y="1295280"/>
            <a:ext cx="7426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52g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4952880" y="7621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52g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6934320" y="457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755640" y="4294080"/>
            <a:ext cx="756144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Oração de abertura no senado de Kansas.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Talvez queiras ler esta oração que foi feita em Kansas na sessão de inauguração da 'Kansas House of Representatives</a:t>
            </a: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.'</a:t>
            </a:r>
            <a:br>
              <a:rPr sz="1800"/>
            </a:br>
            <a:r>
              <a:rPr b="0" lang="pt-PT" sz="18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43280" y="2276640"/>
            <a:ext cx="39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ffffcc"/>
                </a:solidFill>
                <a:latin typeface="Arial"/>
              </a:rPr>
              <a:t>Quando se pediu ao reverendo Joe Wright que fizesse a oração de abertura no Senado de Kansas, todos esperavam  uma oração ordinária, mas isto foi o que todo escutaram: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09480" y="388620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52g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1523880" y="2438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52g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2514600" y="1295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52g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3429000" y="380880"/>
            <a:ext cx="74304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733920" y="2602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523880" y="1371600"/>
            <a:ext cx="743040" cy="1981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3419640" y="1046880"/>
            <a:ext cx="453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"Senhor, viemos diante de Ti neste dia, para Te pedir  perdão e para pedir a tua direcção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Sabemos que a tua Palavra disse: 'Maldição àqueles que  chamam "bem" ao que está "mal“, e é exactamente o que temos feito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perdido o equilíbrio espiritual e temos mudado os nossos valores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438280" y="228600"/>
            <a:ext cx="640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295280" y="12952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2070000" y="2319840"/>
            <a:ext cx="6534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explorado o pobre e temos chamado a isso "sorte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recompensado a preguiça e chamámo-la de "Ajuda Social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matado os nossos filhos que ainda não nasceram e temo-lo chamado “a livre escolha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abatido os nossos condenados 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chamámo-lo de "justiça"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09480" y="29988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611280" y="1489680"/>
            <a:ext cx="5761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12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sido negligentes ao disciplinar os nossos filhos e chamámo-lo “desenvolver a sua auto-estima”. 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abusado do poder e temos chamado a isso: "Política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cobiçado os bens do nosso vizinho e a isso temo-lo chamado "ter ambição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contaminado as ondas de rádio e televisão com  muita grosseria e pornografia e temo-lo chamado "liberdade de expressão"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2120" y="838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55640" y="1850040"/>
            <a:ext cx="4248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Temos ridicularizado os valores establecidos desde há muito tempo pelos nossos ancestrais e a isto temo-lo chamado de "obsoleto e passado"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Oh Deus!, olha no profundo dos nossos corações; purifíca-nos e livra-nos dos nossos  pecados.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  </a:t>
            </a:r>
            <a:br>
              <a:rPr sz="2000"/>
            </a:br>
            <a:r>
              <a:rPr b="1" lang="pt-PT" sz="2000" spc="-1" strike="noStrike">
                <a:solidFill>
                  <a:srgbClr val="ffffcc"/>
                </a:solidFill>
                <a:latin typeface="Arial"/>
              </a:rPr>
              <a:t>Amen.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762120" y="1219320"/>
            <a:ext cx="449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3" descr="h52g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52g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52g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52g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539640" y="2469600"/>
            <a:ext cx="4103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A reacção foi imediat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Um Parlamentar abandonou a sala durante a oração. Três outros criticaram a oração do Padre classificando a oração como “uma mensagem de intolerância”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66680" y="4419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8" descr="h52g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52g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52g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52g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4"/>
          <p:cNvSpPr/>
          <p:nvPr/>
        </p:nvSpPr>
        <p:spPr>
          <a:xfrm>
            <a:off x="1187280" y="4264920"/>
            <a:ext cx="748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cc"/>
                </a:solidFill>
                <a:latin typeface="Arial"/>
              </a:rPr>
              <a:t>Durante as seis semanas seguintes, a Igreja  'Central Catholic Church‘ onde trabalha o sacerdote Wright recebeu mais de 5.000 chamadas telefónicas, das quais só 47 foram desfavoráve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50:54Z</dcterms:created>
  <dc:creator>Elísio Portela</dc:creator>
  <dc:description/>
  <dc:language>en-US</dc:language>
  <cp:lastModifiedBy>Elísio Portela</cp:lastModifiedBy>
  <dcterms:modified xsi:type="dcterms:W3CDTF">2009-10-20T15:34:34Z</dcterms:modified>
  <cp:revision>1</cp:revision>
  <dc:subject/>
  <dc:title>Slide 1</dc:title>
</cp:coreProperties>
</file>