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C81-B0F0-47BE-8AF0-526AC342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7F7-A112-4A45-B5F1-DBF0E398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212-1850-4838-B760-71BC2207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F84-9ECD-4FE6-9505-EE83DB26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996-0EA5-4FA1-BC3B-ED731BF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6FB-FE0F-4796-8916-1F043C4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DFF-09F8-471D-94B3-C818FE5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1B5-7933-419A-ADA3-7B5C849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4A7-BC80-41CB-B79F-6B14193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E9A-10E9-4BB0-8B76-EE98682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F03-B0E7-4800-BCB6-55B3FE9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79D-6E63-4608-8A25-2046FC1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ECE-0C12-4BAD-9B59-C7AE71F86CA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06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 QUE FAZES QUANDO ENCONTRAS 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UM CARRO COM O VIDRO SU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24000" y="1341360"/>
            <a:ext cx="525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ESCREVES “LAVE-ME PORCO”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ESCREVES UM PALAVRÃO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(  )FAZES UM DESENHO ORDIN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31_scott-w-brush"/>
          <p:cNvPicPr/>
          <p:nvPr/>
        </p:nvPicPr>
        <p:blipFill>
          <a:blip r:embed="rId1"/>
          <a:stretch/>
        </p:blipFill>
        <p:spPr>
          <a:xfrm>
            <a:off x="4140360" y="2975040"/>
            <a:ext cx="5003640" cy="388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50920" y="3213000"/>
            <a:ext cx="3816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ESTE HOMEM CHAMA-SE </a:t>
            </a:r>
            <a:br>
              <a:rPr sz="2000"/>
            </a:br>
            <a:br>
              <a:rPr sz="2000"/>
            </a:b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SCOTT WADE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VÊ A SEGUIR O QUE ELE FAZ NOS CARROS SUJOS QUE ENCO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012_Kinky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020_toobin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21_wildlife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022_san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24_geisha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009_nag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32_TrappedMarley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36_MrBeaninTexas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41_ke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042_popnfresh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013_FIN_01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611280" y="7650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 VIDRO ESTAVA NEST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039_GWPE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035_TempMan2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-dirtycartart1"/>
          <p:cNvPicPr/>
          <p:nvPr/>
        </p:nvPicPr>
        <p:blipFill>
          <a:blip r:embed="rId1"/>
          <a:stretch/>
        </p:blipFill>
        <p:spPr>
          <a:xfrm>
            <a:off x="0" y="0"/>
            <a:ext cx="4140360" cy="310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43_thumbsup"/>
          <p:cNvPicPr/>
          <p:nvPr/>
        </p:nvPicPr>
        <p:blipFill>
          <a:blip r:embed="rId2"/>
          <a:stretch/>
        </p:blipFill>
        <p:spPr>
          <a:xfrm>
            <a:off x="0" y="3141720"/>
            <a:ext cx="5364000" cy="3747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044_aok"/>
          <p:cNvPicPr/>
          <p:nvPr/>
        </p:nvPicPr>
        <p:blipFill>
          <a:blip r:embed="rId3"/>
          <a:stretch/>
        </p:blipFill>
        <p:spPr>
          <a:xfrm>
            <a:off x="5288040" y="692280"/>
            <a:ext cx="385596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836640"/>
            <a:ext cx="80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UM ESBOÇO D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4_FIN_02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AINDA INACAB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16_FIN_04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BRA PRONTA : UMA CÓPIA DO QUADRO DE </a:t>
            </a:r>
            <a:br>
              <a:rPr sz="2000"/>
            </a:b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C.M. Coolidge “A Friend in Ne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18_FIN_peak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0464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OUTRAS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01_MLSN_peak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24000" y="56610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MONA LISA”  DE DA VINCI, </a:t>
            </a:r>
            <a:br>
              <a:rPr sz="1800"/>
            </a:b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SOBREPOSTA  A “STARRY NIGHT” DE VAN GO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07_Einstein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023_Kelso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06_elf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2:09:01Z</dcterms:created>
  <dc:creator>MMC</dc:creator>
  <dc:description/>
  <dc:language>en-US</dc:language>
  <cp:lastModifiedBy>Só Riso Mail</cp:lastModifiedBy>
  <dcterms:modified xsi:type="dcterms:W3CDTF">2009-06-29T07:07:21Z</dcterms:modified>
  <cp:revision>11</cp:revision>
  <dc:subject/>
  <dc:title>O QUE VOCÊ FAZ QUANDO ENCONTRA UM CARRO COM O VIDRO SUJO?</dc:title>
</cp:coreProperties>
</file>