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086-6670-499C-9BCB-2F0586D6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998-65A8-4A52-90B5-9D0D951A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04D-FBEA-4A1D-9821-0569B446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E22-52D6-45E9-983F-8A2BF0E6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5F0-73EE-4AC7-86F9-6034DF11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C1E-B3D5-4E73-AE3F-B85428E1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E07-904C-43E8-872C-98185500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C8A-4793-4077-8131-C1BD6006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C9E-A311-43B5-91B6-C2CFCC5B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6B9-9FE7-427C-A0DD-FF3C80DC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F83-D52C-47E9-B078-4E2223B2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3B5-66F0-4F3B-9BC9-040D5D6D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3708-5EF8-4977-967C-7798C92AE95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06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O QUE FAZES QUANDO ENCONTRAS </a:t>
            </a:r>
            <a:br>
              <a:rPr sz="2000"/>
            </a:b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UM CARRO COM O VIDRO SUJ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124000" y="1341360"/>
            <a:ext cx="525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(  )ESCREVES “LAVE-ME PORCO”</a:t>
            </a:r>
            <a:br>
              <a:rPr sz="2000"/>
            </a:b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(  )ESCREVES UM PALAVRÃO</a:t>
            </a:r>
            <a:br>
              <a:rPr sz="2000"/>
            </a:b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(  )FAZES UM DESENHO ORDI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31_scott-w-brush"/>
          <p:cNvPicPr/>
          <p:nvPr/>
        </p:nvPicPr>
        <p:blipFill>
          <a:blip r:embed="rId1"/>
          <a:stretch/>
        </p:blipFill>
        <p:spPr>
          <a:xfrm>
            <a:off x="4140360" y="2975040"/>
            <a:ext cx="5003640" cy="3882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250920" y="3213000"/>
            <a:ext cx="3816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ESTE HOMEM CHAMA-SE </a:t>
            </a:r>
            <a:br>
              <a:rPr sz="2000"/>
            </a:br>
            <a:br>
              <a:rPr sz="2000"/>
            </a:br>
            <a:r>
              <a:rPr b="0" lang="pt-PT" sz="2400" spc="-1" strike="noStrike">
                <a:solidFill>
                  <a:srgbClr val="ffff00"/>
                </a:solidFill>
                <a:latin typeface="Arial"/>
              </a:rPr>
              <a:t>SCOTT WADE</a:t>
            </a: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VÊ A SEGUIR O QUE ELE FAZ NOS CARROS SUJOS QUE ENCON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012_Kinky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45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020_toobin"/>
          <p:cNvPicPr/>
          <p:nvPr/>
        </p:nvPicPr>
        <p:blipFill>
          <a:blip r:embed="rId1"/>
          <a:stretch/>
        </p:blipFill>
        <p:spPr>
          <a:xfrm>
            <a:off x="0" y="1247760"/>
            <a:ext cx="914400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021_wildlife"/>
          <p:cNvPicPr/>
          <p:nvPr/>
        </p:nvPicPr>
        <p:blipFill>
          <a:blip r:embed="rId1"/>
          <a:stretch/>
        </p:blipFill>
        <p:spPr>
          <a:xfrm>
            <a:off x="0" y="1442880"/>
            <a:ext cx="9144000" cy="39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022_san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024_geisha"/>
          <p:cNvPicPr/>
          <p:nvPr/>
        </p:nvPicPr>
        <p:blipFill>
          <a:blip r:embed="rId1"/>
          <a:stretch/>
        </p:blipFill>
        <p:spPr>
          <a:xfrm>
            <a:off x="0" y="880920"/>
            <a:ext cx="9144000" cy="50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009_nag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479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032_TrappedMarley"/>
          <p:cNvPicPr/>
          <p:nvPr/>
        </p:nvPicPr>
        <p:blipFill>
          <a:blip r:embed="rId1"/>
          <a:stretch/>
        </p:blipFill>
        <p:spPr>
          <a:xfrm>
            <a:off x="0" y="293760"/>
            <a:ext cx="914400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036_MrBeaninTexas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041_ke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042_popnfresh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013_FIN_01"/>
          <p:cNvPicPr/>
          <p:nvPr/>
        </p:nvPicPr>
        <p:blipFill>
          <a:blip r:embed="rId1"/>
          <a:stretch/>
        </p:blipFill>
        <p:spPr>
          <a:xfrm>
            <a:off x="0" y="211788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611280" y="76500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O VIDRO ESTAVA NEST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039_GWPE"/>
          <p:cNvPicPr/>
          <p:nvPr/>
        </p:nvPicPr>
        <p:blipFill>
          <a:blip r:embed="rId1"/>
          <a:stretch/>
        </p:blipFill>
        <p:spPr>
          <a:xfrm>
            <a:off x="1042920" y="-30240"/>
            <a:ext cx="705816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035_TempMan2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image-dirtycartart1"/>
          <p:cNvPicPr/>
          <p:nvPr/>
        </p:nvPicPr>
        <p:blipFill>
          <a:blip r:embed="rId1"/>
          <a:stretch/>
        </p:blipFill>
        <p:spPr>
          <a:xfrm>
            <a:off x="0" y="0"/>
            <a:ext cx="4140360" cy="3102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043_thumbsup"/>
          <p:cNvPicPr/>
          <p:nvPr/>
        </p:nvPicPr>
        <p:blipFill>
          <a:blip r:embed="rId2"/>
          <a:stretch/>
        </p:blipFill>
        <p:spPr>
          <a:xfrm>
            <a:off x="0" y="3141720"/>
            <a:ext cx="5364000" cy="3747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044_aok"/>
          <p:cNvPicPr/>
          <p:nvPr/>
        </p:nvPicPr>
        <p:blipFill>
          <a:blip r:embed="rId3"/>
          <a:stretch/>
        </p:blipFill>
        <p:spPr>
          <a:xfrm>
            <a:off x="5288040" y="692280"/>
            <a:ext cx="385596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68360" y="836640"/>
            <a:ext cx="80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UM ESBOÇO D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14_FIN_02"/>
          <p:cNvPicPr/>
          <p:nvPr/>
        </p:nvPicPr>
        <p:blipFill>
          <a:blip r:embed="rId1"/>
          <a:stretch/>
        </p:blipFill>
        <p:spPr>
          <a:xfrm>
            <a:off x="0" y="1789200"/>
            <a:ext cx="9144000" cy="50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8360" y="40464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AINDA INACAB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016_FIN_04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68360" y="40464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OBRA PRONTA : UMA CÓPIA DO QUADRO DE </a:t>
            </a:r>
            <a:br>
              <a:rPr sz="2000"/>
            </a:b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C.M. Coolidge “A Friend in Ne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18_FIN_peak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68360" y="40464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OUTRAS O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01_MLSN_peak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24000" y="566100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ffff00"/>
                </a:solidFill>
                <a:latin typeface="Arial"/>
              </a:rPr>
              <a:t>MONA LISA”  DE DA VINCI, 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Arial"/>
              </a:rPr>
              <a:t>SOBREPOSTA  A “STARRY NIGHT” DE VAN GO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07_Einstein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023_Kelso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006_elf"/>
          <p:cNvPicPr/>
          <p:nvPr/>
        </p:nvPicPr>
        <p:blipFill>
          <a:blip r:embed="rId1"/>
          <a:stretch/>
        </p:blipFill>
        <p:spPr>
          <a:xfrm>
            <a:off x="0" y="704880"/>
            <a:ext cx="9144000" cy="54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22:09:01Z</dcterms:created>
  <dc:creator>MMC</dc:creator>
  <dc:description/>
  <dc:language>en-US</dc:language>
  <cp:lastModifiedBy>Só Riso Mail</cp:lastModifiedBy>
  <dcterms:modified xsi:type="dcterms:W3CDTF">2009-06-29T07:07:21Z</dcterms:modified>
  <cp:revision>11</cp:revision>
  <dc:subject/>
  <dc:title>O QUE VOCÊ FAZ QUANDO ENCONTRA UM CARRO COM O VIDRO SUJO?</dc:title>
</cp:coreProperties>
</file>