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historia%20de%20amor,%2059seg-59kb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E66-F158-465E-A27A-B16C0C9E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523-1931-4D2D-9623-04A94A9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1B8-99E8-4B90-9496-A9F31D9C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974-367A-4B44-A6C0-52318C13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713-63CE-4131-8EE9-B293AC71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CC9-162D-4218-9EAE-C515CB5E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3EC-B488-4B6F-B82E-5F93FFE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3B5-43DB-46EE-BC34-92F9E54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A0A-56E6-460B-84EE-F18E7C2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704-B984-432A-A17F-208F5A9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5F4-BEF3-494D-940B-BE8303A6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55D-B21F-4B4C-BE7B-F8C22C2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91C5-85D9-4A8E-9140-384F9F39F1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storia%20de%20amor,%2059seg-59kb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2923920"/>
            <a:ext cx="345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Meu Am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75280" y="117936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2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32:40Z</dcterms:created>
  <dc:creator> </dc:creator>
  <dc:description/>
  <dc:language>en-US</dc:language>
  <cp:lastModifiedBy>SUPRG</cp:lastModifiedBy>
  <dcterms:modified xsi:type="dcterms:W3CDTF">2005-05-28T12:43:14Z</dcterms:modified>
  <cp:revision>16</cp:revision>
  <dc:subject/>
  <dc:title>Meu Amor</dc:title>
</cp:coreProperties>
</file>