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historia%20de%20amor,%2059seg-59kb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BF2-B6B8-45BA-B0D9-A20FAEBD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F3C-1EA1-43BC-AA82-3BAF42E8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662-9587-4685-92D1-EB6DB6B1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8CB-DDBE-4100-9D9E-1A3E89C5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E3E-B4E1-4427-82D0-FB244CDD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B67-D1CA-4771-BC09-70DD60DB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B0F-7F8D-47F8-9417-A3373081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CF8-07E6-4F4D-8770-1E359C6C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D0B-5C49-4CF0-9FF7-82F18827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A97-1715-40BA-8836-1F0A6AD4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B91-B4CA-4940-8A02-1F5B2DD4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BA3-07E0-4687-B321-5146AC0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F87-A526-4360-9B24-58C48EC957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storia%20de%20amor,%2059seg-59kb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2923920"/>
            <a:ext cx="345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Meu Am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75280" y="117936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2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7:32:40Z</dcterms:created>
  <dc:creator> </dc:creator>
  <dc:description/>
  <dc:language>en-US</dc:language>
  <cp:lastModifiedBy>SUPRG</cp:lastModifiedBy>
  <dcterms:modified xsi:type="dcterms:W3CDTF">2005-05-28T12:43:14Z</dcterms:modified>
  <cp:revision>16</cp:revision>
  <dc:subject/>
  <dc:title>Meu Amor</dc:title>
</cp:coreProperties>
</file>