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3.jpeg" ContentType="image/jpeg"/>
  <Override PartName="/ppt/media/image2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My%20Way.waw.wav" ContentType="audio/x-wav"/>
  <Override PartName="/ppt/media/image2.jpeg" ContentType="image/jpeg"/>
  <Override PartName="/ppt/media/image23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44A57-C3A0-4ED9-8A2A-1CB20AC6D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9FEF8-2694-4DAB-AD5E-6F07BE9EA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6621B-F7D0-4683-9C0F-A3D329200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7BB9C-2FA6-4722-982D-4A447A582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AC915-4C7B-4DB7-A203-2068E0C9F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75C9B-9E6C-48CB-9CB2-DD110C99E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96088-3FCE-4B46-9A43-38FDF5143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072A9-2EEB-41AA-B989-035F877C8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EA6AE-6715-41C7-8AFA-71356209E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A2043-B279-4DA3-A3AB-9E82C2077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753D7-1689-487E-8E50-1B2D3B35F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3743F-5F36-4046-9F7E-90594BEB8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1B9A0-E31D-4647-964F-7C2C52823A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My%20Way.waw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149360"/>
            <a:ext cx="815328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pt-BR" sz="3200" spc="-1" strike="noStrike">
                <a:solidFill>
                  <a:srgbClr val="ff3399"/>
                </a:solidFill>
                <a:latin typeface="Tahoma"/>
              </a:rPr>
              <a:t>"...O maior erro do ser humano,                      é tentar tirar da cabeça aquilo que não sai do coração..."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143000" y="380880"/>
            <a:ext cx="6477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ff3399"/>
                </a:solidFill>
                <a:latin typeface="Tahoma"/>
              </a:rPr>
              <a:t>NADA ACONTECE POR ACASO!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  <p:sndAc>
      <p:stSnd>
        <p:snd r:embed="rId2" name="My%20Way.waw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ahoma"/>
              </a:rPr>
              <a:t>Chamaram o Dr.Howard Kelly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66ff66"/>
                </a:solidFill>
                <a:latin typeface="Tahoma"/>
              </a:rPr>
              <a:t>Quando escutou o nome do povoado de onde ela viera, uma estranha </a:t>
            </a:r>
            <a:br>
              <a:rPr sz="3200"/>
            </a:br>
            <a:r>
              <a:rPr b="1" lang="pt-BR" sz="3200" spc="-1" strike="noStrike">
                <a:solidFill>
                  <a:srgbClr val="66ff66"/>
                </a:solidFill>
                <a:latin typeface="Tahoma"/>
              </a:rPr>
              <a:t>luz encheu seus olh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11426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3399"/>
                </a:solidFill>
                <a:latin typeface="Tahoma"/>
              </a:rPr>
              <a:t>Imediatamente, vestido com a sua bata de médico, foi ver a paciente.</a:t>
            </a:r>
            <a:br>
              <a:rPr sz="3200"/>
            </a:br>
            <a:r>
              <a:rPr b="1" lang="pt-BR" sz="3200" spc="-1" strike="noStrike">
                <a:solidFill>
                  <a:srgbClr val="ff3399"/>
                </a:solidFill>
                <a:latin typeface="Tahoma"/>
              </a:rPr>
              <a:t>Reconheceu imediatamente</a:t>
            </a:r>
            <a:br>
              <a:rPr sz="3200"/>
            </a:br>
            <a:r>
              <a:rPr b="1" lang="pt-BR" sz="3200" spc="-1" strike="noStrike">
                <a:solidFill>
                  <a:srgbClr val="ff3399"/>
                </a:solidFill>
                <a:latin typeface="Tahoma"/>
              </a:rPr>
              <a:t> aquela mulher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ahoma"/>
              </a:rPr>
              <a:t>Determinou-se a fazer o melhor para salvar aquela vida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4800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Tahoma"/>
              </a:rPr>
              <a:t>Passou a dedicar atenção especial àquela paciente.</a:t>
            </a:r>
            <a:br>
              <a:rPr sz="3200"/>
            </a:br>
            <a:r>
              <a:rPr b="1" lang="pt-BR" sz="3200" spc="-1" strike="noStrike">
                <a:solidFill>
                  <a:srgbClr val="ffffff"/>
                </a:solidFill>
                <a:latin typeface="Tahoma"/>
              </a:rPr>
              <a:t>Depois de uma demorada luta pela vida da enferma, ganhou a batalh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52574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Tahoma"/>
              </a:rPr>
              <a:t>O Dr. Kelly pediu a administração do</a:t>
            </a:r>
            <a:br>
              <a:rPr sz="3200"/>
            </a:br>
            <a:r>
              <a:rPr b="1" lang="pt-BR" sz="3200" spc="-1" strike="noStrike">
                <a:solidFill>
                  <a:srgbClr val="ffffff"/>
                </a:solidFill>
                <a:latin typeface="Tahoma"/>
              </a:rPr>
              <a:t>hospital que lhe enviasse a fatura total dos gastos </a:t>
            </a:r>
            <a:r>
              <a:rPr b="1" lang="es-ES_tradnl" sz="3200" spc="-1" strike="noStrike">
                <a:solidFill>
                  <a:srgbClr val="ffffff"/>
                </a:solidFill>
                <a:latin typeface="Tahoma"/>
              </a:rPr>
              <a:t>para aprová-l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040" y="5105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ahoma"/>
              </a:rPr>
              <a:t>Ele a conferiu, depois escreveu algo e mandou entregá-la no quarto da paciente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ahoma"/>
              </a:rPr>
              <a:t>Ela tinha medo de abri-la, porque sabia que levaria o resto da sua vida para pagar todos os gast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ahoma"/>
              </a:rPr>
              <a:t>Mas finalmente abriu a fatura algo lhe chamou a atenção, pois estava escrito o seguinte: "Totalmente pago há muitos anos com um copo de leite ass.: Dr.Howard Kelly."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9903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Tahoma"/>
              </a:rPr>
              <a:t>Lágrimas de alegria correram dos olhos da mulher e seu coração feliz rezou assim:</a:t>
            </a:r>
            <a:r>
              <a:rPr b="1" lang="pt-BR" sz="4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2640" y="1989000"/>
            <a:ext cx="7162920" cy="26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pt-BR" sz="3200" spc="-1" strike="noStrike">
                <a:solidFill>
                  <a:srgbClr val="ff3300"/>
                </a:solidFill>
                <a:latin typeface="Tahoma"/>
              </a:rPr>
              <a:t>Um dia, um rapaz pobre que vendia mercadorias de porta</a:t>
            </a:r>
            <a:br>
              <a:rPr sz="3200"/>
            </a:br>
            <a:r>
              <a:rPr b="1" lang="pt-BR" sz="3200" spc="-1" strike="noStrike">
                <a:solidFill>
                  <a:srgbClr val="ff3300"/>
                </a:solidFill>
                <a:latin typeface="Tahoma"/>
              </a:rPr>
              <a:t>em porta para pagar seus estudos, viu que só lhe</a:t>
            </a:r>
            <a:br>
              <a:rPr sz="3200"/>
            </a:br>
            <a:r>
              <a:rPr b="1" lang="pt-BR" sz="3200" spc="-1" strike="noStrike">
                <a:solidFill>
                  <a:srgbClr val="ff3300"/>
                </a:solidFill>
                <a:latin typeface="Tahoma"/>
              </a:rPr>
              <a:t>restava uma simples moeda de dez centavos e tinha fome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1" lang="pt-BR" sz="3200" spc="-1" strike="noStrike">
                <a:solidFill>
                  <a:srgbClr val="ffffff"/>
                </a:solidFill>
                <a:latin typeface="Tahoma"/>
              </a:rPr>
              <a:t>Graças meu Deus porque teu</a:t>
            </a:r>
            <a:br>
              <a:rPr sz="3200"/>
            </a:br>
            <a:r>
              <a:rPr b="1" lang="pt-BR" sz="3200" spc="-1" strike="noStrike">
                <a:solidFill>
                  <a:srgbClr val="ffffff"/>
                </a:solidFill>
                <a:latin typeface="Tahoma"/>
              </a:rPr>
              <a:t>amor se manifestou nas mãos e nos corações humanos."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5181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Tahoma"/>
              </a:rPr>
              <a:t>Bom agora você tem duas opções: pode enviar esta mensagem e compartilhá-la com seus amig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ahoma"/>
              </a:rPr>
              <a:t>ou pode ignorá-la e dizer que nada tocou o seu coração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33720" y="60912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ahoma"/>
              </a:rPr>
              <a:t>Pois bem... esta mensagem tocou meu</a:t>
            </a:r>
            <a:r>
              <a:rPr b="1" lang="pt-BR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pt-BR" sz="3200" spc="-1" strike="noStrike">
                <a:solidFill>
                  <a:srgbClr val="000000"/>
                </a:solidFill>
                <a:latin typeface="Tahoma"/>
              </a:rPr>
              <a:t>coraçã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54860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ahoma"/>
              </a:rPr>
              <a:t>e por isso estou ompartilhando-a com vocês!</a:t>
            </a:r>
            <a:r>
              <a:rPr b="1" lang="pt-BR" sz="4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ahoma"/>
              </a:rPr>
              <a:t>"Na vida nada acontece por acas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5562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ahoma"/>
              </a:rPr>
              <a:t>O que você faz hoje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52480" y="487656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ahoma"/>
              </a:rPr>
              <a:t>pode fazer a diferença em sua vida amanhã."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560" y="3789000"/>
            <a:ext cx="8305560" cy="215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3300"/>
                </a:solidFill>
                <a:latin typeface="Tahoma"/>
              </a:rPr>
              <a:t>Decidiu que pediria comida na próxima casa. Porém, seus nervos o traíram quando uma encantadora mulher jovem lhe abriu a por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520" y="836640"/>
            <a:ext cx="8229600" cy="37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Tahoma"/>
              </a:rPr>
              <a:t>Em vez de comida, pediu um copo de água. Ela pensou que jovem parecia faminto e assim lhe deu um grande copo de leite. Ele bebeu devagar e depois lhe perguntou: </a:t>
            </a:r>
            <a:br>
              <a:rPr sz="3200"/>
            </a:br>
            <a:r>
              <a:rPr b="1" lang="pt-BR" sz="3200" spc="-1" strike="noStrike">
                <a:solidFill>
                  <a:srgbClr val="ffffff"/>
                </a:solidFill>
                <a:latin typeface="Tahoma"/>
              </a:rPr>
              <a:t>-Quanto lhe devo? </a:t>
            </a:r>
            <a:br>
              <a:rPr sz="3200"/>
            </a:br>
            <a:r>
              <a:rPr b="1" lang="pt-BR" sz="3200" spc="-1" strike="noStrike">
                <a:solidFill>
                  <a:srgbClr val="ffffff"/>
                </a:solidFill>
                <a:latin typeface="Tahoma"/>
              </a:rPr>
              <a:t>-Não me deves nada - respondeu el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1760" y="43430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Tahoma"/>
              </a:rPr>
              <a:t>E continuou: - Minha mãe sempre nos ensinou a nunca aceitar pagamento por uma oferta caridosa. </a:t>
            </a:r>
            <a:br>
              <a:rPr sz="3200"/>
            </a:br>
            <a:r>
              <a:rPr b="1" lang="pt-BR" sz="3200" spc="-1" strike="noStrike">
                <a:solidFill>
                  <a:srgbClr val="ffffff"/>
                </a:solidFill>
                <a:latin typeface="Tahoma"/>
              </a:rPr>
              <a:t>Ele disse: </a:t>
            </a:r>
            <a:br>
              <a:rPr sz="3200"/>
            </a:br>
            <a:r>
              <a:rPr b="1" lang="pt-BR" sz="3200" spc="-1" strike="noStrike">
                <a:solidFill>
                  <a:srgbClr val="ffffff"/>
                </a:solidFill>
                <a:latin typeface="Tahoma"/>
              </a:rPr>
              <a:t>-Pois te agradeço de todo coração.</a:t>
            </a:r>
            <a:r>
              <a:rPr b="0" lang="pt-BR" sz="4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7720" y="159984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ahoma"/>
              </a:rPr>
              <a:t>Quando Howard Kelly</a:t>
            </a:r>
            <a:br>
              <a:rPr sz="3200"/>
            </a:br>
            <a:r>
              <a:rPr b="1" lang="pt-BR" sz="3200" spc="-1" strike="noStrike">
                <a:solidFill>
                  <a:srgbClr val="000000"/>
                </a:solidFill>
                <a:latin typeface="Tahoma"/>
              </a:rPr>
              <a:t>saiu daquela casa, não só se sentiu mais forte fisicamente, mas também sua fé em Deus e nos homens ficou mais forte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990720" y="5105520"/>
            <a:ext cx="7010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ahoma"/>
              </a:rPr>
              <a:t>Ele já estava resignado a se render e deixar tu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3141360"/>
            <a:ext cx="82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ahoma"/>
              </a:rPr>
              <a:t>Anos depois, essa jovem mulher ficou gravemente doente.                             Os médicos locais estavam confus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320" y="5028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ahoma"/>
              </a:rPr>
              <a:t>Finalmente a enviaram à cidade grande, onde chamaram um especialista para estudar sua rara enfermidade.</a:t>
            </a:r>
            <a:r>
              <a:rPr b="1" lang="pt-BR" sz="4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3T23:17:30Z</dcterms:created>
  <dc:creator>Gabriel Jorge Lisboa</dc:creator>
  <dc:description/>
  <dc:language>en-US</dc:language>
  <cp:lastModifiedBy>Gabriel Jorge Lisboa</cp:lastModifiedBy>
  <dcterms:modified xsi:type="dcterms:W3CDTF">2005-11-03T23:42:33Z</dcterms:modified>
  <cp:revision>2</cp:revision>
  <dc:subject/>
  <dc:title> "...O maior erro do ser humano,                      é tentar tirar da cabeça aquilo que não sai do coração..." </dc:title>
</cp:coreProperties>
</file>