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Galvany%20-%20Titanic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075-B89C-4E95-834B-0DA99F6D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FDE-ECF2-4411-95A5-20C606C1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B58-23F3-45CB-88A6-EFA89E76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F91-E461-4ABA-B3EC-B303D967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43B1-6C74-4B37-9DC9-40DB6FEA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9CE1-A1FD-45E7-A984-9E081600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7644-EE4D-4E6A-B6FE-13FC7D72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FDED-6096-4D8C-AB33-9F696A37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CC81-8994-4B63-9883-CB528B0D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C62F-C62B-4DD6-A513-846A3F5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546D-51B2-4998-B6D0-E2D42B08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FB5-E1E0-410B-A19F-ABAC332E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03A9-0D4E-4A2D-AD68-5603950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64A7-5420-4FBA-B72C-FACA0B2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13E0-8B4B-490A-AF9B-E16943E8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161E-52BC-43FB-A695-3248C497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F1A8-3C8D-41F0-85C0-065C2AFC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027-E66F-498C-93A8-65D3BBFD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B59-ADF3-4253-BB3C-27219500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7AB-A0FD-4149-A907-8448123F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B82-3481-486C-A647-AE4DDEC4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402-7E5C-4B34-87F1-A4C53CA0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BB7-442D-4B5E-991E-A34BF162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7F4-F198-4E8E-B007-B701890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mailto:galvanybvtvida@gmail.com" TargetMode="External"/><Relationship Id="rId4" Type="http://schemas.openxmlformats.org/officeDocument/2006/relationships/hyperlink" Target="mailto:galvanybvtvida@yahoo.es" TargetMode="External"/><Relationship Id="rId5" Type="http://schemas.openxmlformats.org/officeDocument/2006/relationships/hyperlink" Target="mailto:galvanybvtvida@hotmail.com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1BF6-56FD-452B-A608-A4673C9811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87280" y="6192720"/>
            <a:ext cx="2305080" cy="6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3300"/>
                </a:solidFill>
                <a:latin typeface="Tahoma"/>
              </a:rPr>
              <a:t>Galvany Bladimir Valdivia Tir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00"/>
                </a:solidFill>
                <a:uFillTx/>
                <a:latin typeface="Tahoma"/>
                <a:hlinkClick r:id="rId3"/>
              </a:rPr>
              <a:t>galvanybvtvida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00"/>
                </a:solidFill>
                <a:uFillTx/>
                <a:latin typeface="Tahoma"/>
                <a:hlinkClick r:id="rId4"/>
              </a:rPr>
              <a:t>galvanybvtvida@yahoo.es</a:t>
            </a:r>
            <a:r>
              <a:rPr b="0" lang="en-US" sz="800" spc="-1" strike="noStrike" u="sng">
                <a:solidFill>
                  <a:srgbClr val="cc3300"/>
                </a:solidFill>
                <a:uFillTx/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00"/>
                </a:solidFill>
                <a:uFillTx/>
                <a:latin typeface="Tahoma"/>
                <a:hlinkClick r:id="rId5"/>
              </a:rPr>
              <a:t>galvanybvtvida@hotmail.com</a:t>
            </a:r>
            <a:r>
              <a:rPr b="0" lang="en-US" sz="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F152-C062-4C4B-AF2C-C09022C6796F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alvany%20-%20Titanic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22400" y="1628640"/>
            <a:ext cx="662472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996600"/>
                </a:solidFill>
                <a:latin typeface="Times New Roman"/>
              </a:rPr>
              <a:t>PRINCIPIO</a:t>
            </a:r>
            <a:br>
              <a:rPr sz="5400"/>
            </a:br>
            <a:br>
              <a:rPr sz="5400"/>
            </a:br>
            <a:r>
              <a:rPr b="1" lang="pt-BR" sz="5400" spc="-1" strike="noStrike">
                <a:solidFill>
                  <a:srgbClr val="996600"/>
                </a:solidFill>
                <a:latin typeface="Times New Roman"/>
              </a:rPr>
              <a:t>CHI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2760" y="450720"/>
            <a:ext cx="61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Coloca os </a:t>
            </a:r>
            <a:r>
              <a:rPr b="1" lang="pt-BR" sz="2400" spc="-1" strike="noStrike">
                <a:solidFill>
                  <a:srgbClr val="996600"/>
                </a:solidFill>
                <a:latin typeface="Times New Roman"/>
              </a:rPr>
              <a:t>Fones</a:t>
            </a: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 e Pressiona a tecla </a:t>
            </a:r>
            <a:r>
              <a:rPr b="1" lang="pt-BR" sz="2400" spc="-1" strike="noStrike">
                <a:solidFill>
                  <a:srgbClr val="996600"/>
                </a:solidFill>
                <a:latin typeface="Times New Roman"/>
              </a:rPr>
              <a:t>Enter</a:t>
            </a: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 ou a </a:t>
            </a:r>
            <a:r>
              <a:rPr b="1" lang="pt-BR" sz="2400" spc="-1" strike="noStrike">
                <a:solidFill>
                  <a:srgbClr val="996600"/>
                </a:solidFill>
                <a:latin typeface="Times New Roman"/>
              </a:rPr>
              <a:t>Barra</a:t>
            </a: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996600"/>
                </a:solidFill>
                <a:latin typeface="Times New Roman"/>
              </a:rPr>
              <a:t>Espaço</a:t>
            </a:r>
            <a:r>
              <a:rPr b="0" lang="pt-BR" sz="2400" spc="-1" strike="noStrike">
                <a:solidFill>
                  <a:srgbClr val="996600"/>
                </a:solidFill>
                <a:latin typeface="Times New Roman"/>
              </a:rPr>
              <a:t> para 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74678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COMPRAR SEXO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O AMOR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086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UM PRINCÍPIO CHINES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QUE TRÁS SORTE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ORIGINAL SAIU DOS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PAÍSES BAIXOS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00"/>
                </a:solidFill>
                <a:latin typeface="Times New Roman"/>
              </a:rPr>
              <a:t>ESTE PRINCÍPIO JÁ DEU 8 VEZES A VOLTA AO MUNDO, AGORA É A TI, A QUEM VAI TRAZER SORTE. DEPOIS DE TERES RECEBIDO ESTA CARTA, TERÁS BOA SORTE</a:t>
            </a: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ISTO NÃO É NENHUMA BRINCADEIRA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A SORTE VIRÁ ATÉ TI POR CORREIO OU POR INTERNET.</a:t>
            </a:r>
            <a:br>
              <a:rPr sz="3600"/>
            </a:b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533520"/>
            <a:ext cx="8101080" cy="59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996600"/>
                </a:solidFill>
                <a:latin typeface="Times New Roman"/>
              </a:rPr>
              <a:t>ENVIA UMA CÓPIA DESTA CARTA ÀS PESSOAS QUE REALMENTE PRECISAM DE BOA SORTE, NÃO ENVIES DINHEIRO, PORQUE A SORTE NÃO SE COMPRA E NÃO CONSERVES A CARTA POR MAIS DE 96 HORAS</a:t>
            </a:r>
            <a:br>
              <a:rPr sz="4000"/>
            </a:br>
            <a:r>
              <a:rPr b="1" lang="pt-BR" sz="4000" spc="-1" strike="noStrike">
                <a:solidFill>
                  <a:srgbClr val="996600"/>
                </a:solidFill>
                <a:latin typeface="Times New Roman"/>
              </a:rPr>
              <a:t> (4 DIAS)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ALGUNS EXEMPLOS DE</a:t>
            </a: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 PESSOAS </a:t>
            </a: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QUE FORAM AFORTUNADAS DEPOIS </a:t>
            </a: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DE TEREM RECEBIDO ESTA MISSIVA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00"/>
                </a:solidFill>
                <a:latin typeface="Times New Roman"/>
              </a:rPr>
              <a:t>CONSTANTIN, RECEBEU A PRIMEIRA CARTA EM 1953, PEDIU À SUA SECRETARIA PARA FAZER 20 COPIAS.</a:t>
            </a:r>
            <a:br>
              <a:rPr sz="4000"/>
            </a:br>
            <a:r>
              <a:rPr b="1" lang="pt-BR" sz="4000" spc="-1" strike="noStrike">
                <a:solidFill>
                  <a:srgbClr val="996600"/>
                </a:solidFill>
                <a:latin typeface="Times New Roman"/>
              </a:rPr>
              <a:t>NOVE HORAS MAIS TARDE GANHOU 99 MILHÕES DE MARCOS NA LOTARIA DO SEU PAÍS</a:t>
            </a:r>
            <a:r>
              <a:rPr b="0" lang="pt-BR" sz="48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188640"/>
            <a:ext cx="723276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CARLOS, EMPREGADO, RECEBEU ESTA MESMA CARTA, E NÃO A ENVIOU, ALGUNS DIAS  MAIS TARDE PERDEU O SEU EMPREGO.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DIAS DEPOIS DECIDE CONTINUAR A CORRENTE E FICA RICO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EM 1967, BRUNO RECEBEU A CARTA, ESQUECEU-SE DELA E  DEITOU FORA, UNS DIAS DEPOIS O SEU FILHO FICA DOENTE.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996600"/>
                </a:solidFill>
                <a:latin typeface="Times New Roman"/>
              </a:rPr>
              <a:t>ELE PROCURA A CARTA, COPIA-A 20 VEZES E ENVIA. NOVE DIAS MAIS TARDE, RECEBE A FELIZ NOTICIA: SEU FILHO SÃO E SALVO</a:t>
            </a:r>
            <a:r>
              <a:rPr b="0" lang="pt-BR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ESTA MISSIVA DA SORTE TEM SIDO ENVIADA POR ANTHONY DE CROUD, UM MISSIONÁRIO DA ÁFRICA DO SUL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191592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SOBRE </a:t>
            </a:r>
            <a:br>
              <a:rPr sz="4400"/>
            </a:br>
            <a:br>
              <a:rPr sz="20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APÓS  96 HORAS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DEVERÁS DEITAR FORA ESTA  CART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A SORTE TE CHEGARÁ EM MENOS DE 4 DIAS A PARTIR DO MOMENTO EM QUE TENHAS RECEBIDO ESTA CARTA, SE CUMPRIR COMO SOLICITADO NEL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ISTO É VERDADE.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ESTA MISSIVA TEM SIDO ENVIADA PARA DAR BOA SORTE.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A SORTE ACABA DE BATER NA TUA PORT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4678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ENVIA 20 CÓPIAS AOS SEUS CONHECIDOS, AMIGOS, FAMILIA.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UNS DIAS MAIS TARDE TERÁS BOAS NOTICIAS OU UMA GRANDE SURPRES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EU TE ENVIO JÁ QUE A CARTA TEM QUE DAR A VOLTA AO MUND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1412640"/>
            <a:ext cx="716292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ENVIA SIMPLESMENTE 20 COPIAS E ESPERA VER O QUE ACONTECERÁ NO NONO DIA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IMPORTANTE:</a:t>
            </a:r>
            <a:br>
              <a:rPr sz="3600"/>
            </a:br>
            <a:br>
              <a:rPr sz="3200"/>
            </a:br>
            <a:r>
              <a:rPr b="1" lang="es-MX" sz="3200" spc="-1" strike="noStrike">
                <a:solidFill>
                  <a:srgbClr val="996600"/>
                </a:solidFill>
                <a:latin typeface="Times New Roman"/>
              </a:rPr>
              <a:t>NÃO MUDES NADA DO TEXTO QUE TE FOI ENVIADO, COPIA EXACTAMENTE COMO TE FOI DADO.</a:t>
            </a:r>
            <a:br>
              <a:rPr sz="3200"/>
            </a:br>
            <a:br>
              <a:rPr sz="3600"/>
            </a:br>
            <a:r>
              <a:rPr b="1" lang="es-MX" sz="6600" spc="-1" strike="noStrike">
                <a:solidFill>
                  <a:srgbClr val="996600"/>
                </a:solidFill>
                <a:latin typeface="Times New Roman"/>
              </a:rPr>
              <a:t>BOA SORTE.</a:t>
            </a:r>
            <a:br>
              <a:rPr sz="6600"/>
            </a:br>
            <a:br>
              <a:rPr sz="66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                                 </a:t>
            </a:r>
            <a:r>
              <a:rPr b="1" i="1" lang="es-MX" sz="4400" spc="-1" strike="noStrike">
                <a:solidFill>
                  <a:srgbClr val="996600"/>
                </a:solidFill>
                <a:latin typeface="Tahoma"/>
              </a:rPr>
              <a:t>Galvan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413000"/>
            <a:ext cx="36734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1523880"/>
            <a:ext cx="739116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COMPRAR UMA CASA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UM LAR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1523880"/>
            <a:ext cx="7431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COMPRAR UM RELÓGIO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O TEMP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3280" y="1483920"/>
            <a:ext cx="7315200" cy="33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 COMPRAR UMA CAMA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O SON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COMPRAR UM LIVRO, MAS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NÃO O CONHECIMENT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14839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O DINHEIRO PODE PAGAR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 UM MÉDICO, MAS NÃO A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 SAÚDE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4678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COMPRAR UM POSTO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O RESPEIT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360" y="1413000"/>
            <a:ext cx="7445520" cy="39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O DINHEIRO PODE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COMPRAR O SANGUE,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996600"/>
                </a:solidFill>
                <a:latin typeface="Times New Roman"/>
              </a:rPr>
              <a:t>MAS NÃO A VID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3:13:51Z</dcterms:created>
  <dc:creator>USUARIO</dc:creator>
  <dc:description/>
  <dc:language>en-US</dc:language>
  <cp:lastModifiedBy>.</cp:lastModifiedBy>
  <dcterms:modified xsi:type="dcterms:W3CDTF">2008-01-09T03:11:10Z</dcterms:modified>
  <cp:revision>10</cp:revision>
  <dc:subject/>
  <dc:title>Diapositiva 1</dc:title>
</cp:coreProperties>
</file>