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Galvany%20-%20Titan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BDE-E360-4285-B762-A31271B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A7D-E57D-4F08-8BC4-A91DF7A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B8B-5D37-4A5E-9C3A-698614B8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C07-BA36-4291-AFA2-DEA34507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31AD-C11D-4DFE-93C1-7248D35F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9614-1E88-4D7A-AC9D-83C5150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205-FDD7-4162-9E20-C88CE24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C9A4-A6CF-458F-BA08-005CC154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BFA4-BA14-4D76-B13C-B6ABBBC4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06A3-3BF9-451A-B028-49048AF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6A3B-73BF-4C07-8AD5-B499EAA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762-F584-41C1-A382-29532021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61E9-D5A6-42CB-B9D9-9D61519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4483-C801-4E20-835E-734CB8F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CE7-2465-41FC-B899-2BB8B06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E0E-987A-41A6-A309-39DA3722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2CB4-B7BA-42ED-AD04-F716BAB4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FEA-6DFB-44E4-94E7-42428E7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1D4-8E1E-4E86-A096-425FE98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978-3A54-4A52-B523-12AADE2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A72-BFF5-4906-A2EE-8C50FAA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CA9-AD41-4372-B352-AFF9B0D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276-0273-47D2-8304-60D99B3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E86-132E-4768-A5EE-C0E777E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5BC-B0EF-4DB5-93A8-94B3BEA512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n-US" sz="800" spc="-1" strike="noStrike" u="sng">
                <a:solidFill>
                  <a:srgbClr val="cc3300"/>
                </a:solidFill>
                <a:uFillTx/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n-U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4F7-1601-452A-9A7A-61B6B0DA9F6A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alvany%20-%20Titanic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22400" y="1628640"/>
            <a:ext cx="6624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6600"/>
                </a:solidFill>
                <a:latin typeface="Times New Roman"/>
              </a:rPr>
              <a:t>PRINCIPIO</a:t>
            </a:r>
            <a:br>
              <a:rPr sz="5400"/>
            </a:br>
            <a:br>
              <a:rPr sz="5400"/>
            </a:br>
            <a:r>
              <a:rPr b="1" lang="pt-BR" sz="5400" spc="-1" strike="noStrike">
                <a:solidFill>
                  <a:srgbClr val="996600"/>
                </a:solidFill>
                <a:latin typeface="Times New Roman"/>
              </a:rPr>
              <a:t>CH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2760" y="450720"/>
            <a:ext cx="61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Coloca os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Fones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e Pressiona a tecla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Enter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ou a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Barra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Espaço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para 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SEX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AMOR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UM PRINCÍPIO CHINES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QUE TRÁS SORTE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ORIGINAL SAIU DO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PAÍSES BAIXO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00"/>
                </a:solidFill>
                <a:latin typeface="Times New Roman"/>
              </a:rPr>
              <a:t>ESTE PRINCÍPIO JÁ DEU 8 VEZES A VOLTA AO MUNDO, AGORA É A TI, A QUEM VAI TRAZER SORTE. DEPOIS DE TERES RECEBIDO ESTA CARTA, TERÁS BOA SORTE</a:t>
            </a: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ISTO NÃO É NENHUMA BRINCADEIRA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A SORTE VIRÁ ATÉ TI POR CORREIO OU POR INTERNET.</a:t>
            </a:r>
            <a:br>
              <a:rPr sz="3600"/>
            </a:b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533520"/>
            <a:ext cx="8101080" cy="59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ENVIA UMA CÓPIA DESTA CARTA ÀS PESSOAS QUE REALMENTE PRECISAM DE BOA SORTE, NÃO ENVIES DINHEIRO, PORQUE A SORTE NÃO SE COMPRA E NÃO CONSERVES A CARTA POR MAIS DE 96 HORAS</a:t>
            </a:r>
            <a:br>
              <a:rPr sz="4000"/>
            </a:b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 (4 DIAS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ALGUNS EXEMPLOS DE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 PESSOAS 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QUE FORAM AFORTUNADAS DEPOIS 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DE TEREM RECEBIDO ESTA MISSIVA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CONSTANTIN, RECEBEU A PRIMEIRA CARTA EM 1953, PEDIU À SUA SECRETARIA PARA FAZER 20 COPIAS.</a:t>
            </a:r>
            <a:br>
              <a:rPr sz="4000"/>
            </a:b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NOVE HORAS MAIS TARDE GANHOU 99 MILHÕES DE MARCOS NA LOTARIA DO SEU PAÍS</a:t>
            </a:r>
            <a:r>
              <a:rPr b="0" lang="pt-BR" sz="4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23276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CARLOS, EMPREGADO, RECEBEU ESTA MESMA CARTA, E NÃO A ENVIOU, ALGUNS DIAS  MAIS TARDE PERDEU O SEU EMPREGO.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DIAS DEPOIS DECIDE CONTINUAR A CORRENTE E FICA RICO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EM 1967, BRUNO RECEBEU A CARTA, ESQUECEU-SE DELA E  DEITOU FORA, UNS DIAS DEPOIS O SEU FILHO FICA DOENTE.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996600"/>
                </a:solidFill>
                <a:latin typeface="Times New Roman"/>
              </a:rPr>
              <a:t>ELE PROCURA A CARTA, COPIA-A 20 VEZES E ENVIA. NOVE DIAS MAIS TARDE, RECEBE A FELIZ NOTICIA: SEU FILHO SÃO E SALVO</a:t>
            </a:r>
            <a:r>
              <a:rPr b="0" lang="pt-BR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STA MISSIVA DA SORTE TEM SIDO ENVIADA POR ANTHONY DE CROUD, UM MISSIONÁRIO DA ÁFRICA DO SUL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191592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SOBRE </a:t>
            </a:r>
            <a:br>
              <a:rPr sz="4400"/>
            </a:br>
            <a:br>
              <a:rPr sz="20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PÓS  96 HORA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DEVERÁS DEITAR FORA ESTA  CA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 SORTE TE CHEGARÁ EM MENOS DE 4 DIAS A PARTIR DO MOMENTO EM QUE TENHAS RECEBIDO ESTA CARTA, SE CUMPRIR COMO SOLICITADO NEL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ISTO É VERDADE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STA MISSIVA TEM SIDO ENVIADA PARA DAR BOA SORTE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 SORTE ACABA DE BATER NA TUA PO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NVIA 20 CÓPIAS AOS SEUS CONHECIDOS, AMIGOS, FAMILIA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UNS DIAS MAIS TARDE TERÁS BOAS NOTICIAS OU UMA GRANDE SURPRES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U TE ENVIO JÁ QUE A CARTA TEM QUE DAR A VOLTA AO MUND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1412640"/>
            <a:ext cx="716292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ENVIA SIMPLESMENTE 20 COPIAS E ESPERA VER O QUE ACONTECERÁ NO NONO DIA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IMPORTANTE:</a:t>
            </a:r>
            <a:br>
              <a:rPr sz="3600"/>
            </a:br>
            <a:br>
              <a:rPr sz="3200"/>
            </a:br>
            <a:r>
              <a:rPr b="1" lang="es-MX" sz="3200" spc="-1" strike="noStrike">
                <a:solidFill>
                  <a:srgbClr val="996600"/>
                </a:solidFill>
                <a:latin typeface="Times New Roman"/>
              </a:rPr>
              <a:t>NÃO MUDES NADA DO TEXTO QUE TE FOI ENVIADO, COPIA EXACTAMENTE COMO TE FOI DADO.</a:t>
            </a:r>
            <a:br>
              <a:rPr sz="3200"/>
            </a:br>
            <a:br>
              <a:rPr sz="3600"/>
            </a:br>
            <a:r>
              <a:rPr b="1" lang="es-MX" sz="6600" spc="-1" strike="noStrike">
                <a:solidFill>
                  <a:srgbClr val="996600"/>
                </a:solidFill>
                <a:latin typeface="Times New Roman"/>
              </a:rPr>
              <a:t>BOA SORTE.</a:t>
            </a:r>
            <a:br>
              <a:rPr sz="6600"/>
            </a:br>
            <a:br>
              <a:rPr sz="66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                                 </a:t>
            </a:r>
            <a:r>
              <a:rPr b="1" i="1" lang="es-MX" sz="4400" spc="-1" strike="noStrike">
                <a:solidFill>
                  <a:srgbClr val="996600"/>
                </a:solidFill>
                <a:latin typeface="Tahoma"/>
              </a:rPr>
              <a:t>Galvan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413000"/>
            <a:ext cx="3673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152388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A CASA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UM LAR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523880"/>
            <a:ext cx="7431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UM RELÓGI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TEMP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15200" cy="33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UMA CAMA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SON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 LIVRO, MA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NÃO O CONHECIMEN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O DINHEIRO PODE PAGAR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 UM MÉDICO, MAS NÃO A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 SAÚD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4678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 POST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RESPEI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744552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O SANGUE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A VID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3:51Z</dcterms:created>
  <dc:creator>USUARIO</dc:creator>
  <dc:description/>
  <dc:language>en-US</dc:language>
  <cp:lastModifiedBy>.</cp:lastModifiedBy>
  <dcterms:modified xsi:type="dcterms:W3CDTF">2008-01-09T03:11:10Z</dcterms:modified>
  <cp:revision>10</cp:revision>
  <dc:subject/>
  <dc:title>Diapositiva 1</dc:title>
</cp:coreProperties>
</file>