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CC22-925E-47E6-87DD-E6D23615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0C9B-F030-4183-BC83-6BBAA045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E80B-8BA4-4C6F-B029-CEAB7BE5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DA45-54A8-48ED-ABDA-A9A4E423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2034-7082-4B9B-A816-CFDD908A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3231-DC0C-460C-A10A-5C5F5BB1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66CD-AA1A-4C97-B2B3-3284968D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1E86-A92F-4A70-A8E5-2CC35D1B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DDDA-74DA-44FF-93C1-8BE5CFEB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6617-46A8-475C-B635-0DF7FBD1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B981-8007-4786-B3B2-3C51B5B3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696F-4369-4F71-AC2C-CBDF857D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1718-C6F1-49A7-86F4-AFFCC8426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42920" y="457200"/>
            <a:ext cx="94298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953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 flipV="1">
            <a:off x="6156360" y="4724280"/>
            <a:ext cx="287280" cy="433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4762440" cy="659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776840" y="260280"/>
            <a:ext cx="43671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05636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34544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5079960" cy="6184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0" y="404640"/>
            <a:ext cx="457200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61200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290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12360" cy="69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42920" y="428760"/>
            <a:ext cx="942984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635004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2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27236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32508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777080" cy="69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32508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55708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10084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47640" y="-243000"/>
            <a:ext cx="616752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000160" y="66600"/>
            <a:ext cx="51436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08080"/>
            <a:ext cx="91440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920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213080" y="0"/>
            <a:ext cx="4930920" cy="7174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3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144000" cy="65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333440" y="463680"/>
            <a:ext cx="647712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13872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5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1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1:28:50Z</dcterms:created>
  <dc:creator>Moi</dc:creator>
  <dc:description/>
  <dc:language>en-US</dc:language>
  <cp:lastModifiedBy>Moi</cp:lastModifiedBy>
  <dcterms:modified xsi:type="dcterms:W3CDTF">2009-01-12T01:53:22Z</dcterms:modified>
  <cp:revision>3</cp:revision>
  <dc:subject/>
  <dc:title>Diapositive 1</dc:title>
</cp:coreProperties>
</file>