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092-4F3C-4104-AC50-8B303510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8FB-8142-4659-A6AE-63F37B9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78F-8F67-4407-BD67-5127E0D1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82B-6E99-461B-B836-7725DA2F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16D-B906-4B0A-9AFD-ED0A62D2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1A2-C5EA-4A06-86F8-9D64F4B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885-E43D-42D1-B17A-DC769E2E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BD8-0017-4FA7-8B64-7C42ACC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BF5-E9CE-493B-9782-5A15A31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59F-3FFB-4361-BF14-D948770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ACE-6DE2-438D-8801-6B7774F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60D-A6AD-48C7-B306-AEE9FBAB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AFB-838A-4C1D-B33F-3D7D6CF7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2920" y="457200"/>
            <a:ext cx="9429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5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6156360" y="4724280"/>
            <a:ext cx="287280" cy="433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476244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76840" y="260280"/>
            <a:ext cx="4367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05636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345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079960" cy="618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572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612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9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42920" y="428760"/>
            <a:ext cx="9429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5004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32508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3250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57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00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47640" y="-243000"/>
            <a:ext cx="6167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00160" y="66600"/>
            <a:ext cx="51436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13080" y="0"/>
            <a:ext cx="4930920" cy="717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144000" cy="65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33440" y="463680"/>
            <a:ext cx="647712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38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1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1:28:50Z</dcterms:created>
  <dc:creator>Moi</dc:creator>
  <dc:description/>
  <dc:language>en-US</dc:language>
  <cp:lastModifiedBy>Moi</cp:lastModifiedBy>
  <dcterms:modified xsi:type="dcterms:W3CDTF">2009-01-12T01:53:22Z</dcterms:modified>
  <cp:revision>3</cp:revision>
  <dc:subject/>
  <dc:title>Diapositive 1</dc:title>
</cp:coreProperties>
</file>