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Secret%20Garden%20-%20White%20Stones%20-%20ILLUMINATION-16x11025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E5D-4633-46B4-8AB4-0CAA6142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DE88-B9A6-4D4B-BC4E-3785443E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220-2F8C-4630-BE3C-03E2CC63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D557-3A69-4EF9-AC22-C2345607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C77-E600-467D-A52E-264393B6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1968-C774-4337-9C2E-5BEDB04F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889-1961-4C6B-B50D-9EBB3D10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277D-2E00-4215-9828-43DCE52C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4C0-1E71-4B2F-B113-DB9814D6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0CAB-E632-4109-93EC-9283DB31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2428-009C-4402-BFFC-A83ECB0B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1E2-A4E5-4764-9F90-7715995F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B6DC-8370-473B-9530-81822C3E9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840" y="79200"/>
            <a:ext cx="9072720" cy="671544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00160" y="231840"/>
            <a:ext cx="8712000" cy="6427800"/>
          </a:xfrm>
          <a:prstGeom prst="rect">
            <a:avLst/>
          </a:prstGeom>
          <a:noFill/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95280" y="385920"/>
            <a:ext cx="8353440" cy="6086160"/>
          </a:xfrm>
          <a:prstGeom prst="rect">
            <a:avLst/>
          </a:prstGeom>
          <a:noFill/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ecret%20Garden%20-%20White%20Stones%20-%20ILLUMINATION-16x11025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8323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1042920" y="1916280"/>
            <a:ext cx="7056360" cy="2519280"/>
            <a:chOff x="1042920" y="1916280"/>
            <a:chExt cx="7056360" cy="2519280"/>
          </a:xfrm>
        </p:grpSpPr>
        <p:sp>
          <p:nvSpPr>
            <p:cNvPr id="46" name=""/>
            <p:cNvSpPr/>
            <p:nvPr/>
          </p:nvSpPr>
          <p:spPr>
            <a:xfrm>
              <a:off x="1042920" y="1916280"/>
              <a:ext cx="7056360" cy="2519280"/>
            </a:xfrm>
            <a:prstGeom prst="flowChartAlternateProcess">
              <a:avLst/>
            </a:prstGeom>
            <a:gradFill rotWithShape="0">
              <a:gsLst>
                <a:gs pos="0">
                  <a:srgbClr val="006600">
                    <a:alpha val="63137"/>
                  </a:srgbClr>
                </a:gs>
                <a:gs pos="50000">
                  <a:srgbClr val="00cc99">
                    <a:alpha val="62352"/>
                  </a:srgbClr>
                </a:gs>
                <a:gs pos="100000">
                  <a:srgbClr val="006600">
                    <a:alpha val="63137"/>
                  </a:srgbClr>
                </a:gs>
              </a:gsLst>
              <a:lin ang="108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290600" y="2203560"/>
              <a:ext cx="656280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556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Sabe como capturar porcos </a:t>
              </a:r>
              <a:endParaRPr b="1" lang="en-US" sz="24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556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selvagens?</a:t>
              </a:r>
              <a:endParaRPr b="1" lang="en-US" sz="24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8" name=""/>
          <p:cNvSpPr txBox="1"/>
          <p:nvPr/>
        </p:nvSpPr>
        <p:spPr>
          <a:xfrm>
            <a:off x="2641680" y="666720"/>
            <a:ext cx="38592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ffff">
                    <a:alpha val="73000"/>
                  </a:srgbClr>
                </a:solidFill>
                <a:latin typeface="Arial Black"/>
              </a:rPr>
              <a:t>AUMENTE  O  SOM!</a:t>
            </a:r>
            <a:endParaRPr b="1" lang="en-US" sz="2400" spc="1" strike="noStrike">
              <a:ln w="15840">
                <a:solidFill>
                  <a:srgbClr val="0000ff"/>
                </a:solidFill>
                <a:miter/>
              </a:ln>
              <a:solidFill>
                <a:srgbClr val="ffffff">
                  <a:alpha val="73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26920" y="5516640"/>
            <a:ext cx="74170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formatado por eliofernandes@uol.com.br</a:t>
            </a:r>
            <a:endParaRPr b="1" lang="en-US" sz="1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59320" y="5877000"/>
            <a:ext cx="230796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Abril  2008</a:t>
            </a:r>
            <a:endParaRPr b="1" lang="en-US" sz="1600" spc="1" strike="noStrike">
              <a:ln w="1260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4437000"/>
            <a:ext cx="73440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ormatado por Cris So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DAPTAÇÃO-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VA VISÃO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(JAN-20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85080" y="6381720"/>
            <a:ext cx="287280" cy="476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901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901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401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4113360" cy="4691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19640" y="2109960"/>
            <a:ext cx="3384720" cy="285084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Sempre e sempre novas leis de acordo com os que dominam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Tudo a custo da perda contínua da liberdade (expressão, economica, cultural, social.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Migalha a migal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11576" r="0" b="29877"/>
          <a:stretch/>
        </p:blipFill>
        <p:spPr>
          <a:xfrm>
            <a:off x="1496880" y="549360"/>
            <a:ext cx="6150240" cy="3270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508640"/>
            <a:ext cx="8207280" cy="155700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vemos lembrarmo-nos que NÃO EXISTE ESTE NEGÓCIO DE ALMOÇOS GRÁTIS e, também, que NÃO É POSSÍVEL ALGUÉM PRESTAR UM SERVIÇO MAIS BARATO DO QUE SE VOCÊ MESMO O FIZES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comb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1880" y="1268280"/>
            <a:ext cx="5319720" cy="3616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5640" y="1268280"/>
            <a:ext cx="7704000" cy="346068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nalmente, se você percebe que toda esta maravilhosa “ajuda” governamental opõe-se ao futuro da democracia no nosso país, você irá reenviar esta mensagem para os seus amig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s se você concorda que políticos passam pedir mais poder para as classes deles, tirarem a liberdade e o dinheiro a todos nós para beneficiar a sua classe dominante de banqueiros, grandes empresas,  então você, provavelmente, irá apagar  este PP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 que Deus o ajude quando trancarem a port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3000"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1280" y="966960"/>
            <a:ext cx="4653000" cy="4924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08720" y="1268280"/>
            <a:ext cx="2952720" cy="440064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á faz algum tempo que o milho está sendo lançado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s cercas estão sendo colocadas aos pouco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mperceptivel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comb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11339" r="0" b="0"/>
          <a:stretch/>
        </p:blipFill>
        <p:spPr>
          <a:xfrm>
            <a:off x="979560" y="485640"/>
            <a:ext cx="7157880" cy="4294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6560" y="4853160"/>
            <a:ext cx="532944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 quando menos se espera.. PRON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TRANCAM A POR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22600" y="465120"/>
            <a:ext cx="5697360" cy="4388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5013360"/>
            <a:ext cx="7936200" cy="1374480"/>
          </a:xfrm>
          <a:prstGeom prst="rect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Um dia u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fessor de Química de um grande colégio, enquanto a turma estava no laboratório,  notou que um jovem coçava continuamente as costas e esticava-se como se elas doess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comb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1643" r="0" b="16240"/>
          <a:stretch/>
        </p:blipFill>
        <p:spPr>
          <a:xfrm>
            <a:off x="1506600" y="453960"/>
            <a:ext cx="6129360" cy="4448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8360" y="4581360"/>
            <a:ext cx="8207280" cy="1618560"/>
          </a:xfrm>
          <a:prstGeom prst="rect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o ser questionado, o aluno respondeu que tinha uma bala alojada nas costas, pois tinha sido alvejado quando lutava contra os Fascistas do seu país, que estavam tentando derrubar o governo e instalar um novo regime, um “</a:t>
            </a:r>
            <a:r>
              <a:rPr b="1" i="1" lang="en-US" sz="2000" spc="-1" strike="noStrike" u="sng">
                <a:solidFill>
                  <a:srgbClr val="ff9933"/>
                </a:solidFill>
                <a:uFillTx/>
                <a:latin typeface="Tahoma"/>
              </a:rPr>
              <a:t>outro mundo possível</a:t>
            </a:r>
            <a:r>
              <a:rPr b="1" i="1" lang="en-US" sz="20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comb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90560" y="890640"/>
            <a:ext cx="7485120" cy="5040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11640" y="765000"/>
            <a:ext cx="4176720" cy="340092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No meio do relato ele olhou para o professor e pergunto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O senhor Professor sabe  como se capturam os porcos selvagen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Não, respondeu o profes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82480" y="404640"/>
            <a:ext cx="7979040" cy="541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640" y="4076640"/>
            <a:ext cx="8064720" cy="224100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turam-se os porcos selvagens encontrando um lugar adequado na floresta e lançando algum milho no chã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s porcos vêm todos os dias comer o milho gratui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ando eles se acostumam a vir todos os dias, coloca-se uma cerca. Mas só de um lado do lugar onde eles se acostumaram a v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9000">
    <p:comb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23164" r="0" b="11009"/>
          <a:stretch/>
        </p:blipFill>
        <p:spPr>
          <a:xfrm>
            <a:off x="708120" y="514440"/>
            <a:ext cx="7723080" cy="3274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4365720"/>
            <a:ext cx="8353440" cy="1936080"/>
          </a:xfrm>
          <a:prstGeom prst="rect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ando eles se acostumam com a cerca, eles voltam para comer o milho e coloca-se, do outro lado, uma nova cer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is uma vez eles se acostumam e voltam para com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tinua-se assim, até colocar os quatro lados da cerca em volta deles, com uma porta no último 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1000"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9216" r="0" b="0"/>
          <a:stretch/>
        </p:blipFill>
        <p:spPr>
          <a:xfrm>
            <a:off x="-117360" y="-11160"/>
            <a:ext cx="9372600" cy="6869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5084640"/>
            <a:ext cx="8713800" cy="1777320"/>
          </a:xfrm>
          <a:prstGeom prst="rect">
            <a:avLst/>
          </a:prstGeom>
          <a:solidFill>
            <a:srgbClr val="0000ff">
              <a:alpha val="58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s porcos, que já se acostumaram  ao milho fácil e às cercas e continuam a vi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ntão, fecha-se a porta e captura-se o grupo inteiro.                                                  E assim, em pouco tempo, os porcos perdem a sua liber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9000">
    <p:comb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alphaModFix amt="63000"/>
          </a:blip>
          <a:srcRect l="11511" t="13619" r="0" b="-431"/>
          <a:stretch/>
        </p:blipFill>
        <p:spPr>
          <a:xfrm>
            <a:off x="468360" y="555480"/>
            <a:ext cx="8139240" cy="5689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solidFill>
            <a:srgbClr val="3366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les ficam correndo e dando voltas dentro das cercas, mas logo voltam a comer o milho fácil e gratuito. E ficam tão acostumados a ele, que esquecem como caçar na floresta             por si próprios. E por isso, aceitam a servid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738520" cy="2054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348000" y="476280"/>
            <a:ext cx="5256360" cy="5912280"/>
          </a:xfrm>
          <a:prstGeom prst="rect">
            <a:avLst/>
          </a:prstGeom>
          <a:gradFill rotWithShape="0">
            <a:gsLst>
              <a:gs pos="0">
                <a:srgbClr val="006600">
                  <a:alpha val="17254"/>
                </a:srgbClr>
              </a:gs>
              <a:gs pos="100000">
                <a:srgbClr val="00cc99">
                  <a:alpha val="1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O jovem, então, disse ao professor que </a:t>
            </a:r>
            <a:r>
              <a:rPr b="1" i="1" lang="pt-BR" sz="1800" spc="-1" strike="noStrike">
                <a:solidFill>
                  <a:srgbClr val="ffffff"/>
                </a:solidFill>
                <a:latin typeface="Arial Unicode MS"/>
              </a:rPr>
              <a:t>era isso o que ele via acontecer ao seu paí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O governo ficava empurrando o povo para o Capitalismo e espalhando o milho gratuito, na forma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sopa aos excluídos, para conter revolt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programas de televisão manipulador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futebol como um bem soci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justiça com duas caras ( ricos e pobr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impostos variados sobre os mais humild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estatutos de proteção banqueiros e polític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reformas de muitos milhares para os seu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programas falsos de bem-estar socia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 Unicode MS"/>
              </a:rPr>
              <a:t>medicina e medicamentos para quem dinhei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9000">
    <p:comb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1:13:49Z</dcterms:created>
  <dc:creator>MARIA CRISTINA</dc:creator>
  <dc:description>JMF</dc:description>
  <dc:language>en-US</dc:language>
  <cp:lastModifiedBy>Jose Manuel Ferreira</cp:lastModifiedBy>
  <dcterms:modified xsi:type="dcterms:W3CDTF">2010-04-16T10:44:39Z</dcterms:modified>
  <cp:revision>49</cp:revision>
  <dc:subject/>
  <dc:title>Capturar porcos</dc:title>
</cp:coreProperties>
</file>