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Secret%20Garden%20-%20White%20Stones%20-%20ILLUMINATION-16x11025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AF9-22F7-4735-9BB1-8F636B8F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858-4210-498A-AF70-19797AE5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36A-AD8B-4B5D-B03C-A682B9BD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046-6F46-4CEA-BB8A-107C4F8D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5FB-7E26-4DC4-886C-01341AD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1DA-3DE5-4E99-8781-69F38A2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456-8AF9-47F2-A7A8-85F5723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AAC-F17E-4FF6-8FA9-FA3352C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4D4-E0A8-4642-9608-035E1FA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322-2807-46A9-9FE8-673FFD2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F51-9BAD-46CE-A233-86EFC640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2A1-7761-491C-B5BC-A4AB37D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FECD-9471-486E-B3A9-9614B8FA7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840" y="79200"/>
            <a:ext cx="9072720" cy="671544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0160" y="231840"/>
            <a:ext cx="8712000" cy="642780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385920"/>
            <a:ext cx="8353440" cy="608616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cret%20Garden%20-%20White%20Stones%20-%20ILLUMINATION-16x11025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8323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42920" y="1916280"/>
            <a:ext cx="7056360" cy="2519280"/>
            <a:chOff x="1042920" y="1916280"/>
            <a:chExt cx="7056360" cy="2519280"/>
          </a:xfrm>
        </p:grpSpPr>
        <p:sp>
          <p:nvSpPr>
            <p:cNvPr id="46" name=""/>
            <p:cNvSpPr/>
            <p:nvPr/>
          </p:nvSpPr>
          <p:spPr>
            <a:xfrm>
              <a:off x="1042920" y="1916280"/>
              <a:ext cx="7056360" cy="2519280"/>
            </a:xfrm>
            <a:prstGeom prst="flowChartAlternateProcess">
              <a:avLst/>
            </a:prstGeom>
            <a:gradFill rotWithShape="0">
              <a:gsLst>
                <a:gs pos="0">
                  <a:srgbClr val="006600">
                    <a:alpha val="63137"/>
                  </a:srgbClr>
                </a:gs>
                <a:gs pos="50000">
                  <a:srgbClr val="00cc99">
                    <a:alpha val="62352"/>
                  </a:srgbClr>
                </a:gs>
                <a:gs pos="100000">
                  <a:srgbClr val="006600">
                    <a:alpha val="63137"/>
                  </a:srgbClr>
                </a:gs>
              </a:gsLst>
              <a:lin ang="108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290600" y="2203560"/>
              <a:ext cx="6562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abe como capturar porcos 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elvagens?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2641680" y="666720"/>
            <a:ext cx="3859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ffff">
                    <a:alpha val="73000"/>
                  </a:srgbClr>
                </a:solidFill>
                <a:latin typeface="Arial Black"/>
              </a:rPr>
              <a:t>AUMENTE  O  SOM!</a:t>
            </a:r>
            <a:endParaRPr b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ffff">
                  <a:alpha val="73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5516640"/>
            <a:ext cx="74170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formatado por eliofernandes@uol.com.br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59320" y="5877000"/>
            <a:ext cx="23079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bril  2008</a:t>
            </a:r>
            <a:endParaRPr b="1" lang="en-US" sz="16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437000"/>
            <a:ext cx="73440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ormatado por Cris So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DAPTAÇÃO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VA VISÃ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(JAN-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85080" y="6381720"/>
            <a:ext cx="287280" cy="476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901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901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401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4113360" cy="469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19640" y="2109960"/>
            <a:ext cx="3384720" cy="28508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Sempre e sempre novas leis de acordo com os que dominam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udo a custo da perda contínua da liberdade (expressão, economica, cultural, so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Migalha a migal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1576" r="0" b="29877"/>
          <a:stretch/>
        </p:blipFill>
        <p:spPr>
          <a:xfrm>
            <a:off x="1496880" y="549360"/>
            <a:ext cx="6150240" cy="327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508640"/>
            <a:ext cx="8207280" cy="1557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vemos lembrarmo-nos que NÃO EXISTE ESTE NEGÓCIO DE ALMOÇOS GRÁTIS e, também, que NÃO É POSSÍVEL ALGUÉM PRESTAR UM SERVIÇO MAIS BARATO DO QUE SE VOCÊ MESMO O FIZ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1880" y="1268280"/>
            <a:ext cx="5319720" cy="361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1268280"/>
            <a:ext cx="7704000" cy="346068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nalmente, se você percebe que toda esta maravilhosa “ajuda” governamental opõe-se ao futuro da democracia no nosso país, você irá reenviar esta mensagem para os seus amig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s se você concorda que políticos passam pedir mais poder para as classes deles, tirarem a liberdade e o dinheiro a todos nós para beneficiar a sua classe dominante de banqueiros, grandes empresas,  então você, provavelmente, irá apagar  este P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que Deus o ajude quando trancarem a por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966960"/>
            <a:ext cx="4653000" cy="49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08720" y="1268280"/>
            <a:ext cx="2952720" cy="4400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á faz algum tempo que o milho está sendo lançado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s cercas estão sendo colocadas aos pouc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mperceptive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11339" r="0" b="0"/>
          <a:stretch/>
        </p:blipFill>
        <p:spPr>
          <a:xfrm>
            <a:off x="979560" y="485640"/>
            <a:ext cx="7157880" cy="42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6560" y="4853160"/>
            <a:ext cx="53294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quando menos se espera.. PRO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RANCAM A POR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22600" y="465120"/>
            <a:ext cx="5697360" cy="438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013360"/>
            <a:ext cx="7936200" cy="13744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m dia u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fessor de Química de um grande colégio, enquanto a turma estava no laboratório,  notou que um jovem coçava continuamente as costas e esticava-se como se elas doess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1643" r="0" b="16240"/>
          <a:stretch/>
        </p:blipFill>
        <p:spPr>
          <a:xfrm>
            <a:off x="1506600" y="453960"/>
            <a:ext cx="6129360" cy="4448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4581360"/>
            <a:ext cx="8207280" cy="161856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o ser questionado, o aluno respondeu que tinha uma bala alojada nas costas, pois tinha sido alvejado quando lutava contra os Fascistas do seu país, que estavam tentando derrubar o governo e instalar um novo regime, um “</a:t>
            </a:r>
            <a:r>
              <a:rPr b="1" i="1" lang="en-US" sz="2000" spc="-1" strike="noStrike" u="sng">
                <a:solidFill>
                  <a:srgbClr val="ff9933"/>
                </a:solidFill>
                <a:uFillTx/>
                <a:latin typeface="Tahoma"/>
              </a:rPr>
              <a:t>outro mundo possível</a:t>
            </a:r>
            <a:r>
              <a:rPr b="1" i="1" lang="en-US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0560" y="890640"/>
            <a:ext cx="748512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765000"/>
            <a:ext cx="4176720" cy="340092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o meio do relato ele olhou para o professor e pergunto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senhor Professor sabe  como se capturam os porcos selvage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ão, respondeu o prof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79040" cy="541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4076640"/>
            <a:ext cx="8064720" cy="2241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turam-se os porcos selvagens encontrando um lugar adequado na floresta e lançando algum milho no ch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 vêm todos os dias comer o milho gratu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a vir todos os dias, coloca-se uma cerca. Mas só de um lado do lugar onde eles se acostumaram a v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23164" r="0" b="11009"/>
          <a:stretch/>
        </p:blipFill>
        <p:spPr>
          <a:xfrm>
            <a:off x="708120" y="514440"/>
            <a:ext cx="7723080" cy="327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4365720"/>
            <a:ext cx="8353440" cy="19360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com a cerca, eles voltam para comer o milho e coloca-se, do outro lado, uma nova cer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is uma vez eles se acostumam e voltam para com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tinua-se assim, até colocar os quatro lados da cerca em volta deles, com uma porta no último 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9216" r="0" b="0"/>
          <a:stretch/>
        </p:blipFill>
        <p:spPr>
          <a:xfrm>
            <a:off x="-117360" y="-11160"/>
            <a:ext cx="9372600" cy="686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5084640"/>
            <a:ext cx="8713800" cy="1777320"/>
          </a:xfrm>
          <a:prstGeom prst="rect">
            <a:avLst/>
          </a:prstGeom>
          <a:solidFill>
            <a:srgbClr val="0000ff">
              <a:alpha val="58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, que já se acostumaram  ao milho fácil e às cercas e continuam a vi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tão, fecha-se a porta e captura-se o grupo inteiro.                                                  E assim, em pouco tempo, os porcos perdem a sua liber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alphaModFix amt="63000"/>
          </a:blip>
          <a:srcRect l="11511" t="13619" r="0" b="-431"/>
          <a:stretch/>
        </p:blipFill>
        <p:spPr>
          <a:xfrm>
            <a:off x="468360" y="555480"/>
            <a:ext cx="8139240" cy="568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s ficam correndo e dando voltas dentro das cercas, mas logo voltam a comer o milho fácil e gratuito. E ficam tão acostumados a ele, que esquecem como caçar na floresta             por si próprios. E por isso, aceitam a servid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38520" cy="2054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48000" y="476280"/>
            <a:ext cx="5256360" cy="5912280"/>
          </a:xfrm>
          <a:prstGeom prst="rect">
            <a:avLst/>
          </a:prstGeom>
          <a:gradFill rotWithShape="0">
            <a:gsLst>
              <a:gs pos="0">
                <a:srgbClr val="006600">
                  <a:alpha val="17254"/>
                </a:srgbClr>
              </a:gs>
              <a:gs pos="100000">
                <a:srgbClr val="00cc99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jovem, então, disse ao professor que </a:t>
            </a: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era isso o que ele via acontecer ao seu paí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governo ficava empurrando o povo para o Capitalismo e espalhando o milho gratuito, na forma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sopa aos excluídos, para conter revolt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de televisão manipula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futebol como um bem soc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justiça com duas caras ( ricos e pob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impostos variados sobre os mais humild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estatutos de proteção banqueiros e polít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reformas de muitos milhares para os se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falsos de bem-estar soci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medicina e medicamentos para quem dinh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comb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13:49Z</dcterms:created>
  <dc:creator>MARIA CRISTINA</dc:creator>
  <dc:description>JMF</dc:description>
  <dc:language>en-US</dc:language>
  <cp:lastModifiedBy>Jose Manuel Ferreira</cp:lastModifiedBy>
  <dcterms:modified xsi:type="dcterms:W3CDTF">2010-04-16T10:44:39Z</dcterms:modified>
  <cp:revision>49</cp:revision>
  <dc:subject/>
  <dc:title>Capturar porcos</dc:title>
</cp:coreProperties>
</file>