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EF3-733C-4F5E-93E0-6C0F1994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A6E-B564-4775-8D07-E6C5CB11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261-8D43-4C46-AABB-35265048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D88-B7A2-4AAC-A401-B4ACE49B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802-11FC-4CC5-B80C-BB36A790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7CE-DDF7-4180-AAE9-B02D8208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E67-4AAA-4FFA-A90E-E8981730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C85-5DE0-43E0-B8B0-FDAC4117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C0B-C67A-4571-A6F0-E686A733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B7A-218D-4099-BD03-639207E1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2FD-50F1-47CF-AEA2-C54291B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3DE-3971-4EE0-BBF9-82983063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CDCF-B623-4D25-9CEA-F615A0D5A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Australian Sunrise"/>
              </a:rPr>
              <a:t>GENTE RARA IV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432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29080" y="0"/>
            <a:ext cx="4024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87400" y="0"/>
            <a:ext cx="556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63360"/>
            <a:ext cx="79930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12960" y="0"/>
            <a:ext cx="55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-15840"/>
            <a:ext cx="784836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6360" y="0"/>
            <a:ext cx="673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46240"/>
            <a:ext cx="9144000" cy="63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9360"/>
            <a:ext cx="76327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2:39:44Z</dcterms:created>
  <dc:creator>Juan</dc:creator>
  <dc:description/>
  <dc:language>en-US</dc:language>
  <cp:lastModifiedBy>Juan</cp:lastModifiedBy>
  <dcterms:modified xsi:type="dcterms:W3CDTF">2007-11-30T21:52:10Z</dcterms:modified>
  <cp:revision>5</cp:revision>
  <dc:subject/>
  <dc:title>GENTE RARA I</dc:title>
</cp:coreProperties>
</file>