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944-74EC-4A88-ABE4-F012DD9A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04C-3556-4BEC-8205-EAA698A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57-640B-44A1-A664-4EAB326C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0ED-CA74-41DD-831F-4A63A280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DDE-068C-4B24-AD3E-D076AACE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A5D-1293-4405-BF97-620E91F6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B95-D5F2-470F-8B1B-DA5C7B25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F45-D1B4-4DFB-8649-C7719123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EA4-52B5-4422-8BAA-C2BB4D5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EB2-2AFC-4E78-ACF0-6E312C9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16A-7277-477F-B4D1-7B92B5E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9F4-6B9E-4085-843D-D4B5E02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1FF2-9894-412B-BD58-05AE74580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Australian Sunrise"/>
              </a:rPr>
              <a:t>GENTE RARA IV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23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4024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87400" y="0"/>
            <a:ext cx="556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63360"/>
            <a:ext cx="79930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12960" y="0"/>
            <a:ext cx="55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-15840"/>
            <a:ext cx="784836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6360" y="0"/>
            <a:ext cx="67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3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9360"/>
            <a:ext cx="76327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2:39:44Z</dcterms:created>
  <dc:creator>Juan</dc:creator>
  <dc:description/>
  <dc:language>en-US</dc:language>
  <cp:lastModifiedBy>Juan</cp:lastModifiedBy>
  <dcterms:modified xsi:type="dcterms:W3CDTF">2007-11-30T21:52:10Z</dcterms:modified>
  <cp:revision>5</cp:revision>
  <dc:subject/>
  <dc:title>GENTE RARA I</dc:title>
</cp:coreProperties>
</file>