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AFD-F79B-4D47-A93C-303A789B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51A-EA28-4EC5-892E-B46760F3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4C5-A725-43E9-8C96-F205B7AA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5AB-2BFF-4B72-A4EC-08F42F5C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9C4-5EDF-4340-8FAC-5FFDADCC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948-C9C3-416F-A30A-FD775F7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647-5213-457A-83C8-34625279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7C9-2D31-4ECC-9D5B-7B1C0FB4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A3F-C902-4804-A010-714C662E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B51-080E-4EA1-BD38-38F34CA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7FE-1591-477A-B1CE-18166BB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75B-D234-49B2-9842-2F9710A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D75-1AEC-44DE-A80D-3CB064D9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20" y="2492280"/>
            <a:ext cx="91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VIVENDO E APR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alácio de Versailles – Pa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896000" cy="44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5300640"/>
            <a:ext cx="88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ioria dos casamentos acontecia em maio e junh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que o cheiro das pessoas ainda estava suport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595008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, para esconder o mau cheiro, as noivas carregavam buquês de f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to ao corpo, tentando disfarçar o odor que vinha das partes ínt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í ser maio o “mês das noivas” e essa é a origem do buquê que carreg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950080"/>
            <a:ext cx="835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festas? Nesses dias a cozinha do palácio conseguia preparar um banqu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1.500 pessoas, sem água encanada e sem a mínima condição de higi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0720" y="0"/>
            <a:ext cx="7812000" cy="4557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4941720"/>
            <a:ext cx="87487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s salas, com telhados sem forro, as vigas de madeira que os sustentav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ram o melhor lugar para os cães, gatos, ratos e insetos se aquecerem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chovia, as goteiras forçavam os animais a pularem para o ch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assim nossa expressão “está chovendo canivete” é o equivalente, 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glês, a “it´s raining cats and dogs” (está chovendo gatos e cachorro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500280"/>
            <a:ext cx="914400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29080" y="35002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5080" y="3500280"/>
            <a:ext cx="2087640" cy="201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39640" y="316080"/>
            <a:ext cx="2395800" cy="203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56536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78136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obreza e os ricos utilizavam pratos de estanho, e certos tipos de ali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vam o material, fazendo com que muita gente morresse envene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348000" y="333360"/>
            <a:ext cx="2395440" cy="203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156360" y="333360"/>
            <a:ext cx="2395440" cy="203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99160"/>
            <a:ext cx="84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ém usavam copos de estanho para cerveja ou uísque e essa combin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às vezes, deixava o indivíduo “no chão”, numa espécie de narcolep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duzida pela mistura de bebida alcoólica com óxido de esta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138640"/>
            <a:ext cx="820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sando que estivesse morto, os convivas preparavam o enter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corpo era colocado na mesa da cozinha e, por alguns dias, a família fica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 volta dele, comendo e bebendo e esperando para ver se acordava ou n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í surgiu o velório, que é a vigília junto ao caix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6640"/>
            <a:ext cx="9144000" cy="494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44620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aquela época, na Inglaterra, com território pequeno, onde nem sempre havia espaço para se enterrar os mortos, os caixões eram abertos, retirados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sos, colocados em ossários, e o túmulo usado para outro cadáv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s às vezes, ao abrirem os caixões, percebiam que havia arranhões na tampa, pelo lado de dentro, o que indicava que aquele morto havia sido enterrado v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9144000" cy="494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317680"/>
            <a:ext cx="8785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im surgiu a idéia de, ao se fechar o caixão, amarrar uma tira de pano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ulso do defunto, passá-la por um buraco feito no caixão e amarrá-la a um s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ós o enterro alguém ficava de plantão ao lado do túmulo durante alguns 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 o indivíduo acordasse, o movimento de seu braço faria o sino tocar e e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ia “saved by de bell”, ou literalmente “salvo pelo gongo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ressão que utilizamos até os dias de ho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84360" y="5229360"/>
            <a:ext cx="4392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Arial"/>
              </a:rPr>
              <a:t>Acabou-se a hi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Morreu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</a:rPr>
              <a:t>Victória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bração a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924280"/>
            <a:ext cx="640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m pouco de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os anos 1600 – 17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5080" y="6093000"/>
            <a:ext cx="64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magine, por um momento, como eram aqueles tem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45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e chambre du roi – O quarto do rei..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 tinha banhe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11520" y="0"/>
            <a:ext cx="4632480" cy="602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32480" cy="6021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86520"/>
            <a:ext cx="91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ão havia banheiros, escova de dentes, perfumes, desodorantes ou papel higiên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solidFill>
            <a:srgbClr val="586c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59000" y="4148280"/>
            <a:ext cx="6597720" cy="2709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3961080" cy="335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6864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excrescências humanas eram despejadas pelas janelas do paláci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95008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mo no inverno, as pessoas eram abanadas para espantar o m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iro que exalava delas, pois não se tomava banho devido ao fr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275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primeiro banho do ano era tomado em ma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192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banhos eram tomados numa única tina, enorme, cheia de água quen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 o chefe da família tinha o privilégio do primeiro banho na água lim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pois, sem trocar a água, vinham os outros homens da casa, por or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 idade, as mulheres também por idade, e por fim, as crianç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bebês eram os últimos a tomarem ba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chegava a vez deles, a água já estava 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ja que era possível “perder” um bebê lá den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r isso a expressão”don´t throw the baby out with the bath water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teralmente “não jogue o bebê fora junto com a água do banh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1:28:14Z</dcterms:created>
  <dc:creator>User</dc:creator>
  <dc:description/>
  <dc:language>en-US</dc:language>
  <cp:lastModifiedBy>User</cp:lastModifiedBy>
  <dcterms:modified xsi:type="dcterms:W3CDTF">2009-07-26T02:50:35Z</dcterms:modified>
  <cp:revision>45</cp:revision>
  <dc:subject/>
  <dc:title>Slide 1</dc:title>
</cp:coreProperties>
</file>