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2F08-C46A-412D-A1D8-64F7FA53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2DE-EC18-4BDC-944E-D68990CB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6E0-9FAA-4AB3-AAB3-DFC1B5F0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2CA-1540-4C4B-8CB9-D7C4EF13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38FC-B286-4563-AE6B-E52992F6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3998-47AD-4657-B7F0-5193A686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6B7A-D88E-47F4-9051-A21D15C6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1195-467A-4F8C-9457-727A8AFE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6895-CCD0-496D-8FCF-A5950A32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B97B-E85D-4694-AA27-7FE05819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AD2A-A516-41E0-A2C9-4CF911F8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1C6-FE37-44B6-9E94-B02A7B9B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CD8B-5A2B-4292-8AF6-252FA7CA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8EAF-86A5-48FF-90D6-3549997F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9AD3-D4BF-425E-BB59-C67355D9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A47B-C1FD-471D-A26D-9284690D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8189-08FE-4042-BB6B-16CAA8B3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BFA4C-FDC3-4688-A794-4E4FDD66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F1A0-DCF7-43EC-8913-F9851EBB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1B093-FF25-4B2B-AC8A-73577F88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4CB55-34DD-45DB-BE5B-7B10CCB1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4E55C-BD1E-4FC5-A640-8A723B4D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1B5-931B-45CF-B0DE-FDA53606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538CE-98DB-46CA-8528-4A3F48A0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A06DF-9FBC-4C18-AE9B-D9E7CBC0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40879-E313-4E18-9389-F667221F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2B60A-5E75-4850-9513-50FEFF58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1EDAD-79AA-4D19-AFA9-FC85CBBA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5DF43-90B4-4EF8-AA05-35706CE1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3C11B-5686-4F7D-B078-126529AA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C8B4B-792E-456F-BE47-ACF35E04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10A4C-13AB-4816-9ADB-0F695897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43E89-A54B-4A13-8683-EFF2C3F3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C9E-0980-408A-A51C-F22DBBF1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34882-EC0D-4192-9D3A-1FBB85C9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D0101-7DE4-4474-B061-AA5B5212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D30B9-E268-4E5E-8505-A998679D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AB778-2455-4813-A5FA-7823B832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EA2DC-9688-4276-B922-ACA16D23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588A9-6346-4A9B-A985-8B70708C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95CB9-7B07-4191-A0A7-80BD4D28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74133-6A29-4F29-A5D8-9B2FA35C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4A728-5896-4B1F-A18C-F1899823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8763F-4C43-4ED0-AAC7-955F7DD7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FBA-722C-47AC-9BDA-84709E34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A0803-AE9A-4DBB-A71B-AB93C174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0B24F-856B-4B1F-9DFB-648F6639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93BCB-F3F9-4924-BD2E-446661CB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E3904-8752-489C-99F2-25D2DECC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CFB1C-B086-4618-B65E-FB010B41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D8531-640A-49A0-B3A2-1E3E0E0B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FA01B-D8E9-45C4-AC8C-5FF17423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15704-FC46-492C-B0F6-96679134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35C0C-D65D-46C0-8F03-2A64CF94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09327-5373-447B-800A-AAEE6344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F9C-9BFD-41D7-B890-D60661FE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C9FC4-10A1-4E74-A442-0326E557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4DB46-A427-4CEE-9431-F4749262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9C194-4F0A-47C2-BA4F-355F279E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B4FB7-111E-48F1-BCC5-D2C5F01D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56C94-7598-4370-B7B9-12DDE0C2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024C5-EE35-45FF-8E00-F8E9267C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765E3-63E3-42D1-A48A-ABBB70F8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EB2F4-9826-4B2D-B012-AD65BA52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BF780-53D4-4E15-9E33-35B08895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B2C3B-3B01-45FF-A233-A1B89F28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D20-F3BA-4E9A-AFF5-F5CBC987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F4886-0E9E-4C78-8F7B-61A47E51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81BDE-9C76-4F75-9B31-A3AE8411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825E8-9384-4B32-A364-CD93DA07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71E5E-163A-4B18-9B3E-F515C7EA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C3C6F-3413-42A2-9DBF-C21C88A1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D0692-9AE2-4182-9984-A76B644C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62690-C03B-4DDD-B3D4-416D4CF4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30024-B94C-48A8-83EF-653E062B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0F720-870C-4DA1-A39E-80F6FFA5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5AF17-F6E8-4BBB-A52F-38BE4F8F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586-5478-44CE-8BEA-9896A99D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65204-D335-470E-8CF7-EEE1F985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EAB2B-60BC-4A45-8A90-08FC11B8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93453-D813-43E8-92ED-3D9448DB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B61FE-FE38-4A8F-A02D-9AA2E5F1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357CF-FDD3-4CD9-83AA-26017039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10D-5981-4513-85E9-0A0EA475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B722-95F5-462F-97D5-838EDAD7D8F8}" type="slidenum">
              <a:rPr b="0" lang="fr-F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E5C6-7817-4815-B623-FB1E92BC622F}" type="slidenum">
              <a:rPr b="0" lang="fr-F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orme libre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orme libre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orme libre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orme libre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orme libre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orme libre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orme libre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orme libre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orme libre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orme libre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orme libre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orme libre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orme libre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orme libre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orme libre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0EBC-5F67-4C73-94E3-A1E09B39EFD9}" type="slidenum">
              <a:rPr b="0" lang="fr-F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AF14-FB53-4053-BF77-CBB37DF88BE4}" type="slidenum">
              <a:rPr b="0" lang="fr-F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3E2F-F251-46C0-9533-C5782133D056}" type="slidenum">
              <a:rPr b="0" lang="fr-F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F7CF-1841-412D-8EC4-0EDFF44E5402}" type="slidenum">
              <a:rPr b="0" lang="fr-F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Connecteur droit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e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Connecteur droit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Connecteur droit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Connecteur droit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e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Connecteur droit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Connecteur droit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Connecteur droit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e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Connecteur droit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Connecteur droit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Connecteur droit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3EBC-0568-46A5-A4D5-D9B5572CDE86}" type="slidenum">
              <a:rPr b="0" lang="fr-F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r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rbel"/>
              </a:rPr>
              <a:t>par joeba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2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 1" descr="1234200621_ice_age_09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Image 1" descr="1234200648_ice_age_12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Image 1" descr="1234200657_ice_age_10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Image 1" descr="1234200661_ice_age_13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Image 1" descr="1234200671_ice_age_11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Image 1" descr="1234200699_ice_age_14.jpg"/>
          <p:cNvPicPr/>
          <p:nvPr/>
        </p:nvPicPr>
        <p:blipFill>
          <a:blip r:embed="rId1"/>
          <a:stretch/>
        </p:blipFill>
        <p:spPr>
          <a:xfrm>
            <a:off x="2043000" y="0"/>
            <a:ext cx="5058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Image 1" descr="1234200704_ice_age_15.jpg"/>
          <p:cNvPicPr/>
          <p:nvPr/>
        </p:nvPicPr>
        <p:blipFill>
          <a:blip r:embed="rId1"/>
          <a:stretch/>
        </p:blipFill>
        <p:spPr>
          <a:xfrm>
            <a:off x="2136600" y="0"/>
            <a:ext cx="4869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Image 1" descr="1234200726_ice_age_17.jpg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Image 1" descr="1234200727_ice_age_16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Image 1" descr="1235587282_hell_street_5.jpg"/>
          <p:cNvPicPr/>
          <p:nvPr/>
        </p:nvPicPr>
        <p:blipFill>
          <a:blip r:embed="rId1"/>
          <a:stretch/>
        </p:blipFill>
        <p:spPr>
          <a:xfrm>
            <a:off x="1125360" y="0"/>
            <a:ext cx="689328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 1" descr="1234200594_ice_age_01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Image 1" descr="1235587244_hell_street_1.jp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Image 1" descr="1235587268_hell_street_2.jpg"/>
          <p:cNvPicPr/>
          <p:nvPr/>
        </p:nvPicPr>
        <p:blipFill>
          <a:blip r:embed="rId1"/>
          <a:stretch/>
        </p:blipFill>
        <p:spPr>
          <a:xfrm>
            <a:off x="0" y="466560"/>
            <a:ext cx="9144000" cy="592308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Image 1" descr="1235587275_hell_street_6.jpg"/>
          <p:cNvPicPr/>
          <p:nvPr/>
        </p:nvPicPr>
        <p:blipFill>
          <a:blip r:embed="rId1"/>
          <a:stretch/>
        </p:blipFill>
        <p:spPr>
          <a:xfrm>
            <a:off x="1138320" y="0"/>
            <a:ext cx="686592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Image 1" descr="1235587303_hell_street_3.jpg"/>
          <p:cNvPicPr/>
          <p:nvPr/>
        </p:nvPicPr>
        <p:blipFill>
          <a:blip r:embed="rId1"/>
          <a:stretch/>
        </p:blipFill>
        <p:spPr>
          <a:xfrm>
            <a:off x="438120" y="0"/>
            <a:ext cx="826632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Image 1" descr="1235587304_hell_street_4.jpg"/>
          <p:cNvPicPr/>
          <p:nvPr/>
        </p:nvPicPr>
        <p:blipFill>
          <a:blip r:embed="rId1"/>
          <a:stretch/>
        </p:blipFill>
        <p:spPr>
          <a:xfrm>
            <a:off x="2270160" y="0"/>
            <a:ext cx="460368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e 1" descr="1235587364_hell_street_7.jpg"/>
          <p:cNvPicPr/>
          <p:nvPr/>
        </p:nvPicPr>
        <p:blipFill>
          <a:blip r:embed="rId1"/>
          <a:stretch/>
        </p:blipFill>
        <p:spPr>
          <a:xfrm>
            <a:off x="1312920" y="0"/>
            <a:ext cx="651816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Image 1" descr="1234200635_ice_age_03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Image 1" descr="1234200624_ice_age_02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Image 1" descr="1234200602_ice_age_04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Image 1" descr="1234200609_ice_age_06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Image 1" descr="1234200629_ice_age_05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Image 1" descr="1234200620_ice_age_07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Image 1" descr="1234200635_ice_age_08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4:46:42Z</dcterms:created>
  <dc:creator>joebar</dc:creator>
  <dc:description/>
  <dc:language>en-US</dc:language>
  <cp:lastModifiedBy>joebar</cp:lastModifiedBy>
  <dcterms:modified xsi:type="dcterms:W3CDTF">2009-03-10T04:50:15Z</dcterms:modified>
  <cp:revision>1</cp:revision>
  <dc:subject/>
  <dc:title>Peinture sur route</dc:title>
</cp:coreProperties>
</file>