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98A0-91E2-4F9E-A753-651A6FFE9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2080-FBE6-4FCF-8326-AF96D4E51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A32F-36AD-4BF9-9664-88FF7D783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E462-EAD6-4627-8ED7-63F1F2EFA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8A7C9-981C-483D-B6E8-4D36C2740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0D9E1-7542-4B0E-B008-BD0FD1F42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DC08D-D4E6-46AA-873A-2828E7A6A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7DB02-2176-42DA-871D-AED49C485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C2049-209A-4024-8802-C3EB7ECE8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D8745-7314-4BE6-A0E3-BF71AF1B2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34DE4-F846-4A1C-B108-29A37448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24B0-4A02-4001-BDF6-06F585AA5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B7F83-26FB-47E1-A689-9715FD7AD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E0036-75FA-45C9-B9AA-2F12CF4A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385B8-7159-4F11-936B-3AAAEA4EA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193D6-69D0-4243-A1A7-37396E511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5A50A-0383-4D43-9B6A-59033AAE8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DC16B-FB2C-481C-AB8C-4D64A6F70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DA2FB-A6B2-432C-932C-CD2A3421D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1A69B-0719-40B7-907B-055B448E1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66DDF-9CFB-466A-ABD9-6D24E3559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A8E90-D89E-4410-9CCC-956E32AD2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E7CB-17EF-430E-96F2-F927C43F5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5D7E4-9242-443E-809E-0D5FAD888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B596F-FEC3-44CD-B1EF-C82C38DC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738F4-C2BE-49C4-B03D-8E151301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4B391-794D-4645-A1A4-EBAC25B9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40F53-439A-45DB-B745-E8CCA9D1C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B035E-726E-4370-92B1-C59398CE6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E0F7B-3222-495E-A373-652B182BD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BA34E-746D-48A1-877E-A0AFD540A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088E8-77B8-479A-8BA2-654D336A7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60DA0-1DE6-48D5-8C7B-ADCEA4150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6EFD-1CCC-45BC-8511-17B3DF997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31D1F-FA77-489C-B8C0-D1F2F65D7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AEDF1-7502-4FBE-BE3F-7C9AA4BD8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88DCE-7812-467A-B4A4-CFAB9DD06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08EB1-6BAF-4882-A469-5D05144B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3CBEF-A91A-4B63-A40D-31D392FA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834C5-E872-43D9-A053-751ABA75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774C8-AC18-4CC2-A233-05CFDA827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D5FCA-B4E5-4E73-AA84-1ACD7949E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A9EF0-0C0C-40A2-AFED-116D64841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84443-77D7-435C-B168-3881D92A1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C9F5-2F4F-4BE2-80D8-84A3BDAEA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6318D4-34FF-43B3-8FA7-964B0B770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8CAC2-9C11-4E70-900C-4942AE737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BCE7F-FCA4-4060-8115-8C11BCD77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D0781-1628-4D7F-9D57-B19ECBB4B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40274-64F3-457E-8FB1-0D8484C80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FC33B-328A-4013-B96E-C2F01A3B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0DAED-0F48-4A77-90D8-A231DBC5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832A1-F1A7-45E7-8EB5-201DE384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4EE0C-DA05-41C1-AACD-63E44877C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C8A81-C867-4BE6-A236-3E4EC7A6A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AC20-7929-48E0-A89F-8AB741148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664BD-0812-4CF8-B8DF-02F911DF1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5A845-B6E4-45EE-9FBB-71BCA2BE6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5E0AC-22B8-417A-8111-8B378C28B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396A1-D1E6-4D57-8E93-71ECC1DE2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B55E5E-9081-4588-8C87-04B88F50D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E3E13-D6FE-41A4-8B06-38C4CC531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6EB86-9AC0-4EEB-A52E-D0E75758C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427CC-8F5C-41A7-A747-F1842704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EBEBF-7CDB-4EA1-8700-1F460ABF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C8107-9274-4262-917F-F1F95BD6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8008-99F8-4D32-8B5B-6596E530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100FB-2FA8-427B-9ED3-22C59FEBF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9E2AF-9CAF-4FF9-A6AD-5F247F361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22087F-6BD6-47A5-B78C-4F126530A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5A06DB-BDA4-4A89-BA5C-5452BC002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952EAD-2CAA-4FED-8D88-FF89908EA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D65166-BCDC-436D-88F5-BB6728B3A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26E43B-71F6-4BD7-820D-763241A45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10A1DD-A49D-4022-92EF-5333946E9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A0C49B-D841-46C7-B629-B9693E0E9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447D39-0BBC-4DA6-AFB2-078CC7A3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0851-E529-4B5A-872E-0E41BA77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D6ED3E-5A57-4FBD-BA6A-3D28860D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3D08C1-6EDD-48F2-BDCE-6D02A6F8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2FCE5-2A32-4EDE-987B-33042370F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2B2A4E-5957-4FFC-999C-EFE5AD010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08474-23B3-40BB-B196-4728644AA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2260-6EEF-4715-B4EC-87EBC42E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90884-F5E8-4C5A-815A-E1106900FFDD}" type="slidenum">
              <a:rPr b="0" lang="fr-FR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017B0-EE9A-45FE-B05D-BB38051DC5C0}" type="slidenum">
              <a:rPr b="0" lang="fr-FR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Forme libre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Forme libre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Forme libre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Forme libre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Forme libre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Forme libre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Forme libre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Forme libre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Forme libre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Forme libre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Forme libre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Forme libre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Forme libre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Forme libre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Forme libre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0862-4EF1-469E-8150-B0ED542F29DF}" type="slidenum">
              <a:rPr b="0" lang="fr-FR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4D17E-92CA-49F1-A2B8-F81C3E2120AE}" type="slidenum">
              <a:rPr b="0" lang="fr-FR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0B3AD-B8C0-46DC-A6D3-E284039CA596}" type="slidenum">
              <a:rPr b="0" lang="fr-FR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17C2B-BCA5-4584-AB27-5A2FCE21892C}" type="slidenum">
              <a:rPr b="0" lang="fr-FR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Connecteur droit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15" name="Groupe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Connecteur droit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7" name="Connecteur droit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8" name="Connecteur droit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19" name="Groupe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Connecteur droit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1" name="Connecteur droit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2" name="Connecteur droit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23" name="Groupe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Connecteur droit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5" name="Connecteur droit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6" name="Connecteur droit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FD248-8C46-4E29-9471-DFB2C05857FF}" type="slidenum">
              <a:rPr b="0" lang="fr-FR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re 1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010720" cy="209052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rbel"/>
              </a:rPr>
              <a:t>par joebar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advTm="2000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Image 1" descr="1234200621_ice_age_09.jpg"/>
          <p:cNvPicPr/>
          <p:nvPr/>
        </p:nvPicPr>
        <p:blipFill>
          <a:blip r:embed="rId1"/>
          <a:stretch/>
        </p:blipFill>
        <p:spPr>
          <a:xfrm>
            <a:off x="0" y="384120"/>
            <a:ext cx="9144000" cy="6087960"/>
          </a:xfrm>
          <a:prstGeom prst="rect">
            <a:avLst/>
          </a:prstGeom>
          <a:ln w="0">
            <a:noFill/>
          </a:ln>
        </p:spPr>
      </p:pic>
    </p:spTree>
  </p:cSld>
  <p:transition advTm="2000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Image 1" descr="1234200648_ice_age_12.jpg"/>
          <p:cNvPicPr/>
          <p:nvPr/>
        </p:nvPicPr>
        <p:blipFill>
          <a:blip r:embed="rId1"/>
          <a:stretch/>
        </p:blipFill>
        <p:spPr>
          <a:xfrm>
            <a:off x="2287440" y="0"/>
            <a:ext cx="4569120" cy="6858000"/>
          </a:xfrm>
          <a:prstGeom prst="rect">
            <a:avLst/>
          </a:prstGeom>
          <a:ln w="0">
            <a:noFill/>
          </a:ln>
        </p:spPr>
      </p:pic>
    </p:spTree>
  </p:cSld>
  <p:transition advTm="2000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Image 1" descr="1234200657_ice_age_10.jpg"/>
          <p:cNvPicPr/>
          <p:nvPr/>
        </p:nvPicPr>
        <p:blipFill>
          <a:blip r:embed="rId1"/>
          <a:stretch/>
        </p:blipFill>
        <p:spPr>
          <a:xfrm>
            <a:off x="0" y="384120"/>
            <a:ext cx="9144000" cy="6087960"/>
          </a:xfrm>
          <a:prstGeom prst="rect">
            <a:avLst/>
          </a:prstGeom>
          <a:ln w="0">
            <a:noFill/>
          </a:ln>
        </p:spPr>
      </p:pic>
    </p:spTree>
  </p:cSld>
  <p:transition advTm="2000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Image 1" descr="1234200661_ice_age_13.jpg"/>
          <p:cNvPicPr/>
          <p:nvPr/>
        </p:nvPicPr>
        <p:blipFill>
          <a:blip r:embed="rId1"/>
          <a:stretch/>
        </p:blipFill>
        <p:spPr>
          <a:xfrm>
            <a:off x="2287440" y="0"/>
            <a:ext cx="4569120" cy="6858000"/>
          </a:xfrm>
          <a:prstGeom prst="rect">
            <a:avLst/>
          </a:prstGeom>
          <a:ln w="0">
            <a:noFill/>
          </a:ln>
        </p:spPr>
      </p:pic>
    </p:spTree>
  </p:cSld>
  <p:transition advTm="2000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Image 1" descr="1234200671_ice_age_11.jpg"/>
          <p:cNvPicPr/>
          <p:nvPr/>
        </p:nvPicPr>
        <p:blipFill>
          <a:blip r:embed="rId1"/>
          <a:stretch/>
        </p:blipFill>
        <p:spPr>
          <a:xfrm>
            <a:off x="0" y="384120"/>
            <a:ext cx="9144000" cy="6087960"/>
          </a:xfrm>
          <a:prstGeom prst="rect">
            <a:avLst/>
          </a:prstGeom>
          <a:ln w="0">
            <a:noFill/>
          </a:ln>
        </p:spPr>
      </p:pic>
    </p:spTree>
  </p:cSld>
  <p:transition advTm="2000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Image 1" descr="1234200699_ice_age_14.jpg"/>
          <p:cNvPicPr/>
          <p:nvPr/>
        </p:nvPicPr>
        <p:blipFill>
          <a:blip r:embed="rId1"/>
          <a:stretch/>
        </p:blipFill>
        <p:spPr>
          <a:xfrm>
            <a:off x="2043000" y="0"/>
            <a:ext cx="5058000" cy="6858000"/>
          </a:xfrm>
          <a:prstGeom prst="rect">
            <a:avLst/>
          </a:prstGeom>
          <a:ln w="0">
            <a:noFill/>
          </a:ln>
        </p:spPr>
      </p:pic>
    </p:spTree>
  </p:cSld>
  <p:transition advTm="2000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Image 1" descr="1234200704_ice_age_15.jpg"/>
          <p:cNvPicPr/>
          <p:nvPr/>
        </p:nvPicPr>
        <p:blipFill>
          <a:blip r:embed="rId1"/>
          <a:stretch/>
        </p:blipFill>
        <p:spPr>
          <a:xfrm>
            <a:off x="2136600" y="0"/>
            <a:ext cx="4869000" cy="6858000"/>
          </a:xfrm>
          <a:prstGeom prst="rect">
            <a:avLst/>
          </a:prstGeom>
          <a:ln w="0">
            <a:noFill/>
          </a:ln>
        </p:spPr>
      </p:pic>
    </p:spTree>
  </p:cSld>
  <p:transition advTm="2000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Image 1" descr="1234200726_ice_age_17.jpg"/>
          <p:cNvPicPr/>
          <p:nvPr/>
        </p:nvPicPr>
        <p:blipFill>
          <a:blip r:embed="rId1"/>
          <a:stretch/>
        </p:blipFill>
        <p:spPr>
          <a:xfrm>
            <a:off x="2287440" y="0"/>
            <a:ext cx="4569120" cy="6858000"/>
          </a:xfrm>
          <a:prstGeom prst="rect">
            <a:avLst/>
          </a:prstGeom>
          <a:ln w="0">
            <a:noFill/>
          </a:ln>
        </p:spPr>
      </p:pic>
    </p:spTree>
  </p:cSld>
  <p:transition advTm="2000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Image 1" descr="1234200727_ice_age_16.jpg"/>
          <p:cNvPicPr/>
          <p:nvPr/>
        </p:nvPicPr>
        <p:blipFill>
          <a:blip r:embed="rId1"/>
          <a:stretch/>
        </p:blipFill>
        <p:spPr>
          <a:xfrm>
            <a:off x="2286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 advTm="2000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Image 1" descr="1235587282_hell_street_5.jpg"/>
          <p:cNvPicPr/>
          <p:nvPr/>
        </p:nvPicPr>
        <p:blipFill>
          <a:blip r:embed="rId1"/>
          <a:stretch/>
        </p:blipFill>
        <p:spPr>
          <a:xfrm>
            <a:off x="1125360" y="0"/>
            <a:ext cx="6893280" cy="6858000"/>
          </a:xfrm>
          <a:prstGeom prst="rect">
            <a:avLst/>
          </a:prstGeom>
          <a:ln w="0">
            <a:noFill/>
          </a:ln>
        </p:spPr>
      </p:pic>
    </p:spTree>
  </p:cSld>
  <p:transition advTm="2000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Image 1" descr="1234200594_ice_age_01.jpg"/>
          <p:cNvPicPr/>
          <p:nvPr/>
        </p:nvPicPr>
        <p:blipFill>
          <a:blip r:embed="rId1"/>
          <a:stretch/>
        </p:blipFill>
        <p:spPr>
          <a:xfrm>
            <a:off x="0" y="384120"/>
            <a:ext cx="9144000" cy="6087960"/>
          </a:xfrm>
          <a:prstGeom prst="rect">
            <a:avLst/>
          </a:prstGeom>
          <a:ln w="0">
            <a:noFill/>
          </a:ln>
        </p:spPr>
      </p:pic>
    </p:spTree>
  </p:cSld>
  <p:transition advTm="2000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Image 1" descr="1235587244_hell_street_1.jpg"/>
          <p:cNvPicPr/>
          <p:nvPr/>
        </p:nvPicPr>
        <p:blipFill>
          <a:blip r:embed="rId1"/>
          <a:stretch/>
        </p:blipFill>
        <p:spPr>
          <a:xfrm>
            <a:off x="0" y="382680"/>
            <a:ext cx="9144000" cy="6092640"/>
          </a:xfrm>
          <a:prstGeom prst="rect">
            <a:avLst/>
          </a:prstGeom>
          <a:ln w="0">
            <a:noFill/>
          </a:ln>
        </p:spPr>
      </p:pic>
    </p:spTree>
  </p:cSld>
  <p:transition advTm="2000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Image 1" descr="1235587268_hell_street_2.jpg"/>
          <p:cNvPicPr/>
          <p:nvPr/>
        </p:nvPicPr>
        <p:blipFill>
          <a:blip r:embed="rId1"/>
          <a:stretch/>
        </p:blipFill>
        <p:spPr>
          <a:xfrm>
            <a:off x="0" y="466560"/>
            <a:ext cx="9144000" cy="5923080"/>
          </a:xfrm>
          <a:prstGeom prst="rect">
            <a:avLst/>
          </a:prstGeom>
          <a:ln w="0">
            <a:noFill/>
          </a:ln>
        </p:spPr>
      </p:pic>
    </p:spTree>
  </p:cSld>
  <p:transition advTm="2000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Image 1" descr="1235587275_hell_street_6.jpg"/>
          <p:cNvPicPr/>
          <p:nvPr/>
        </p:nvPicPr>
        <p:blipFill>
          <a:blip r:embed="rId1"/>
          <a:stretch/>
        </p:blipFill>
        <p:spPr>
          <a:xfrm>
            <a:off x="1138320" y="0"/>
            <a:ext cx="6865920" cy="6858000"/>
          </a:xfrm>
          <a:prstGeom prst="rect">
            <a:avLst/>
          </a:prstGeom>
          <a:ln w="0">
            <a:noFill/>
          </a:ln>
        </p:spPr>
      </p:pic>
    </p:spTree>
  </p:cSld>
  <p:transition advTm="2000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Image 1" descr="1235587303_hell_street_3.jpg"/>
          <p:cNvPicPr/>
          <p:nvPr/>
        </p:nvPicPr>
        <p:blipFill>
          <a:blip r:embed="rId1"/>
          <a:stretch/>
        </p:blipFill>
        <p:spPr>
          <a:xfrm>
            <a:off x="438120" y="0"/>
            <a:ext cx="8266320" cy="6858000"/>
          </a:xfrm>
          <a:prstGeom prst="rect">
            <a:avLst/>
          </a:prstGeom>
          <a:ln w="0">
            <a:noFill/>
          </a:ln>
        </p:spPr>
      </p:pic>
    </p:spTree>
  </p:cSld>
  <p:transition advTm="2000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Image 1" descr="1235587304_hell_street_4.jpg"/>
          <p:cNvPicPr/>
          <p:nvPr/>
        </p:nvPicPr>
        <p:blipFill>
          <a:blip r:embed="rId1"/>
          <a:stretch/>
        </p:blipFill>
        <p:spPr>
          <a:xfrm>
            <a:off x="2270160" y="0"/>
            <a:ext cx="4603680" cy="6858000"/>
          </a:xfrm>
          <a:prstGeom prst="rect">
            <a:avLst/>
          </a:prstGeom>
          <a:ln w="0">
            <a:noFill/>
          </a:ln>
        </p:spPr>
      </p:pic>
    </p:spTree>
  </p:cSld>
  <p:transition advTm="2000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Image 1" descr="1235587364_hell_street_7.jpg"/>
          <p:cNvPicPr/>
          <p:nvPr/>
        </p:nvPicPr>
        <p:blipFill>
          <a:blip r:embed="rId1"/>
          <a:stretch/>
        </p:blipFill>
        <p:spPr>
          <a:xfrm>
            <a:off x="1312920" y="0"/>
            <a:ext cx="6518160" cy="6858000"/>
          </a:xfrm>
          <a:prstGeom prst="rect">
            <a:avLst/>
          </a:prstGeom>
          <a:ln w="0">
            <a:noFill/>
          </a:ln>
        </p:spPr>
      </p:pic>
    </p:spTree>
  </p:cSld>
  <p:transition advTm="2000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Image 1" descr="1234200635_ice_age_03.jpg"/>
          <p:cNvPicPr/>
          <p:nvPr/>
        </p:nvPicPr>
        <p:blipFill>
          <a:blip r:embed="rId1"/>
          <a:stretch/>
        </p:blipFill>
        <p:spPr>
          <a:xfrm>
            <a:off x="0" y="384120"/>
            <a:ext cx="9144000" cy="6087960"/>
          </a:xfrm>
          <a:prstGeom prst="rect">
            <a:avLst/>
          </a:prstGeom>
          <a:ln w="0">
            <a:noFill/>
          </a:ln>
        </p:spPr>
      </p:pic>
    </p:spTree>
  </p:cSld>
  <p:transition advTm="2000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Image 1" descr="1234200624_ice_age_02.jpg"/>
          <p:cNvPicPr/>
          <p:nvPr/>
        </p:nvPicPr>
        <p:blipFill>
          <a:blip r:embed="rId1"/>
          <a:stretch/>
        </p:blipFill>
        <p:spPr>
          <a:xfrm>
            <a:off x="0" y="384120"/>
            <a:ext cx="9144000" cy="6087960"/>
          </a:xfrm>
          <a:prstGeom prst="rect">
            <a:avLst/>
          </a:prstGeom>
          <a:ln w="0">
            <a:noFill/>
          </a:ln>
        </p:spPr>
      </p:pic>
    </p:spTree>
  </p:cSld>
  <p:transition advTm="2000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Image 1" descr="1234200602_ice_age_04.jpg"/>
          <p:cNvPicPr/>
          <p:nvPr/>
        </p:nvPicPr>
        <p:blipFill>
          <a:blip r:embed="rId1"/>
          <a:stretch/>
        </p:blipFill>
        <p:spPr>
          <a:xfrm>
            <a:off x="0" y="384120"/>
            <a:ext cx="9144000" cy="6087960"/>
          </a:xfrm>
          <a:prstGeom prst="rect">
            <a:avLst/>
          </a:prstGeom>
          <a:ln w="0">
            <a:noFill/>
          </a:ln>
        </p:spPr>
      </p:pic>
    </p:spTree>
  </p:cSld>
  <p:transition advTm="2000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Image 1" descr="1234200609_ice_age_06.jpg"/>
          <p:cNvPicPr/>
          <p:nvPr/>
        </p:nvPicPr>
        <p:blipFill>
          <a:blip r:embed="rId1"/>
          <a:stretch/>
        </p:blipFill>
        <p:spPr>
          <a:xfrm>
            <a:off x="0" y="384120"/>
            <a:ext cx="9144000" cy="6087960"/>
          </a:xfrm>
          <a:prstGeom prst="rect">
            <a:avLst/>
          </a:prstGeom>
          <a:ln w="0">
            <a:noFill/>
          </a:ln>
        </p:spPr>
      </p:pic>
    </p:spTree>
  </p:cSld>
  <p:transition advTm="2000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Image 1" descr="1234200629_ice_age_05.jpg"/>
          <p:cNvPicPr/>
          <p:nvPr/>
        </p:nvPicPr>
        <p:blipFill>
          <a:blip r:embed="rId1"/>
          <a:stretch/>
        </p:blipFill>
        <p:spPr>
          <a:xfrm>
            <a:off x="0" y="384120"/>
            <a:ext cx="9144000" cy="6087960"/>
          </a:xfrm>
          <a:prstGeom prst="rect">
            <a:avLst/>
          </a:prstGeom>
          <a:ln w="0">
            <a:noFill/>
          </a:ln>
        </p:spPr>
      </p:pic>
    </p:spTree>
  </p:cSld>
  <p:transition advTm="2000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Image 1" descr="1234200620_ice_age_07.jpg"/>
          <p:cNvPicPr/>
          <p:nvPr/>
        </p:nvPicPr>
        <p:blipFill>
          <a:blip r:embed="rId1"/>
          <a:stretch/>
        </p:blipFill>
        <p:spPr>
          <a:xfrm>
            <a:off x="0" y="384120"/>
            <a:ext cx="9144000" cy="6087960"/>
          </a:xfrm>
          <a:prstGeom prst="rect">
            <a:avLst/>
          </a:prstGeom>
          <a:ln w="0">
            <a:noFill/>
          </a:ln>
        </p:spPr>
      </p:pic>
    </p:spTree>
  </p:cSld>
  <p:transition advTm="2000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Image 1" descr="1234200635_ice_age_08.jpg"/>
          <p:cNvPicPr/>
          <p:nvPr/>
        </p:nvPicPr>
        <p:blipFill>
          <a:blip r:embed="rId1"/>
          <a:stretch/>
        </p:blipFill>
        <p:spPr>
          <a:xfrm>
            <a:off x="0" y="384120"/>
            <a:ext cx="9144000" cy="6087960"/>
          </a:xfrm>
          <a:prstGeom prst="rect">
            <a:avLst/>
          </a:prstGeom>
          <a:ln w="0">
            <a:noFill/>
          </a:ln>
        </p:spPr>
      </p:pic>
    </p:spTree>
  </p:cSld>
  <p:transition advTm="2000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04:46:42Z</dcterms:created>
  <dc:creator>joebar</dc:creator>
  <dc:description/>
  <dc:language>en-US</dc:language>
  <cp:lastModifiedBy>joebar</cp:lastModifiedBy>
  <dcterms:modified xsi:type="dcterms:W3CDTF">2009-03-10T04:50:15Z</dcterms:modified>
  <cp:revision>1</cp:revision>
  <dc:subject/>
  <dc:title>Peinture sur route</dc:title>
</cp:coreProperties>
</file>