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j0074942.wav" ContentType="audio/x-wav"/>
  <Override PartName="/ppt/media/image4.jpeg" ContentType="image/jpeg"/>
  <Override PartName="/ppt/media/image2.jpeg" ContentType="image/jpeg"/>
  <Override PartName="/ppt/media/suction.wav" ContentType="audio/x-wav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F4E-4572-44B2-ADB2-68914EE5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7AA-1322-4C25-BD78-6D20297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8B0-0FB6-465B-95C6-D1D688C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5B6-3BC1-4974-93F4-D8112067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605-D119-47EC-85CC-D8C4F09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42D-565C-4D95-8CAF-8CADE1C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0B0-889A-40DD-A59B-7EC41DF4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CAD-9D92-48D8-BDDA-3BDDFADF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4FA-F66E-4527-9675-A5AFDD34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0CE-4633-45F0-9B88-A6AB477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AE2-D1BC-46C7-81FF-C0CE2A7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186-E5B3-490E-9011-DC6C2783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791-4334-441B-B992-831DCE58E50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007494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049400">
            <a:off x="1907640" y="620640"/>
            <a:ext cx="5437440" cy="559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ão deixe 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 sua namorada ir 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à academia!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j007494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2349360"/>
            <a:ext cx="79930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Um dia sua namorada vai ter que parar de ir à academi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...e a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Arial"/>
              </a:rPr>
              <a:t>O que vai aconte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6080"/>
            <a:ext cx="8569080" cy="682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3" name="suction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9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2637000"/>
            <a:ext cx="79930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ff33"/>
                </a:solidFill>
                <a:latin typeface="Arial"/>
              </a:rPr>
              <a:t>ou pode emagrece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2720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3" name="suction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99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492280"/>
            <a:ext cx="7993080" cy="28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Proiba a sua mul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de ir à acad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Arial"/>
              </a:rPr>
              <a:t>antes que seja t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7000"/>
            <a:ext cx="8785440" cy="6804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amond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08:25:10Z</dcterms:created>
  <dc:creator/>
  <dc:description/>
  <dc:language>en-US</dc:language>
  <cp:lastModifiedBy>Windows</cp:lastModifiedBy>
  <dcterms:modified xsi:type="dcterms:W3CDTF">2006-10-27T22:00:15Z</dcterms:modified>
  <cp:revision>18</cp:revision>
  <dc:subject/>
  <dc:title>Slide 1</dc:title>
</cp:coreProperties>
</file>