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j0074942.wav" ContentType="audio/x-wav"/>
  <Override PartName="/ppt/media/image4.jpeg" ContentType="image/jpeg"/>
  <Override PartName="/ppt/media/image2.jpeg" ContentType="image/jpeg"/>
  <Override PartName="/ppt/media/suction.wav" ContentType="audio/x-wav"/>
  <Override PartName="/ppt/media/image6.jpeg" ContentType="image/jpeg"/>
  <Override PartName="/ppt/media/image11.jpeg" ContentType="image/jpeg"/>
  <Override PartName="/ppt/media/image5.jpeg" ContentType="image/jpeg"/>
  <Override PartName="/ppt/media/image10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1B89-C0EB-4D56-8455-CCE9D7BDC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EB95-CDBF-4284-A9A1-8D378D7FD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25C7-BB07-439E-ACD5-50A83F808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9D7F-6B63-4197-B855-4A9EB3CD7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DFBF-6BD9-4972-8632-46812BD48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1D94-92BF-4FDC-A15D-8F2AB5C22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D6AE-28B7-42B7-A183-AAC87E1D6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6111-33EE-429C-AD43-CB68FBC75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8E3E-F329-4092-B440-828B25F68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3DE1-96F9-4396-8040-A46185C8A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CECB-3684-47FB-924E-AA34679A8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3206-C56B-4BE8-81ED-78747A64F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CDBD8-7C89-4840-85B2-EFB3C0FF8B16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j0074942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.png"/><Relationship Id="rId3" Type="http://schemas.openxmlformats.org/officeDocument/2006/relationships/audio" Target="../media/suction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audio" Target="../media/suction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suction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suction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suction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suction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suction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suction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suction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suction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 rot="1049400">
            <a:off x="1907640" y="620640"/>
            <a:ext cx="5437440" cy="559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381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cc00cc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Não deixe </a:t>
            </a:r>
            <a:endParaRPr b="1" lang="en-US" sz="5400" spc="1" strike="noStrike">
              <a:ln w="381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381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cc00cc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a sua namorada ir </a:t>
            </a:r>
            <a:endParaRPr b="1" lang="en-US" sz="5400" spc="1" strike="noStrike">
              <a:ln w="381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381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cc00cc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à academia!</a:t>
            </a:r>
            <a:endParaRPr b="1" lang="en-US" sz="5400" spc="1" strike="noStrike">
              <a:ln w="381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7101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diamond/>
    <p:sndAc>
      <p:stSnd>
        <p:snd r:embed="rId2" name="j0074942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7575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55640" y="2349360"/>
            <a:ext cx="7993080" cy="34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ff9900"/>
                </a:solidFill>
                <a:latin typeface="Arial"/>
              </a:rPr>
              <a:t>Um dia sua namorada vai ter que parar de ir à academia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ff9900"/>
                </a:solidFill>
                <a:latin typeface="Arial"/>
              </a:rPr>
              <a:t>...e aí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ff9900"/>
                </a:solidFill>
                <a:latin typeface="Arial"/>
              </a:rPr>
              <a:t>O que vai acontec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diamond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24000" y="46080"/>
            <a:ext cx="8569080" cy="68245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0" y="7101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diamond/>
    <p:sndAc>
      <p:stSnd>
        <p:snd r:embed="rId3" name="suction.wav"/>
      </p:stSnd>
    </p:sndAc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" dur="1996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826920" y="2637000"/>
            <a:ext cx="7993080" cy="76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66ff33"/>
                </a:solidFill>
                <a:latin typeface="Arial"/>
              </a:rPr>
              <a:t>ou pode emagrecer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4000">
    <p:diamond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7101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627200" y="0"/>
            <a:ext cx="58896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diamond/>
    <p:sndAc>
      <p:stSnd>
        <p:snd r:embed="rId3" name="suction.wav"/>
      </p:stSnd>
    </p:sndAc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" dur="1996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11280" y="2492280"/>
            <a:ext cx="7993080" cy="280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ff"/>
                </a:solidFill>
                <a:latin typeface="Arial"/>
              </a:rPr>
              <a:t>Proiba a sua mul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ff"/>
                </a:solidFill>
                <a:latin typeface="Arial"/>
              </a:rPr>
              <a:t>de ir à academ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ff"/>
                </a:solidFill>
                <a:latin typeface="Arial"/>
              </a:rPr>
              <a:t>antes que seja tard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4000">
    <p:diamond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287440" y="0"/>
            <a:ext cx="4569120" cy="685800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diamond/>
    <p:sndAc>
      <p:stSnd>
        <p:snd r:embed="rId2" name="suction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287440" y="0"/>
            <a:ext cx="4569120" cy="685800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diamond/>
    <p:sndAc>
      <p:stSnd>
        <p:snd r:embed="rId2" name="suction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268360" y="0"/>
            <a:ext cx="4569120" cy="685800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diamond/>
    <p:sndAc>
      <p:stSnd>
        <p:snd r:embed="rId2" name="suction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287440" y="0"/>
            <a:ext cx="4569120" cy="685800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diamond/>
    <p:sndAc>
      <p:stSnd>
        <p:snd r:embed="rId2" name="suction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79280" y="27000"/>
            <a:ext cx="8785440" cy="680400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diamond/>
    <p:sndAc>
      <p:stSnd>
        <p:snd r:embed="rId2" name="suction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287440" y="0"/>
            <a:ext cx="4569120" cy="685800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diamond/>
    <p:sndAc>
      <p:stSnd>
        <p:snd r:embed="rId2" name="suction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287440" y="0"/>
            <a:ext cx="4569120" cy="685800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diamond/>
    <p:sndAc>
      <p:stSnd>
        <p:snd r:embed="rId2" name="suction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287440" y="0"/>
            <a:ext cx="4569120" cy="685800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diamond/>
    <p:sndAc>
      <p:stSnd>
        <p:snd r:embed="rId2" name="suction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6T08:25:10Z</dcterms:created>
  <dc:creator/>
  <dc:description/>
  <dc:language>en-US</dc:language>
  <cp:lastModifiedBy>Windows</cp:lastModifiedBy>
  <dcterms:modified xsi:type="dcterms:W3CDTF">2006-10-27T22:00:15Z</dcterms:modified>
  <cp:revision>18</cp:revision>
  <dc:subject/>
  <dc:title>Slide 1</dc:title>
</cp:coreProperties>
</file>