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E9C9-520A-408F-A48D-3A227378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1F2A-BF6E-465A-B247-448EE1E0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ED9D-1897-4030-906D-413A1B21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D09-5926-44CC-9460-088BF27C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E37C-88B5-45F2-9E02-4C904B66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E22D-4018-498B-BADD-B4E47755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E783-1123-4CF2-AAD8-38F3E627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E9BF-C702-4C93-B619-4A7EED96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0D39-175E-4235-B633-00BF329C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FF9E-8DCF-4C16-A5D6-FD77212C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5B7F-0F4A-4760-97FF-BA162F8D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8B44-529D-4B2E-BBBF-B726E0A8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0306-EA83-43E0-901E-1570B0BA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9085-2216-4F8E-8EEC-006DC5DF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D8A0-68A1-4C3D-BDB5-2FFB5663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127B-2940-48BC-87D1-38723AA7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5283-5E90-46FB-A251-B2229C28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6588-7777-434D-B5BF-83DD94B4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1C2-6FBC-412C-A146-4E56E62A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6D0-6A21-4F7E-B9B7-1AABD69D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C33-F6C9-47BA-909D-366A635F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E62-A1A0-4664-B9B6-853FCD22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ECC-7384-4648-A7A3-2E31F20F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430-35F5-4058-9625-5CC22E97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219F-EB27-4262-8421-1BFE6AD45FF8}" type="slidenum">
              <a:rPr b="0" lang="ca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0C7E-511E-4E23-8148-FDFE7C718DF2}" type="slidenum">
              <a:rPr b="0" lang="ca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owerpoints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600" spc="-1" strike="noStrike">
                <a:solidFill>
                  <a:srgbClr val="ffffff"/>
                </a:solidFill>
                <a:latin typeface="Arial"/>
              </a:rPr>
              <a:t>AVISOS PAROQUIAI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55280" y="3357720"/>
            <a:ext cx="72723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anta inocencia, ingenuidade ou criativid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o avisos fixados na porta da Igreja paroquial de Belmonte, todos eles reais, escritos com muito boa vontade e muito má redacção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497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O mês de Novembro finalizará com uma missa cantada por todos os defuntos da paróquia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 torneio de “basquet” das paróquias vai continuar com o jogo da próxima quarta-fei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Venham aplaudir, vamos tentar derrotar o Cristo Rei!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O preço do curso sobre “Oração e jejum” inclui as comid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or favor, coloquem as vossas esmolas no envelope, junto com os defuntos que desejem que sejam lembrad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Na próxima terça-feira à noite haverá uma feijoada no salão paroqu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 seguir, terá lugar um concer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embrem-se que quinta-feira começará a catequese  para meninos e meninas de ambos os sex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ara todos os que tenham filhos e não o saibam, temos na paróquia uma área especial para crianç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Quinta-feira que vem, às cinco da tarde, haverá uma reunião do grupo de mães. Todas as senhoras que desejem formar parte das mães, devem dirigir-se ao escritório do páro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s reuniões do grupo de recuperaçao da autoconfiança são nas sextas feiras, às oito da noite. Por favor, entrem pela porta trasei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a sexta-feira às sete, os meninos do Oratório farão uma representação da obra “Hamlet”  de Shakespeare, no salão da igreja. 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oda a comunidade está convidada para tomar parte nesta tragé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ezadas senhoras, não esqueçam a próxima venda para beneficênc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É uma boa ocasião para se livrarem das coisas inúteis que há nas suas casa. Tragam os seus marid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ssunto da catequese de hoje: “Jesus caminha sobre as águ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ssunto da catequese de amanhã: “Em busca de Jesu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O coro dos maiores de sessenta anos vai ser suspenso durante o verão, com o agradecimento de toda a paróquia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200" spc="-1" strike="noStrike">
                <a:solidFill>
                  <a:srgbClr val="ffffff"/>
                </a:solidFill>
                <a:latin typeface="Arial"/>
              </a:rPr>
              <a:t>AVISOS aos paroquian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embrem nas suas orações todos os desesperados e cansados da nossa paróqui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236000" y="6237360"/>
            <a:ext cx="18381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7:33:16Z</dcterms:created>
  <dc:creator>XoseLdV</dc:creator>
  <dc:description/>
  <dc:language>en-US</dc:language>
  <cp:lastModifiedBy> </cp:lastModifiedBy>
  <dcterms:modified xsi:type="dcterms:W3CDTF">2007-01-30T11:25:35Z</dcterms:modified>
  <cp:revision>9</cp:revision>
  <dc:subject/>
  <dc:title>AVISOS PARROQUIALES</dc:title>
</cp:coreProperties>
</file>