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378-EA47-4374-A8DB-4A840CE8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E14-5513-48D6-B5F8-CD352498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5AA-5AD8-46D0-B083-0AD00E35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E1C-3BAA-40F6-8F61-68018C40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FF37-1BC0-4EFB-8B6A-055506F0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F342-4727-41C4-8AE6-9CA8665E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2ED8-84C8-416C-902C-459FFA16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57BF-F453-4A5D-B490-25F37A98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265F-D9C3-47F8-A37F-284B42AE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CEF5-09BF-469A-B3FE-3963F289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C034-BB64-4869-AD52-70B013B4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7B2-91B2-4166-85D8-C8BFDC08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73BD-4828-4C3F-930D-F53E3BAE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6229-488E-4650-A427-20F33DEA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32B5-2B0F-4F87-8D7E-200FA569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B6AA-51BB-49AF-AD04-84B73F85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B2B5-068E-4B2C-9683-818C83D8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4E6-1BCE-4AFE-AD2E-CC432EC3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CBA-CEF8-49CB-8517-25B28D19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871-D6ED-465A-A359-6789F363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507-B9A4-4088-8331-DF9705B6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9BD-C269-4D7E-B69B-420B76D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8BF-C807-4303-A6A8-A17C7DB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291-B277-44F6-B365-9165B6D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5082-6C6F-4BE1-9236-C55772B4302B}" type="slidenum">
              <a:rPr b="0" lang="ca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294C-331E-4524-B81E-B5844BDBAECE}" type="slidenum">
              <a:rPr b="0" lang="ca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600" spc="-1" strike="noStrike">
                <a:solidFill>
                  <a:srgbClr val="ffffff"/>
                </a:solidFill>
                <a:latin typeface="Arial"/>
              </a:rPr>
              <a:t>AVISOS PAROQUIA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280" y="3357720"/>
            <a:ext cx="72723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anta inocencia, ingenuidade ou criativid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o avisos fixados na porta da Igreja paroquial de Belmonte, todos eles reais, escritos com muito boa vontade e muito má redacção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49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O mês de Novembro finalizará com uma missa cantada por todos os defuntos da paróquia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 torneio de “basquet” das paróquias vai continuar com o jogo da próxima quarta-fei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Venham aplaudir, vamos tentar derrotar o Cristo Rei!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O preço do curso sobre “Oração e jejum” inclui as com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or favor, coloquem as vossas esmolas no envelope, junto com os defuntos que desejem que sejam lembra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a próxima terça-feira à noite haverá uma feijoada no salão paroqu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 seguir, terá lugar um concer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embrem-se que quinta-feira começará a catequese  para meninos e meninas de ambos os sex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ra todos os que tenham filhos e não o saibam, temos na paróquia uma área especial para crianç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inta-feira que vem, às cinco da tarde, haverá uma reunião do grupo de mães. Todas as senhoras que desejem formar parte das mães, devem dirigir-se ao escritório do páro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s reuniões do grupo de recuperaçao da autoconfiança são nas sextas feiras, às oito da noite. Por favor, entrem pela porta trasei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a sexta-feira às sete, os meninos do Oratório farão uma representação da obra “Hamlet”  de Shakespeare, no salão da igreja. 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oda a comunidade está convidada para tomar parte nesta tragé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zadas senhoras, não esqueçam a próxima venda para beneficê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É uma boa ocasião para se livrarem das coisas inúteis que há nas suas casa. Tragam os seus marid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ssunto da catequese de hoje: “Jesus caminha sobre as águ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ssunto da catequese de amanhã: “Em busca de Jesu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O coro dos maiores de sessenta anos vai ser suspenso durante o verão, com o agradecimento de toda a paróquia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embrem nas suas orações todos os desesperados e cansados da nossa paróq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7:33:16Z</dcterms:created>
  <dc:creator>XoseLdV</dc:creator>
  <dc:description/>
  <dc:language>en-US</dc:language>
  <cp:lastModifiedBy> </cp:lastModifiedBy>
  <dcterms:modified xsi:type="dcterms:W3CDTF">2007-01-30T11:25:35Z</dcterms:modified>
  <cp:revision>9</cp:revision>
  <dc:subject/>
  <dc:title>AVISOS PARROQUIALES</dc:title>
</cp:coreProperties>
</file>