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5.gif" ContentType="image/gif"/>
  <Override PartName="/ppt/media/image7.jpeg" ContentType="image/jpeg"/>
  <Override PartName="/ppt/media/image38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34.jpeg" ContentType="image/jpeg"/>
  <Override PartName="/ppt/media/image6.jpeg" ContentType="image/jpeg"/>
  <Override PartName="/ppt/media/image18.png" ContentType="image/pn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EBD9-3EBE-4DAB-AC6E-2EDC0C60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5769-28A4-4515-B48D-15D23627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0B47-2B00-457D-90C4-E269910A8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2A36-81DA-43B4-BFDB-DFA612461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1931-D53B-40DA-BE67-AEA98A20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4532-66E2-455D-B085-07702C9D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78DA-4097-4F05-946B-F9FA6A57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34E6-90BA-424D-BA3A-673A0993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06FC-66D6-47A5-982B-F6F61DC4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49CA-4E36-42E3-B9B4-FED89D98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D61C-F545-4D2F-912F-CB27625C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64C0-B1BB-4ED4-B0FB-BBEC3C55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B868-E405-4FF1-A799-1217EF976EA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5040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Baveuse"/>
              </a:rPr>
              <a:t>INVENÇÕ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0842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A ESTAR AO CORR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AS NOVAS TENDÊNCIAS DO DESIG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940360" y="1773360"/>
            <a:ext cx="1766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4176720" cy="3132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9640" y="115920"/>
            <a:ext cx="43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uvas contra o frio com ligação U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835280" y="4076640"/>
            <a:ext cx="3332160" cy="2498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55640" y="465300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lç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i-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435640" y="2637000"/>
            <a:ext cx="3529080" cy="3387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867280" y="12682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elemóvel para nostál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360" y="836280"/>
            <a:ext cx="3313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ma com contador de orgas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5040360" cy="3168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067280" y="3429000"/>
            <a:ext cx="4895640" cy="32259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1280" y="4437000"/>
            <a:ext cx="309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ma com mo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5300280"/>
            <a:ext cx="302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misa com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os braços tatu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3244680" cy="4248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588000" y="333360"/>
            <a:ext cx="1581120" cy="6264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780000" y="333360"/>
            <a:ext cx="2638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ças com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anga incorpo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738760" cy="5905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16360" y="632880"/>
            <a:ext cx="4176720" cy="32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D com um conjunto de barulhos irritantes para chatear o seu vizinho. </a:t>
            </a:r>
            <a:br>
              <a:rPr sz="3200"/>
            </a:br>
            <a:br>
              <a:rPr sz="36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clui tampões para os ouvidos...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4248360" cy="2835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0" y="1341360"/>
            <a:ext cx="4464000" cy="3322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4248360" cy="28353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43280" y="259920"/>
            <a:ext cx="432144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hinelos e pantuf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486900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antufas para aquecer no micro-on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708360" y="3227400"/>
            <a:ext cx="5138640" cy="3340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4140360" cy="3759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716360" y="1341360"/>
            <a:ext cx="41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Couvettes em forma da diam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4869000"/>
            <a:ext cx="3814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Couvettes 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forma de peças de L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2791080" cy="3047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3297240" cy="3384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627280" y="54936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DESPERT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5229360"/>
            <a:ext cx="33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aça o puzzle 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que ele se cale (grrr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64000" y="530064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a acordar com a sua música favor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508720" y="2349360"/>
            <a:ext cx="27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lher-avião para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s crianças comerem tud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41400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4464000" cy="2927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245200" y="333360"/>
            <a:ext cx="3422520" cy="5616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87280" y="90792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apatos com salto recolh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88000" y="6093000"/>
            <a:ext cx="41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olsa para transportar o cãozinh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03280" y="3048120"/>
            <a:ext cx="5079960" cy="3809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7345440" cy="2363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508720" y="3213000"/>
            <a:ext cx="3346200" cy="3346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5280" y="4292640"/>
            <a:ext cx="18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 caf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opo que muda de cor com a temp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3429000"/>
            <a:ext cx="2305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orta-Bisco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6192720" cy="6097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588000" y="2276640"/>
            <a:ext cx="24116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cc00"/>
                </a:solidFill>
                <a:latin typeface="Arial"/>
                <a:ea typeface="Arial"/>
              </a:rPr>
              <a:t>Máscaras para que a visita das crianças ao dentista seja mais divertida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9280" y="3664080"/>
            <a:ext cx="3600720" cy="3071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867280" y="3933720"/>
            <a:ext cx="3063960" cy="2298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3673440" cy="3425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300720" y="189000"/>
            <a:ext cx="2514600" cy="2636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227640" y="2781360"/>
            <a:ext cx="25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brinc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o cavalinh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12000" y="62373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trona Bibliote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360" y="189000"/>
            <a:ext cx="21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tronas para os trabalhadores da Miche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3716280"/>
            <a:ext cx="215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aqu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dormem em qualquer l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3313080" cy="3214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435640" y="404640"/>
            <a:ext cx="2786040" cy="2786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50920" y="4121280"/>
            <a:ext cx="2736720" cy="2736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3203640" y="4049640"/>
            <a:ext cx="2808360" cy="2808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580000" y="5373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assa-montan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18900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dor de claras de o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76720" y="3357720"/>
            <a:ext cx="36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rotector de souti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ara a máquina de la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427640" y="115920"/>
            <a:ext cx="4535280" cy="5977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582640" cy="3168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79280" y="4094280"/>
            <a:ext cx="3745080" cy="2543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211640" y="6308640"/>
            <a:ext cx="46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ndar de Roda Gigante dentro do ca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3500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Mesa sem p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16572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esa mij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427640" y="3141720"/>
            <a:ext cx="4535280" cy="3084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427640" y="285264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Tapetes de bagagens do aeropo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 imitar uma rol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095800" y="692280"/>
            <a:ext cx="4048200" cy="1873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4459320" cy="4896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39640" y="57340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scadas/Gav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80000" y="270828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spetos curv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ra espetada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248360" cy="2760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211640" y="3124080"/>
            <a:ext cx="4653000" cy="3497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148360" y="404640"/>
            <a:ext cx="273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Arial"/>
                <a:ea typeface="Arial"/>
              </a:rPr>
              <a:t>Cortinas que imitam a sombra de uma árv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149720"/>
            <a:ext cx="30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Arial"/>
                <a:ea typeface="Arial"/>
              </a:rPr>
              <a:t>Cortinas de banho, modelo “PSYCH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52563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NEL “LEMBRAD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435280" y="2204640"/>
            <a:ext cx="33987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a data gravad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 anel aqu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lembrar ao dono o motivo da data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461016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356000" y="333360"/>
            <a:ext cx="4419720" cy="4363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8360" y="364500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24360" y="4653000"/>
            <a:ext cx="288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PEL HIGIÉNICO com música e decorações de Na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u Sudo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338472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59280" y="3645000"/>
            <a:ext cx="3959280" cy="2970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859280" y="260280"/>
            <a:ext cx="3962520" cy="3308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411280" y="115920"/>
            <a:ext cx="3889440" cy="2062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50920" y="2708280"/>
            <a:ext cx="4284720" cy="3898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8000" y="549360"/>
            <a:ext cx="234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COS E CADEI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993080" cy="6553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6165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ara beber na montanha sem ninguém dar por i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404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Binóculos-garraf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064040" cy="5545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8000" y="5734080"/>
            <a:ext cx="47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Bloqueador « super-cola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2924280"/>
            <a:ext cx="2838600" cy="3744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00720" y="115920"/>
            <a:ext cx="4176720" cy="2649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451640" y="31417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aragem “ros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76720" y="2060280"/>
            <a:ext cx="3888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aco em forma de animal domé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22:59:35Z</dcterms:created>
  <dc:creator>oscar4x4</dc:creator>
  <dc:description/>
  <dc:language>en-US</dc:language>
  <cp:lastModifiedBy>Cristina Beltrao</cp:lastModifiedBy>
  <dcterms:modified xsi:type="dcterms:W3CDTF">2009-07-07T08:41:06Z</dcterms:modified>
  <cp:revision>14</cp:revision>
  <dc:subject/>
  <dc:title>iNVENTOS CURIOSOS</dc:title>
</cp:coreProperties>
</file>