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5.gif" ContentType="image/gi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6DE-2ACE-44C6-A696-CED09118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BD8-985E-464C-9179-F2553CDD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16C-33C9-45A2-BC69-A3F00C0F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4B2-DCC4-47F7-A831-EF6A1809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738-0655-4E18-9CC7-3E77D6E2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572-3F60-44F4-ADC0-38B48046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6FC-CD04-450F-8ADF-FC6A0D6B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801-833D-4725-B8CF-B44C5E21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349-5CA1-4D85-A4CB-9CAC6382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AF6-1DF0-4406-809D-40CF611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265-E621-4616-8A17-F12BC7E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14C-4FB3-4613-94E5-4D52360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D2C4-C5DB-4AB1-B84F-30F4C8D61D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5040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Baveuse"/>
              </a:rPr>
              <a:t>INVENÇÕ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 ESTAR AO COR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S NOVAS TENDÊNCIAS DO DESIG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1766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1159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uvas contra o frio com ligação U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35280" y="4076640"/>
            <a:ext cx="3332160" cy="249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4653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ç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-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529080" cy="338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867280" y="1268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elemóvel para nostál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360" y="836280"/>
            <a:ext cx="331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a com contador de orga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040360" cy="3168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4895640" cy="3225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4437000"/>
            <a:ext cx="30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a com m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5300280"/>
            <a:ext cx="30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misa com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s braços tatu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24468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1581120" cy="626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80000" y="333360"/>
            <a:ext cx="2638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ças com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nga incorpo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38760" cy="5905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16360" y="632880"/>
            <a:ext cx="417672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D com um conjunto de barulhos irritantes para chatear o seu vizinho. </a:t>
            </a:r>
            <a:br>
              <a:rPr sz="3200"/>
            </a:br>
            <a:br>
              <a:rPr sz="36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i tampões para os ouvidos...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248360" cy="2835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464000" cy="3322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248360" cy="2835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43280" y="259920"/>
            <a:ext cx="432144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hinelos e pantu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4869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ntufas para aquecer no micro-o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708360" y="3227400"/>
            <a:ext cx="5138640" cy="3340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140360" cy="3759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716360" y="134136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uvettes em forma da diam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869000"/>
            <a:ext cx="381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uvettes 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orma de peças de L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91080" cy="3047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297240" cy="3384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7280" y="549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ESPER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22936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ça o puzzle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 ele se cale (grrr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 acordar com a sua música favo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508720" y="234936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her-avião 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 crianças comerem tud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140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464000" cy="292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45200" y="333360"/>
            <a:ext cx="3422520" cy="5616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87280" y="90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patos com salto recolh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609300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lsa para transportar o cãozinh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30481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7345440" cy="2363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08720" y="3213000"/>
            <a:ext cx="3346200" cy="3346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4292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caf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po que muda de cor com a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3429000"/>
            <a:ext cx="23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rta-Bisco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6192720" cy="609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88000" y="2276640"/>
            <a:ext cx="2411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cc00"/>
                </a:solidFill>
                <a:latin typeface="Arial"/>
                <a:ea typeface="Arial"/>
              </a:rPr>
              <a:t>Máscaras para que a visita das crianças ao dentista seja mais divertid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664080"/>
            <a:ext cx="3600720" cy="3071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3063960" cy="229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673440" cy="3425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300720" y="189000"/>
            <a:ext cx="2514600" cy="2636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27640" y="2781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brin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o cavalinh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6237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trona Bibliot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189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tronas para os trabalhadores da Miche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716280"/>
            <a:ext cx="21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aqu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dormem em qualquer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313080" cy="32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2786040" cy="2786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412128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203640" y="4049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80000" y="5373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assa-monta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89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dor de claras de o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335772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tector de souti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ra a máquina de la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115920"/>
            <a:ext cx="4535280" cy="597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82640" cy="316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4094280"/>
            <a:ext cx="3745080" cy="2543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11640" y="630864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ndar de Roda Gigante dentro do ca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500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esa sem 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165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sa mij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427640" y="3141720"/>
            <a:ext cx="4535280" cy="3084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27640" y="285264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apetes de bagagens do aeropo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 imitar uma ro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95800" y="692280"/>
            <a:ext cx="4048200" cy="1873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4459320" cy="489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9640" y="5734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cadas/Gav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2708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petos cur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 espetad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276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11640" y="3124080"/>
            <a:ext cx="4653000" cy="349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48360" y="404640"/>
            <a:ext cx="273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Cortinas que imitam a sombra de uma ár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14972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Cortinas de banho, modelo “PSYCH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5256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EL “LEMBRAD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35280" y="2204640"/>
            <a:ext cx="33987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 data grava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 anel aqu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lembrar ao dono o motivo da dat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61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419720" cy="436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24360" y="465300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PEL HIGIÉNICO com música e decorações de Na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u Sud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3847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962520" cy="330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411280" y="115920"/>
            <a:ext cx="3889440" cy="2062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4284720" cy="389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549360"/>
            <a:ext cx="23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COS E CADE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165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beber na montanha sem ninguém dar por i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404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inóculos-garra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64040" cy="5545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8000" y="57340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loqueador « super-cola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2838600" cy="374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00720" y="115920"/>
            <a:ext cx="4176720" cy="264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451640" y="3141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aragem “ros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6720" y="2060280"/>
            <a:ext cx="3888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co em forma de animal domé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2:59:35Z</dcterms:created>
  <dc:creator>oscar4x4</dc:creator>
  <dc:description/>
  <dc:language>en-US</dc:language>
  <cp:lastModifiedBy>Cristina Beltrao</cp:lastModifiedBy>
  <dcterms:modified xsi:type="dcterms:W3CDTF">2009-07-07T08:41:06Z</dcterms:modified>
  <cp:revision>14</cp:revision>
  <dc:subject/>
  <dc:title>iNVENTOS CURIOSOS</dc:title>
</cp:coreProperties>
</file>