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5.jpeg" ContentType="image/jpeg"/>
  <Override PartName="/ppt/media/image4.jpeg" ContentType="image/jpeg"/>
  <Override PartName="/ppt/media/Over%20tne%20Raibow.wav" ContentType="audio/x-wav"/>
  <Override PartName="/ppt/media/image5.jpeg" ContentType="image/jpeg"/>
  <Override PartName="/ppt/media/image26.jpeg" ContentType="image/jpeg"/>
  <Override PartName="/ppt/media/image2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9.jpeg" ContentType="image/jpeg"/>
  <Override PartName="/ppt/media/image3.jpeg" ContentType="image/jpeg"/>
  <Override PartName="/ppt/media/image24.jpeg" ContentType="image/jpeg"/>
  <Override PartName="/ppt/media/image11.jpeg" ContentType="image/jpeg"/>
  <Override PartName="/ppt/media/pianosuave.wav" ContentType="audio/x-wav"/>
  <Override PartName="/ppt/media/image2.jpeg" ContentType="image/jpeg"/>
  <Override PartName="/ppt/media/image23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EBC98-69C3-4CF7-864C-4CF9DC14677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27F6-FB0B-4ADC-B8A5-489A73C2B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00EB-CFFF-485E-B3AF-47363B0C2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42DF-57FF-4CF6-98C6-1B429B707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D326-876E-4774-AA92-0FB8CA08C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1895-C07E-42FB-AA15-741801A47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40C9-AC4F-472D-B574-CEEFC9228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C32D-1231-44E1-9386-4395DAFCA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1DB8-E9D2-4B19-8B99-C7E76E7A1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C70A-22E5-4CBC-96A1-4904932AD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9754-CD7A-4D87-B43C-93CB890F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B374-AD1D-4357-9D66-F6466D2C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09AD-F7E7-4847-9B3F-B3BD7FE8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B6F87-49B1-4975-B5BD-9A86FE72CD09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Over%20tne%20Raibow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pianosuave.wav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08360" y="2565360"/>
            <a:ext cx="504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Lucida Sans Unicode"/>
              </a:rPr>
              <a:t>CARO(A) AMIGO(A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Lucida Sans Unicode"/>
              </a:rPr>
              <a:t>É com muita tristeza que lhe participamos o falecimento de um amigo muito querido que se chamava BOM SENSO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258920" y="2276640"/>
            <a:ext cx="2158920" cy="215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41520" y="4978440"/>
            <a:ext cx="18396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08360" y="2133720"/>
            <a:ext cx="4537080" cy="32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Lucida Sans Unicode"/>
              </a:rPr>
              <a:t>Certamente você já reconheceu, que a morte do BOM SENSO foi precedida pelo falecimen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Lucida Sans Unicode"/>
              </a:rPr>
              <a:t>dos seu pais: Verdade e Confianç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Lucida Sans Unicode"/>
              </a:rPr>
              <a:t>da sua mulher Discriçã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Lucida Sans Unicode"/>
              </a:rPr>
              <a:t>da sua filha Responsabilidade e 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Lucida Sans Unicode"/>
              </a:rPr>
              <a:t>  </a:t>
            </a:r>
            <a:r>
              <a:rPr b="0" lang="fr-FR" sz="1800" spc="-1" strike="noStrike">
                <a:solidFill>
                  <a:srgbClr val="4d4d4d"/>
                </a:solidFill>
                <a:latin typeface="Lucida Sans Unicode"/>
              </a:rPr>
              <a:t>filho Juízo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332000" y="404640"/>
            <a:ext cx="2087640" cy="2070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332000" y="2131920"/>
            <a:ext cx="2087640" cy="21589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1332000" y="4363920"/>
            <a:ext cx="2087640" cy="201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41520" y="4978440"/>
            <a:ext cx="18396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635280" y="1052640"/>
            <a:ext cx="5184720" cy="26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Lucida Sans Unicode"/>
              </a:rPr>
              <a:t>Então, o BOM SENSO deixa o seu lugar para três falsos irmão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Lucida Sans Unicode"/>
              </a:rPr>
              <a:t>« </a:t>
            </a:r>
            <a:r>
              <a:rPr b="0" i="1" lang="fr-FR" sz="1800" spc="-1" strike="noStrike">
                <a:solidFill>
                  <a:srgbClr val="4d4d4d"/>
                </a:solidFill>
                <a:latin typeface="Lucida Sans Unicode"/>
              </a:rPr>
              <a:t>Eu conheço os meus direitos e também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4d4d4d"/>
                </a:solidFill>
                <a:latin typeface="Lucida Sans Unicode"/>
              </a:rPr>
              <a:t>    </a:t>
            </a:r>
            <a:r>
              <a:rPr b="0" i="1" lang="fr-FR" sz="1800" spc="-1" strike="noStrike">
                <a:solidFill>
                  <a:srgbClr val="4d4d4d"/>
                </a:solidFill>
                <a:latin typeface="Lucida Sans Unicode"/>
              </a:rPr>
              <a:t>os adquiridos</a:t>
            </a:r>
            <a:r>
              <a:rPr b="0" lang="fr-FR" sz="1800" spc="-1" strike="noStrike">
                <a:solidFill>
                  <a:srgbClr val="4d4d4d"/>
                </a:solidFill>
                <a:latin typeface="Lucida Sans Unicode"/>
              </a:rPr>
              <a:t>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Lucida Sans Unicode"/>
              </a:rPr>
              <a:t>« </a:t>
            </a:r>
            <a:r>
              <a:rPr b="0" i="1" lang="fr-FR" sz="1800" spc="-1" strike="noStrike">
                <a:solidFill>
                  <a:srgbClr val="4d4d4d"/>
                </a:solidFill>
                <a:latin typeface="Lucida Sans Unicode"/>
              </a:rPr>
              <a:t>A culpa não é minha</a:t>
            </a:r>
            <a:r>
              <a:rPr b="0" lang="fr-FR" sz="1800" spc="-1" strike="noStrike">
                <a:solidFill>
                  <a:srgbClr val="4d4d4d"/>
                </a:solidFill>
                <a:latin typeface="Lucida Sans Unicode"/>
              </a:rPr>
              <a:t>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Lucida Sans Unicode"/>
              </a:rPr>
              <a:t>- « </a:t>
            </a:r>
            <a:r>
              <a:rPr b="0" i="1" lang="fr-FR" sz="1800" spc="-1" strike="noStrike">
                <a:solidFill>
                  <a:srgbClr val="4d4d4d"/>
                </a:solidFill>
                <a:latin typeface="Lucida Sans Unicode"/>
              </a:rPr>
              <a:t>Sou uma vítima da sociedade</a:t>
            </a:r>
            <a:r>
              <a:rPr b="0" lang="fr-FR" sz="1800" spc="-1" strike="noStrike">
                <a:solidFill>
                  <a:srgbClr val="4d4d4d"/>
                </a:solidFill>
                <a:latin typeface="Lucida Sans Unicode"/>
              </a:rPr>
              <a:t>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258920" y="1052640"/>
            <a:ext cx="2158920" cy="16128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258920" y="3789360"/>
            <a:ext cx="1434960" cy="21589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6659640" y="4221000"/>
            <a:ext cx="139680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41520" y="4978440"/>
            <a:ext cx="18396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708360" y="2349360"/>
            <a:ext cx="453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Lucida Sans Unicode"/>
              </a:rPr>
              <a:t>Claro que não haverá multidão no seu enterro, porque já não temos muitas pessoas que o conheçam bem, e poucos se darão conta de que ele parti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6687" t="3482" r="6620" b="2012"/>
          <a:stretch/>
        </p:blipFill>
        <p:spPr>
          <a:xfrm>
            <a:off x="1403280" y="2349360"/>
            <a:ext cx="18716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41520" y="4978440"/>
            <a:ext cx="18396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708360" y="2637000"/>
            <a:ext cx="482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Lucida Sans Unicode"/>
              </a:rPr>
              <a:t>Mas, se você ainda se recorda de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Lucida Sans Unicode"/>
              </a:rPr>
              <a:t>caso queira reavivar a sua lembranç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Lucida Sans Unicode"/>
              </a:rPr>
              <a:t>previna todos os seus amigos do desaparecimento do saudoso BOM SENSO</a:t>
            </a:r>
            <a:r>
              <a:rPr b="0" lang="fr-FR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fr-FR" sz="1800" spc="-1" strike="noStrike">
                <a:solidFill>
                  <a:srgbClr val="4d4d4d"/>
                </a:solidFill>
                <a:latin typeface="Lucida Sans Unicode"/>
              </a:rPr>
              <a:t>fazendo circular esta comunicação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258920" y="2637000"/>
            <a:ext cx="2158920" cy="14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41520" y="4978440"/>
            <a:ext cx="18396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050920" y="270828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Lucida Sans Unicode"/>
              </a:rPr>
              <a:t>Senão, não faça nada... deixe tudo como está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708360" y="177336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Lucida Sans Unicode"/>
              </a:rPr>
              <a:t>… </a:t>
            </a:r>
            <a:r>
              <a:rPr b="0" lang="fr-FR" sz="1800" spc="-1" strike="noStrike">
                <a:solidFill>
                  <a:srgbClr val="4d4d4d"/>
                </a:solidFill>
                <a:latin typeface="Lucida Sans Unicode"/>
              </a:rPr>
              <a:t>e que viveu muitos e muitos anos entre nó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332000" y="1341360"/>
            <a:ext cx="2158920" cy="1435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708360" y="3573360"/>
            <a:ext cx="45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Lucida Sans Unicode"/>
              </a:rPr>
              <a:t>Ninguém conhecia com precisão a sua idade porque o registo do seu nascimento foi desclassificado há muito tempo, tamanha a sua antiguida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332000" y="3573360"/>
            <a:ext cx="215892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41520" y="5122800"/>
            <a:ext cx="18396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48000" y="1341360"/>
            <a:ext cx="5327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Lucida Sans Unicode"/>
              </a:rPr>
              <a:t>  </a:t>
            </a:r>
            <a:r>
              <a:rPr b="0" lang="fr-FR" sz="1800" spc="-1" strike="noStrike">
                <a:solidFill>
                  <a:srgbClr val="4d4d4d"/>
                </a:solidFill>
                <a:latin typeface="Lucida Sans Unicode"/>
              </a:rPr>
              <a:t>Mas lembramo-nos muito bem dele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Lucida Sans Unicode"/>
              </a:rPr>
              <a:t>  </a:t>
            </a:r>
            <a:r>
              <a:rPr b="0" lang="fr-FR" sz="1800" spc="-1" strike="noStrike">
                <a:solidFill>
                  <a:srgbClr val="4d4d4d"/>
                </a:solidFill>
                <a:latin typeface="Lucida Sans Unicode"/>
              </a:rPr>
              <a:t>principalmente pelas suas lições de vi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Lucida Sans Unicode"/>
              </a:rPr>
              <a:t>  </a:t>
            </a:r>
            <a:r>
              <a:rPr b="0" lang="fr-FR" sz="1800" spc="-1" strike="noStrike">
                <a:solidFill>
                  <a:srgbClr val="4d4d4d"/>
                </a:solidFill>
                <a:latin typeface="Lucida Sans Unicode"/>
              </a:rPr>
              <a:t>como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Lucida Sans Unicode"/>
              </a:rPr>
              <a:t> </a:t>
            </a:r>
            <a:r>
              <a:rPr b="0" lang="fr-FR" sz="1800" spc="-1" strike="noStrike">
                <a:solidFill>
                  <a:srgbClr val="4d4d4d"/>
                </a:solidFill>
                <a:latin typeface="Lucida Sans Unicode"/>
              </a:rPr>
              <a:t>«</a:t>
            </a:r>
            <a:r>
              <a:rPr b="0" i="1" lang="fr-FR" sz="1800" spc="-1" strike="noStrike">
                <a:solidFill>
                  <a:srgbClr val="4d4d4d"/>
                </a:solidFill>
                <a:latin typeface="Lucida Sans Unicode"/>
              </a:rPr>
              <a:t>O mundo pertence àqueles que se levant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4d4d4d"/>
                </a:solidFill>
                <a:latin typeface="Lucida Sans Unicode"/>
              </a:rPr>
              <a:t>   </a:t>
            </a:r>
            <a:r>
              <a:rPr b="0" i="1" lang="fr-FR" sz="1800" spc="-1" strike="noStrike">
                <a:solidFill>
                  <a:srgbClr val="4d4d4d"/>
                </a:solidFill>
                <a:latin typeface="Lucida Sans Unicode"/>
              </a:rPr>
              <a:t>cedo</a:t>
            </a:r>
            <a:r>
              <a:rPr b="0" lang="fr-FR" sz="1800" spc="-1" strike="noStrike">
                <a:solidFill>
                  <a:srgbClr val="4d4d4d"/>
                </a:solidFill>
                <a:latin typeface="Lucida Sans Unicode"/>
              </a:rPr>
              <a:t> 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Lucida Sans Unicode"/>
              </a:rPr>
              <a:t> </a:t>
            </a:r>
            <a:r>
              <a:rPr b="0" lang="fr-FR" sz="1800" spc="-1" strike="noStrike">
                <a:solidFill>
                  <a:srgbClr val="4d4d4d"/>
                </a:solidFill>
                <a:latin typeface="Lucida Sans Unicode"/>
              </a:rPr>
              <a:t>«</a:t>
            </a:r>
            <a:r>
              <a:rPr b="0" i="1" lang="fr-FR" sz="1800" spc="-1" strike="noStrike">
                <a:solidFill>
                  <a:srgbClr val="4d4d4d"/>
                </a:solidFill>
                <a:latin typeface="Lucida Sans Unicode"/>
              </a:rPr>
              <a:t>Não podemos esperar tudo dos outros</a:t>
            </a:r>
            <a:r>
              <a:rPr b="0" lang="fr-FR" sz="1800" spc="-1" strike="noStrike">
                <a:solidFill>
                  <a:srgbClr val="4d4d4d"/>
                </a:solidFill>
                <a:latin typeface="Lucida Sans Unicode"/>
              </a:rPr>
              <a:t> 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Lucida Sans Unicode"/>
              </a:rPr>
              <a:t>   </a:t>
            </a:r>
            <a:r>
              <a:rPr b="0" lang="fr-FR" sz="1800" spc="-1" strike="noStrike">
                <a:solidFill>
                  <a:srgbClr val="4d4d4d"/>
                </a:solidFill>
                <a:latin typeface="Lucida Sans Unicode"/>
              </a:rPr>
              <a:t>Ou aind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Lucida Sans Unicode"/>
              </a:rPr>
              <a:t> </a:t>
            </a:r>
            <a:r>
              <a:rPr b="0" lang="fr-FR" sz="1800" spc="-1" strike="noStrike">
                <a:solidFill>
                  <a:srgbClr val="4d4d4d"/>
                </a:solidFill>
                <a:latin typeface="Lucida Sans Unicode"/>
              </a:rPr>
              <a:t>«</a:t>
            </a:r>
            <a:r>
              <a:rPr b="0" i="1" lang="fr-FR" sz="1800" spc="-1" strike="noStrike">
                <a:solidFill>
                  <a:srgbClr val="4d4d4d"/>
                </a:solidFill>
                <a:latin typeface="Lucida Sans Unicode"/>
              </a:rPr>
              <a:t>O que me acontece pode ser em parte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4d4d4d"/>
                </a:solidFill>
                <a:latin typeface="Lucida Sans Unicode"/>
              </a:rPr>
              <a:t>   </a:t>
            </a:r>
            <a:r>
              <a:rPr b="0" i="1" lang="fr-FR" sz="1800" spc="-1" strike="noStrike">
                <a:solidFill>
                  <a:srgbClr val="4d4d4d"/>
                </a:solidFill>
                <a:latin typeface="Lucida Sans Unicode"/>
              </a:rPr>
              <a:t>também por minha culpa</a:t>
            </a:r>
            <a:r>
              <a:rPr b="0" lang="fr-FR" sz="1800" spc="-1" strike="noStrike">
                <a:solidFill>
                  <a:srgbClr val="4d4d4d"/>
                </a:solidFill>
                <a:latin typeface="Lucida Sans Unicode"/>
              </a:rPr>
              <a:t> 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Lucida Sans Unicode"/>
              </a:rPr>
              <a:t>   </a:t>
            </a:r>
            <a:r>
              <a:rPr b="0" lang="fr-FR" sz="1800" spc="-1" strike="noStrike">
                <a:solidFill>
                  <a:srgbClr val="4d4d4d"/>
                </a:solidFill>
                <a:latin typeface="Lucida Sans Unicode"/>
              </a:rPr>
              <a:t>E também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042920" y="333360"/>
            <a:ext cx="1728720" cy="2158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042920" y="2421000"/>
            <a:ext cx="1728720" cy="2158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042920" y="4437000"/>
            <a:ext cx="172872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41520" y="5122800"/>
            <a:ext cx="18396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19640" y="1773360"/>
            <a:ext cx="5113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Lucida Sans Unicode"/>
              </a:rPr>
              <a:t>O BOM SENSO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4d4d4d"/>
                </a:solidFill>
                <a:latin typeface="Lucida Sans Unicode"/>
              </a:rPr>
              <a:t>só vivia com regras simples e práticas como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Lucida Sans Unicode"/>
              </a:rPr>
              <a:t>  </a:t>
            </a:r>
            <a:r>
              <a:rPr b="0" lang="fr-FR" sz="1800" spc="-1" strike="noStrike">
                <a:solidFill>
                  <a:srgbClr val="4d4d4d"/>
                </a:solidFill>
                <a:latin typeface="Lucida Sans Unicode"/>
              </a:rPr>
              <a:t>«</a:t>
            </a:r>
            <a:r>
              <a:rPr b="0" i="1" lang="fr-FR" sz="1800" spc="-1" strike="noStrike">
                <a:solidFill>
                  <a:srgbClr val="4d4d4d"/>
                </a:solidFill>
                <a:latin typeface="Lucida Sans Unicode"/>
              </a:rPr>
              <a:t>Não gastar mais do que se tem</a:t>
            </a:r>
            <a:r>
              <a:rPr b="0" lang="fr-FR" sz="1800" spc="-1" strike="noStrike">
                <a:solidFill>
                  <a:srgbClr val="4d4d4d"/>
                </a:solidFill>
                <a:latin typeface="Lucida Sans Unicode"/>
              </a:rPr>
              <a:t>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Lucida Sans Unicode"/>
              </a:rPr>
              <a:t>e de claros princípios educativos como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Lucida Sans Unicode"/>
              </a:rPr>
              <a:t>  </a:t>
            </a:r>
            <a:r>
              <a:rPr b="0" lang="fr-FR" sz="1800" spc="-1" strike="noStrike">
                <a:solidFill>
                  <a:srgbClr val="4d4d4d"/>
                </a:solidFill>
                <a:latin typeface="Lucida Sans Unicode"/>
              </a:rPr>
              <a:t>«</a:t>
            </a:r>
            <a:r>
              <a:rPr b="0" i="1" lang="fr-FR" sz="1800" spc="-1" strike="noStrike">
                <a:solidFill>
                  <a:srgbClr val="4d4d4d"/>
                </a:solidFill>
                <a:latin typeface="Lucida Sans Unicode"/>
              </a:rPr>
              <a:t>São os pais quem dão a palavra final</a:t>
            </a:r>
            <a:r>
              <a:rPr b="0" lang="fr-FR" sz="1800" spc="-1" strike="noStrike">
                <a:solidFill>
                  <a:srgbClr val="4d4d4d"/>
                </a:solidFill>
                <a:latin typeface="Lucida Sans Unicode"/>
              </a:rPr>
              <a:t> »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116000" y="981000"/>
            <a:ext cx="1655640" cy="2158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116000" y="3500280"/>
            <a:ext cx="165564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41520" y="5122800"/>
            <a:ext cx="18396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08360" y="1773360"/>
            <a:ext cx="4751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Lucida Sans Unicode"/>
              </a:rPr>
              <a:t>Acontece que, o BOM SENSO</a:t>
            </a:r>
            <a:r>
              <a:rPr b="0" lang="fr-FR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fr-FR" sz="1800" spc="-1" strike="noStrike">
                <a:solidFill>
                  <a:srgbClr val="4d4d4d"/>
                </a:solidFill>
                <a:latin typeface="Lucida Sans Unicode"/>
              </a:rPr>
              <a:t>começou a perder o chão, quando os pais passaram a atacar os professores, que acreditavam ter feito bem o seu trabalho querendo que as crianças aprendessem o respeito e as boas manei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2158920" cy="14349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797440" y="3860640"/>
            <a:ext cx="1435320" cy="2159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332000" y="3068640"/>
            <a:ext cx="14349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41520" y="5122800"/>
            <a:ext cx="18396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1700280"/>
            <a:ext cx="49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Lucida Sans Unicode"/>
              </a:rPr>
              <a:t>Sabendo que um educador foi afastado ao repreender um aluno por comportamento inconveniente na aula, agravou-se o seu estado de saú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332000" y="907920"/>
            <a:ext cx="1434960" cy="2159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635280" y="3429000"/>
            <a:ext cx="518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Lucida Sans Unicode"/>
              </a:rPr>
              <a:t>Deteriorou-se mais ainda, quando as escolas foram obrigadas a ter autorização dos responsáveis, até para um curativo no machucado de um aluno, sequer podiam informar os pais de outros perigos mais graves incorridos pela crianç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332000" y="3573360"/>
            <a:ext cx="190476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41520" y="5122800"/>
            <a:ext cx="18396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08360" y="2781360"/>
            <a:ext cx="48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Lucida Sans Unicode"/>
              </a:rPr>
              <a:t>Enfim, o BOM SENSO</a:t>
            </a:r>
            <a:r>
              <a:rPr b="0" lang="fr-FR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fr-FR" sz="1800" spc="-1" strike="noStrike">
                <a:solidFill>
                  <a:srgbClr val="4d4d4d"/>
                </a:solidFill>
                <a:latin typeface="Lucida Sans Unicode"/>
              </a:rPr>
              <a:t>perdeu a vontade de viver quando percebeu que os ladrões e os criminosos tinham melhor tratamento do que as suas vítim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2160360" cy="21589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332000" y="3789360"/>
            <a:ext cx="2158920" cy="15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41520" y="5122800"/>
            <a:ext cx="18396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708360" y="1341360"/>
            <a:ext cx="4537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Lucida Sans Unicode"/>
              </a:rPr>
              <a:t>Também recebeu fortes golpes morais e físicos, quando a Justiça decidiu que era crime defendermo-nos de algum ladrão na nossa própria casa, enquanto a este último é dada a garantia de poder queixar-se por agressão e atentado à integridade física 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2158920" cy="1447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332000" y="3716280"/>
            <a:ext cx="2146320" cy="21589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5796000" y="3716280"/>
            <a:ext cx="176544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41520" y="5122800"/>
            <a:ext cx="18396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08360" y="2133720"/>
            <a:ext cx="4537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Lucida Sans Unicode"/>
              </a:rPr>
              <a:t>O BOM SENSO</a:t>
            </a:r>
            <a:r>
              <a:rPr b="0" lang="fr-FR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fr-FR" sz="1800" spc="-1" strike="noStrike">
                <a:solidFill>
                  <a:srgbClr val="4d4d4d"/>
                </a:solidFill>
                <a:latin typeface="Lucida Sans Unicode"/>
              </a:rPr>
              <a:t>perdeu definitivamente toda a confiança e a vontade de viver quando soube que uma mulher, por não perceber que uma xícara de café quente iria queimar-lhe, ao derramá-lo em uma das pernas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Lucida Sans Unicode"/>
              </a:rPr>
              <a:t>Recebeu por isso, uma colossal indenização do fabricante da cafeteira elétric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2133360" cy="21589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332000" y="3716280"/>
            <a:ext cx="152388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5T11:24:31Z</dcterms:created>
  <dc:creator>CP6301344M</dc:creator>
  <dc:description>A lire sans seulement survoler</dc:description>
  <dc:language>en-US</dc:language>
  <cp:lastModifiedBy>bruno.fontanesi</cp:lastModifiedBy>
  <dcterms:modified xsi:type="dcterms:W3CDTF">2009-06-25T21:29:16Z</dcterms:modified>
  <cp:revision>34</cp:revision>
  <dc:subject/>
  <dc:title>Diapositive 1</dc:title>
</cp:coreProperties>
</file>