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5.jpeg" ContentType="image/jpeg"/>
  <Override PartName="/ppt/media/image4.jpeg" ContentType="image/jpeg"/>
  <Override PartName="/ppt/media/Over%20tne%20Raibow.wav" ContentType="audio/x-wav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pianosuave.wav" ContentType="audio/x-wav"/>
  <Override PartName="/ppt/media/image2.jpeg" ContentType="image/jpeg"/>
  <Override PartName="/ppt/media/image2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DCA-79E1-49DA-8217-817DCB2F7F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78A-48BD-4CD3-A610-4A9D4ADF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389-74B5-419C-B92C-D1CBE40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4B7-A1A5-46F5-A356-F6387F22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20F-ABD5-4793-9980-497BDE1F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624-E545-4B44-A31B-9E4BA96A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CAC-E22F-4295-9DF5-D24A404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D3D-BE69-4BC6-9D0B-090A417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A7D-06F2-4901-B4B0-3DFC89DB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46F-5DCB-4D2C-833F-5A0897EE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C99-3095-47CC-9EA7-F07DBBE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E56-5347-454F-BA88-7AAFE5E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AA3-2E24-441D-8DCC-9E55895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81C5-E33A-4C41-AF76-A512F4AA24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ver%20tne%20Raib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ianosuav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08360" y="25653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ARO(A) AMIGO(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É com muita tristeza que lhe participamos o falecimento de um amigo muito querido que se chamava BOM SEN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2133720"/>
            <a:ext cx="45370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ertamente você já reconheceu, que a morte do BOM SENSO foi precedida pelo faleci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os seu pais: Verdade e Confi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a sua mulher Discri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a sua filha Responsabilidade 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filho Juízo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2087640" cy="207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208764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32000" y="4363920"/>
            <a:ext cx="20876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1052640"/>
            <a:ext cx="518472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ntão, o BOM SENSO deixa o seu lugar para três falsos irmã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Eu conheço os meus direitos e també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s adquiridos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A culpa não é minha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- 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Sou uma vítima da sociedade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158920" cy="1612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221000"/>
            <a:ext cx="1396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234936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laro que não haverá multidão no seu enterro, porque já não temos muitas pessoas que o conheçam bem, e poucos se darão conta de que ele par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687" t="3482" r="6620" b="2012"/>
          <a:stretch/>
        </p:blipFill>
        <p:spPr>
          <a:xfrm>
            <a:off x="1403280" y="234936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63700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Mas, se você ainda se recorda de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aso queira reavivar a sua lembran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revina todos os seus amigos do desaparecimento do saudos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fazendo circular esta comunica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2158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enão, não faça nada... deixe tudo como está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360" y="177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…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que viveu muitos e muitos anos entre nó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2158920" cy="143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360" y="357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Ninguém conhecia com precisão a sua idade porque o registo do seu nascimento foi desclassificado há muito tempo, tamanha a sua antigu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158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1341360"/>
            <a:ext cx="532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Mas lembramo-nos muito bem del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rincipalmente pelas suas lições de 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 mundo pertence àqueles que se levant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cedo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Não podemos esperar tudo dos outros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u ai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 que me acontece pode ser em part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também por minha culpa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também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1728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73360"/>
            <a:ext cx="51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 BOM SENS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ó vivia com regras simples e práticas 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Não gastar mais do que se tem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de claros princípios educativos com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São os pais quem dão a palavra final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65564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1655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177336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Acontece que, 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omeçou a perder o chão, quando os pais passaram a atacar os professores, que acreditavam ter feito bem o seu trabalho querendo que as crianças aprendessem o respeito e as boas man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58920" cy="143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7440" y="3860640"/>
            <a:ext cx="1435320" cy="215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143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0028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abendo que um educador foi afastado ao repreender um aluno por comportamento inconveniente na aula, agravou-se o seu estado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1434960" cy="21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35280" y="342900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eteriorou-se mais ainda, quando as escolas foram obrigadas a ter autorização dos responsáveis, até para um curativo no machucado de um aluno, sequer podiam informar os pais de outros perigos mais graves incorridos pela cria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1904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2781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nfim, 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erdeu a vontade de viver quando percebeu que os ladrões e os criminosos tinham melhor tratamento do que as suas vít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1589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134136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Também recebeu fortes golpes morais e físicos, quando a Justiça decidiu que era crime defendermo-nos de algum ladrão na nossa própria casa, enquanto a este último é dada a garantia de poder queixar-se por agressão e atentado à integridade físic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1589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14632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1765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13372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erdeu definitivamente toda a confiança e a vontade de viver quando soube que uma mulher, por não perceber que uma xícara de café quente iria queimar-lhe, ao derramá-lo em uma das pern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Recebeu por isso, uma colossal indenização do fabricante da cafeteira elét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3336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523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1:24:31Z</dcterms:created>
  <dc:creator>CP6301344M</dc:creator>
  <dc:description>A lire sans seulement survoler</dc:description>
  <dc:language>en-US</dc:language>
  <cp:lastModifiedBy>bruno.fontanesi</cp:lastModifiedBy>
  <dcterms:modified xsi:type="dcterms:W3CDTF">2009-06-25T21:29:16Z</dcterms:modified>
  <cp:revision>34</cp:revision>
  <dc:subject/>
  <dc:title>Diapositive 1</dc:title>
</cp:coreProperties>
</file>