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Ernesto%20CortazarSentiments%20-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C6B-8F54-4488-8356-C862AFE4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910-7749-49D8-8454-C283706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B3E-1A94-4EA6-9955-B6DE63F4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DFD-3DCB-4D7D-BD4A-956D8ADD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7A8-2D44-4664-AFC4-B198C055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8D9-95FB-4C3B-ADED-D14EF22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285-FB76-43AF-A840-C01CE2C0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2B7-9724-4B3B-AF1B-68E9476E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944-6BB4-45AF-B7EC-7B9090D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115-E66C-466F-9165-3380B18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E82-8909-4FD4-9332-A8CCDC2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E12-A5C8-4D05-9FF0-D6C09E1D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936-2A59-49A6-987E-66BA8780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rnesto%20CortazarSentiments%20-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5791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Para pensares um pouco neste fim de ano e preparares o próximo com alguma lucide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54100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791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3300"/>
                </a:solidFill>
                <a:latin typeface="Arial"/>
              </a:rPr>
              <a:t>Clicar para começ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15320" y="0"/>
            <a:ext cx="6697440" cy="65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Reenviamos milhares de idiotices por mai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ropagando-as a uma velocidade impressiona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Mas sempre que tentamos enviar menssagens cujo 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implica escolhas de vida, já não é tão fácil fazê-las pass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se possamos facilmente aceder no cyberespa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 sites pornográficos, obscenos e vulgares qua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o que toca a questões de valores tal já não 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areça suficientemente interessant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quando rencaminharem esta mens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(se assim o decidirem) provavelmente não ir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nviar a um grande número de pessoas p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ão tereis a certeza de conhecer ao certo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eus interesses, nem qual a percepção do porqu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o seu envi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Bizarr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estejamos mais preocup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 o que os outros pens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com a percepção que cada um 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e si própri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0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0800" y="76320"/>
            <a:ext cx="62532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paradoxo dos dias de hoje é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Temos paciência para construir grandes edifícios… mas não a paciência suficiente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ntrolar a nossa 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Construímos largas auto estradas…, mas continuamos com pontos de vista estreit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Gastamos muito…, mas damos pouc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Habitamos casas cada vez maiores, mas as famílias são cada vez mais pequen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Cada vez mais usufruimos de comodidades e facilidades, mas nunca temos tempo liv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Acumulamos montes de diplomas, mas cada vez mais a nossa capacidade lógica falha, e cada vez temos menos discernimen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Multiplicamos os haveres,  mas diminuimos os nossos valo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8120" y="685800"/>
            <a:ext cx="60958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A ciência permite-nos viver cada vez mais tempo, mas continuamos a dar mais importância à quantidade que à qualidade, e, no fim da linha, a vida continua triste e monóto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Realizámos viagens em torno da lua, mas temos alguma dificuldade em atravessar a rua e ajudar um vizinh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 tecnologia até nos permite reenviar es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3300"/>
                </a:solidFill>
                <a:latin typeface="Arial"/>
              </a:rPr>
              <a:t>« Diaporama »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 uma simplicidade espantosa, mas cabe-nos primeiro decidir da oportunidade de partilhar este texto e os valores que veicula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73400" y="1647720"/>
            <a:ext cx="524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Se não reenviares esta mens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a pelo menos um pesso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significa que não percebeste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do que aqui estivemos a diz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1143000" cy="133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952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ELICIDAD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a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11640" y="1844640"/>
            <a:ext cx="2124000" cy="13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272120" y="4076640"/>
            <a:ext cx="356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Texto recebido de uma amiga internauta (o autor não é conheci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Musica: Ernesto Cort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Sent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8840" y="1905120"/>
            <a:ext cx="663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Durante um jantar de uma obra de carida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O pai de uma criança deficiente 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apresentou um discurso inesquecível...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Aqui v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1143000" cy="1333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5791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3300"/>
                </a:solidFill>
                <a:latin typeface="Arial"/>
              </a:rPr>
              <a:t>Clicar para contin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360" y="914400"/>
            <a:ext cx="5451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iz-se que Deus tudo faz com perfeiç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nde está a perfeição de Shay, o meu filh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meu filho não consegue compreender as coisas como as outras crianç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meu filho não se pode di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o as outras crianç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nde está então a perfeição de De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u acredito que ao criar uma cri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eficiente como o meu filh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 perfeição que procuramos em Deus estará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a forma como reagimos a esta crianç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Vou contar-vos uma pequena história para justificar a minha propo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0400" y="304920"/>
            <a:ext cx="594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Uma tarde, Shay e eu andávamos passeando num parque onde se encontravam uns rapazes a jogar Base-Bal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virou-se para mim e perguntou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Pai, achas que eles me deixam jogar? 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u sabia que Shay não era própriamente o género de parceiro que os rapazes normalmente procuram, mas mesmo assim ainda tive esperança que deixassem o Shay « fazer uma perninha 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ssim, perguntei a um dos jogadores em campo se seria possível deixar o Shay participar só um pouc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jogador reflectiu um bocadinho e disse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Estamos a perder por seis pontos e vamos na oitava mão, portanto acho que ele pode entrar na equipa  porque temos sempre a oportunidade de recuperar na nona volta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304920"/>
            <a:ext cx="525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deu um enorme suspir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isseram ao  Shay para calçar a sua l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 tomar pos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Já no fim da oitava mão, a equipa de Shay marcou alguns pontos mas continuou a uma distância de três pont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o fim da nona mão, a equipa de Shay gan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ainda um ponto, mas continuou, ainda assim, com um atraso de dois pontos mas ainda dispondo de uma chance de compor a parti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ara espanto de todos, deram ao Shay o bastão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Todos sabíamos ser impossível ele ganhar, pois o Shay não fazia ideia de como fazer a batida, nem como direccionar uma b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838080"/>
            <a:ext cx="5410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Logo que Shay se colocou na zona de recepção (base), o lançador avançou alguns passos e atirou a bola com toda a suavidade  de forma a que Shay conseguisse ao menos tocar-lhe com o bas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5920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bateu pesadamente no primeiro lance, mas sem suces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5920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Um dos parceiros veio em sua ajuda e os dois agarraram no bastão, aguardando o próximo lanç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480">
              <a:lnSpc>
                <a:spcPct val="100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 lançador avança de novo e torna a atirar a bola ligeiramente para Sh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7640" y="1504800"/>
            <a:ext cx="60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 o seu equipamento e com a ajuda, Shay 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a bola, mas possibilitando a retoma pelo lançador</a:t>
            </a:r>
            <a:r>
              <a:rPr b="1" i="1" lang="fr-CA" sz="18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Poderia este ter, facilmente, lançado a 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à primeira base, eliminando Shay e o j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terminava por aí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Mas não! O lançador atirou a bola de tal forma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aquela caísse bem longe da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Toda a gente desatou a gritar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para a base, Sh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rre para a primeira base !!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6816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unca ele tinha tido a oportunidad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6816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rrer para uma primeira bas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8120" y="206280"/>
            <a:ext cx="6095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galopou ao longo da linha de fun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mpletamente espantado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ando chegou à primeira base, um dos adversários tinha já a bola na mão direita; ele poderia facilmente lançá-la à segunda base, o que de imediato eliminaria o Shay que continuava a correr. Pois, mas ele lançou a bola por cima da terceira base e mais uma vez todos desataram a grita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para a segund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Corre para a segunda !!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Os batedores à frente de Shay aproximam-se da segunda base, o adversário dirige-se para a terceira base  e exclam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para a terceira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ando Shay passa pela terceira, os jovens 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das duas equipas começam a grit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« Corre o circuito todo, Shay !!!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9520" y="762120"/>
            <a:ext cx="632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completa o circuito, até à zona da rece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 os jogadores pegam-no em o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hay é um herói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Ele acaba de fazer um grande « Slam » 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ganhar o desafio para a sua equi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Nesse dia (lá continuou o seu pai, lavado nas lágrimas que lhe corriam pelos olho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 u="sng">
                <a:solidFill>
                  <a:srgbClr val="000099"/>
                </a:solidFill>
                <a:uFillTx/>
                <a:latin typeface="Arial"/>
              </a:rPr>
              <a:t>« estes 18 rapazes atingiram o seu próprio niv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 u="sng">
                <a:solidFill>
                  <a:srgbClr val="000099"/>
                </a:solidFill>
                <a:uFillTx/>
                <a:latin typeface="Arial"/>
              </a:rPr>
              <a:t>da perfeição de Deus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 algn="ctr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3120" algn="ctr"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Que bela história, direis vó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fr-CA" sz="1800" spc="-1" strike="noStrike">
                <a:solidFill>
                  <a:srgbClr val="000099"/>
                </a:solidFill>
                <a:latin typeface="Arial"/>
              </a:rPr>
              <a:t>Será que a devemos contar a toda a g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9:10Z</dcterms:created>
  <dc:creator>Micheline</dc:creator>
  <dc:description/>
  <dc:language>en-US</dc:language>
  <cp:lastModifiedBy>user</cp:lastModifiedBy>
  <dcterms:modified xsi:type="dcterms:W3CDTF">2008-10-28T16:40:52Z</dcterms:modified>
  <cp:revision>14</cp:revision>
  <dc:subject/>
  <dc:title>Diapositive 1</dc:title>
</cp:coreProperties>
</file>