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Ernesto%20CortazarSentiments%20-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2160-6DE7-49E7-BDE1-6D19477DC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E3A0-78F4-42FA-97B0-52CCAFFE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3EB3-545A-4807-A116-4CB50B52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DAFC-F0CF-4340-80B3-24F1BC80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FB9A-DBD5-4C52-A6E1-3A65EAF6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95E8-385B-4D92-9B54-86EBD87F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69A-2F03-4B78-A2AC-3E060FDE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6739-DC6D-4441-9450-480A0041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EBB3-5701-467B-A645-2BA71804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583D-8ADA-43EB-9ED5-0C586063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E5EE-B57A-43C2-8499-1F78D10E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617C-98B2-4FA8-9346-E3BE3434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D8C7-3C8B-4A1A-BCEB-406C192F1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Ernesto%20CortazarSentiments%20-.wav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95120" y="380520"/>
            <a:ext cx="57913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Para pensares um pouco neste fim de ano e preparares o próximo com alguma lucidez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541008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5791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ff3300"/>
                </a:solidFill>
                <a:latin typeface="Arial"/>
              </a:rPr>
              <a:t>Clicar para começ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15320" y="0"/>
            <a:ext cx="6697440" cy="65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Bizarro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Reenviamos milhares de idiotices por mai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propagando-as a uma velocidade impressionan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Mas sempre que tentamos enviar menssagens cujo t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implica escolhas de vida, já não é tão fácil fazê-las passa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Bizarro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Que se possamos facilmente aceder no cyberespaç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a sites pornográficos, obscenos e vulgares quand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no que toca a questões de valores tal já não 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pareça suficientemente interessant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Bizarro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que quando rencaminharem esta mens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(se assim o decidirem) provavelmente não ir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enviar a um grande número de pessoas p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não tereis a certeza de conhecer ao certo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seus interesses, nem qual a percepção do porqu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do seu envi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Bizarr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que estejamos mais preocup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com o que os outros pens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que com a percepção que cada um 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de si própri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70384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0800" y="76320"/>
            <a:ext cx="6253200" cy="62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O paradoxo dos dias de hoje é 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-Temos paciência para construir grandes edifícios… mas não a paciência suficiente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controlar a nossa i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-Construímos largas auto estradas…, mas continuamos com pontos de vista estreito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-Gastamos muito…, mas damos pouc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-Habitamos casas cada vez maiores, mas as famílias são cada vez mais pequena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-Cada vez mais usufruimos de comodidades e facilidades, mas nunca temos tempo liv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-Acumulamos montes de diplomas, mas cada vez mais a nossa capacidade lógica falha, e cada vez temos menos discerniment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-Multiplicamos os haveres,  mas diminuimos os nossos valor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8120" y="685800"/>
            <a:ext cx="60958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-A ciência permite-nos viver cada vez mais tempo, mas continuamos a dar mais importância à quantidade que à qualidade, e, no fim da linha, a vida continua triste e monóton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-Realizámos viagens em torno da lua, mas temos alguma dificuldade em atravessar a rua e ajudar um vizinh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A tecnologia até nos permite reenviar es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3300"/>
                </a:solidFill>
                <a:latin typeface="Arial"/>
              </a:rPr>
              <a:t>« Diaporama » 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com uma simplicidade espantosa, mas cabe-nos primeiro decidir da oportunidade de partilhar este texto e os valores que veicula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173400" y="1647720"/>
            <a:ext cx="5244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99"/>
                </a:solidFill>
                <a:latin typeface="Arial"/>
              </a:rPr>
              <a:t>Se não reenviares esta mensag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99"/>
                </a:solidFill>
                <a:latin typeface="Arial"/>
              </a:rPr>
              <a:t>a pelo menos um pesso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99"/>
                </a:solidFill>
                <a:latin typeface="Arial"/>
              </a:rPr>
              <a:t>significa que não percebeste 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99"/>
                </a:solidFill>
                <a:latin typeface="Arial"/>
              </a:rPr>
              <a:t>do que aqui estivemos a diz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076720" y="4724280"/>
            <a:ext cx="1143000" cy="1333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9520" y="9903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ELICIDAD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a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11640" y="1844640"/>
            <a:ext cx="2124000" cy="13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</a:t>
            </a:r>
            <a:endParaRPr b="1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>
            <a:off x="4272120" y="4076640"/>
            <a:ext cx="356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00"/>
                </a:solidFill>
                <a:latin typeface="Arial"/>
              </a:rPr>
              <a:t>Texto recebido de uma amiga internauta (o autor não é conheci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00"/>
                </a:solidFill>
                <a:latin typeface="Arial"/>
              </a:rPr>
              <a:t>Musica: Ernesto Corta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00"/>
                </a:solidFill>
                <a:latin typeface="Arial"/>
              </a:rPr>
              <a:t>Sent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8840" y="1905120"/>
            <a:ext cx="6636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99"/>
                </a:solidFill>
                <a:latin typeface="Arial"/>
              </a:rPr>
              <a:t>Durante um jantar de uma obra de caridad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99"/>
                </a:solidFill>
                <a:latin typeface="Arial"/>
              </a:rPr>
              <a:t>O pai de uma criança deficiente me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99"/>
                </a:solidFill>
                <a:latin typeface="Arial"/>
              </a:rPr>
              <a:t>apresentou um discurso inesquecível...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99"/>
                </a:solidFill>
                <a:latin typeface="Arial"/>
              </a:rPr>
              <a:t>Aqui v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181480" y="4724280"/>
            <a:ext cx="1143000" cy="1333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81680" y="5791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ff3300"/>
                </a:solidFill>
                <a:latin typeface="Arial"/>
              </a:rPr>
              <a:t>Clicar para contin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92360" y="914400"/>
            <a:ext cx="5451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Diz-se que Deus tudo faz com perfeiçã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Onde está a perfeição de Shay, o meu filh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O meu filho não consegue compreender as coisas como as outras crianç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O meu filho não se pode dive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como as outras criança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Onde está então a perfeição de Deu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Eu acredito que ao criar uma crian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deficiente como o meu filh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a perfeição que procuramos em Deus estará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Na forma como reagimos a esta crianç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Vou contar-vos uma pequena história para justificar a minha propo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00400" y="304920"/>
            <a:ext cx="5943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Uma tarde, Shay e eu andávamos passeando num parque onde se encontravam uns rapazes a jogar Base-Bal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Shay virou-se para mim e perguntou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« Pai, achas que eles me deixam jogar? 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Eu sabia que Shay não era própriamente o género de parceiro que os rapazes normalmente procuram, mas mesmo assim ainda tive esperança que deixassem o Shay « fazer uma perninha »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Assim, perguntei a um dos jogadores em campo se seria possível deixar o Shay participar só um pouc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O jogador reflectiu um bocadinho e disse 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« Estamos a perder por seis pontos e vamos na oitava mão, portanto acho que ele pode entrar na equipa  porque temos sempre a oportunidade de recuperar na nona volta.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429000" y="304920"/>
            <a:ext cx="5257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Shay deu um enorme suspiro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Disseram ao  Shay para calçar a sua lu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e tomar posi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Já no fim da oitava mão, a equipa de Shay marcou alguns pontos mas continuou a uma distância de três ponto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No fim da nona mão, a equipa de Shay ganh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ainda um ponto, mas continuou, ainda assim, com um atraso de dois pontos mas ainda dispondo de uma chance de compor a partid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Para espanto de todos, deram ao Shay o bastão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Todos sabíamos ser impossível ele ganhar, pois o Shay não fazia ideia de como fazer a batida, nem como direccionar uma b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76720" y="838080"/>
            <a:ext cx="5410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Logo que Shay se colocou na zona de recepção (base), o lançador avançou alguns passos e atirou a bola com toda a suavidade  de forma a que Shay conseguisse ao menos tocar-lhe com o bast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5920">
              <a:lnSpc>
                <a:spcPct val="100000"/>
              </a:lnSpc>
              <a:tabLst>
                <a:tab algn="l" pos="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Shay bateu pesadamente no primeiro lance, mas sem sucesso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5920">
              <a:lnSpc>
                <a:spcPct val="100000"/>
              </a:lnSpc>
              <a:tabLst>
                <a:tab algn="l" pos="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Um dos parceiros veio em sua ajuda e os dois agarraram no bastão, aguardando o próximo lanç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480">
              <a:lnSpc>
                <a:spcPct val="100000"/>
              </a:lnSpc>
              <a:tabLst>
                <a:tab algn="l" pos="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  <a:tab algn="l" pos="845172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O lançador avança de novo e torna a atirar a bola ligeiramente para Sh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77640" y="1504800"/>
            <a:ext cx="6005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Com o seu equipamento e com a ajuda, Shay 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na bola, mas possibilitando a retoma pelo lançador</a:t>
            </a:r>
            <a:r>
              <a:rPr b="1" i="1" lang="fr-CA" sz="1800" spc="-1" strike="noStrike">
                <a:solidFill>
                  <a:srgbClr val="000000"/>
                </a:solidFill>
                <a:latin typeface="Arial"/>
              </a:rPr>
              <a:t> 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Poderia este ter, facilmente, lançado a b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à primeira base, eliminando Shay e o j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terminava por aí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Mas não! O lançador atirou a bola de tal forma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que aquela caísse bem longe da 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Toda a gente desatou a gritar 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« Corre para a base, Sh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Corre para a primeira base !!!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6816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  <a:tab algn="l" pos="845172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Nunca ele tinha tido a oportunidad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6816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  <a:tab algn="l" pos="845172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correr para uma primeira bas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8120" y="206280"/>
            <a:ext cx="60958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Shay galopou ao longo da linha de fund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completamente espantado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Quando chegou à primeira base, um dos adversários tinha já a bola na mão direita; ele poderia facilmente lançá-la à segunda base, o que de imediato eliminaria o Shay que continuava a correr. Pois, mas ele lançou a bola por cima da terceira base e mais uma vez todos desataram a grita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« Corre para a segund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Corre para a segunda !!!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Os batedores à frente de Shay aproximam-se da segunda base, o adversário dirige-se para a terceira base  e exclam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« Corre para a terceira!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Quando Shay passa pela terceira, os jovens 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das duas equipas começam a grit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« Corre o circuito todo, Shay !!!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819520" y="762120"/>
            <a:ext cx="6324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Shay completa o circuito, até à zona da recep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E os jogadores pegam-no em omb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3120"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Shay é um herói 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3120"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Ele acaba de fazer um grande « Slam » 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3120"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ganhar o desafio para a sua equi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3120"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Nesse dia (lá continuou o seu pai, lavado nas lágrimas que lhe corriam pelos olhos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3120"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3120"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 u="sng">
                <a:solidFill>
                  <a:srgbClr val="000099"/>
                </a:solidFill>
                <a:uFillTx/>
                <a:latin typeface="Arial"/>
              </a:rPr>
              <a:t>« estes 18 rapazes atingiram o seu próprio nive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3120"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 u="sng">
                <a:solidFill>
                  <a:srgbClr val="000099"/>
                </a:solidFill>
                <a:uFillTx/>
                <a:latin typeface="Arial"/>
              </a:rPr>
              <a:t>da perfeição de Deus.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3120" algn="ctr"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3120" algn="ctr"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Que bela história, direis vó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Será que a devemos contar a toda a gen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3:59:10Z</dcterms:created>
  <dc:creator>Micheline</dc:creator>
  <dc:description/>
  <dc:language>en-US</dc:language>
  <cp:lastModifiedBy>user</cp:lastModifiedBy>
  <dcterms:modified xsi:type="dcterms:W3CDTF">2008-10-28T16:40:52Z</dcterms:modified>
  <cp:revision>14</cp:revision>
  <dc:subject/>
  <dc:title>Diapositive 1</dc:title>
</cp:coreProperties>
</file>