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RUSSIA%20--%20Tchaikovsky%20-%20Sleeping%20Beauty%20-%20Waltz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A6B-8A85-43B9-8212-7C7B0AC1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5C0-E45A-40CC-8823-8F85D70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2C1-91A3-428D-98C1-4402AAD5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0E8-122E-4B5E-959E-37D8644B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02F-2A83-4A88-AA55-CF6B6ED6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6F1-B017-477F-8F91-FB1D3B03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79E-F21E-43FB-A190-BB9458A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19D-57A6-4AA4-88BE-5F6C2E6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A34-B741-4AF6-8E4A-974A2F2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1A6-5845-4D7C-A0D7-83BE079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983-2F7F-4545-96F6-980103A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6D3-825C-4543-A2AC-D30D6696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2822-DF08-4653-9EB5-849A14C43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RUSSIA%20--%20Tchaikovsky%20-%20Sleeping%20Beauty%20-%20Waltz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8766000" y="6553080"/>
            <a:ext cx="37800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11280" y="189000"/>
            <a:ext cx="4321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A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SET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MARAVILHA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D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RÚSSIA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6381720"/>
            <a:ext cx="2159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Quixley LET"/>
              </a:rPr>
              <a:t>PROGRESSÃO AUTOMÁTIC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Quixley LET"/>
              <a:ea typeface="Quixley LE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5950080"/>
            <a:ext cx="177156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Eliza\Mis documentos\lago bakal\s4til5.jpg"/>
          <p:cNvPicPr/>
          <p:nvPr/>
        </p:nvPicPr>
        <p:blipFill>
          <a:blip r:embed="rId2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92160">
            <a:solidFill>
              <a:srgbClr val="000000"/>
            </a:solidFill>
            <a:miter/>
          </a:ln>
        </p:spPr>
      </p:pic>
      <p:pic>
        <p:nvPicPr>
          <p:cNvPr id="65" name="Picture 3" descr="C:\Documents and Settings\Eliza\Mis documentos\lago bakal\2ntfryv.jpg"/>
          <p:cNvPicPr/>
          <p:nvPr/>
        </p:nvPicPr>
        <p:blipFill>
          <a:blip r:embed="rId3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Eliza\Mis documentos\lago bakal\1z6rtoj.jpg"/>
          <p:cNvPicPr/>
          <p:nvPr/>
        </p:nvPicPr>
        <p:blipFill>
          <a:blip r:embed="rId4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Eliza\Mis documentos\lago bakal\1zqeno0.jpg"/>
          <p:cNvPicPr/>
          <p:nvPr/>
        </p:nvPicPr>
        <p:blipFill>
          <a:blip r:embed="rId5"/>
          <a:stretch/>
        </p:blipFill>
        <p:spPr>
          <a:xfrm>
            <a:off x="914400" y="609480"/>
            <a:ext cx="7315200" cy="561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Eliza\Mis documentos\lago bakal\28rpfn9.jpg"/>
          <p:cNvPicPr/>
          <p:nvPr/>
        </p:nvPicPr>
        <p:blipFill>
          <a:blip r:embed="rId6"/>
          <a:stretch/>
        </p:blipFill>
        <p:spPr>
          <a:xfrm>
            <a:off x="914400" y="609480"/>
            <a:ext cx="7315200" cy="5658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Eliza\Mis documentos\lago bakal\peterhof_ostsee3.jpg"/>
          <p:cNvPicPr/>
          <p:nvPr/>
        </p:nvPicPr>
        <p:blipFill>
          <a:blip r:embed="rId7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68580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CATEDRAL DE SAN BASIL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a catedral localizada na Praça Vermelha da cidade de Moscovo, Rússia. É conhecida mundialmente pelas suas características cúpulas em forma de bolbo (aceboladas). 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A construcção da catedral foi ordenada pelo czar Iván o Terrível para comemorar a conquista de Janato de Kazán, e realizou-se entre 1555 e 156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Mis documentos\lago bakal\2538394681_d8fd8c669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Eliza\Mis documentos\lago bakal\vasil0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Eliza\Mis documentos\lago bakal\4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Eliza\Mis documentos\lago bakal\2538389935_a2a674f275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Eliza\Mis documentos\lago bakal\i-3617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1700280"/>
            <a:ext cx="9144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66ff"/>
                </a:solidFill>
                <a:uFillTx/>
                <a:latin typeface="Quixley LET"/>
              </a:rPr>
              <a:t>OS POLOS DA REPÚBLICA DE K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Quixley LET"/>
              </a:rPr>
              <a:t>A ciência não sabe ao certo quando é que foram criados. Estima-se uma idade de 200 milhões de anos, e possuem uma altura de 42 metros no máxim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Documents and Settings\Eliza\Escritorio\siete-gigantes-ura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Eliza\Escritorio\06-1024x68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197000"/>
            <a:ext cx="914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MONTE ELBR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a montanha situada na parte ocidental da cordilheira caucásica, na Rússia, perto da fronteira com a Geórgia. É a montanha mais alta da cordilheira do Cáucaso, a qual, juntamente com os Montes Urales, é considerada a fronteira entre a Europa e a Ás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mount_elbrus_may_2008-1024x6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Eliza\Escritorio\elbrus_north_19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Eliza\Escritorio\elbrus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-659880" y="544500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Quixley LET"/>
              </a:rPr>
              <a:t>Tchaikovsky – La bella durmiente (lib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87700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Quixley LET"/>
              </a:rPr>
              <a:t>14 e Janeiro d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77336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8b"/>
                </a:solidFill>
                <a:latin typeface="Quixley LET"/>
              </a:rPr>
              <a:t>No ano passado um grupo de canais de televisão, diários, revistas e rádios Russos proposeram um inquérito oficial para que o público votasse nas sete maravilhas da Rússia. Todos puderam participar, fosse pela internet ou via S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Quixley LET"/>
              </a:rPr>
              <a:t>EIS AS ELEI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2276640"/>
            <a:ext cx="9144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O LAGO BAIK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 lago de origem tectónica, localizado na região sul da Sibéria. O seu nome deriva do tártaro «Bai-Kul», lago rico. Também é conhecido como o Olho azul da Sibéria e A Pérola da Ásia pela qualidade das suas águ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Eliza\Mis documentos\lago bakal\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Eliza\Mis documentos\lago bakal\baikal_ex_nwshor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Eliza\Mis documentos\lago bakal\baikal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Eliza\Mis documentos\lago bakal\baikal-lake.2008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Eliza\Mis documentos\lago bakal\baikal.jpgESTA ES MUY LINDA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Documents and Settings\Eliza\Mis documentos\lago bakal\baikal_rus_11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447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ff"/>
                </a:solidFill>
                <a:uFillTx/>
                <a:latin typeface="Quixley LET"/>
              </a:rPr>
              <a:t>O VALE DOS GÉIS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3017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Está localizado na península de Kamchatka e contém centenas de Géisers activ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Eliza\Escritorio\kamchatkageyser03.jpg"/>
          <p:cNvPicPr/>
          <p:nvPr/>
        </p:nvPicPr>
        <p:blipFill>
          <a:blip r:embed="rId2"/>
          <a:stretch/>
        </p:blipFill>
        <p:spPr>
          <a:xfrm>
            <a:off x="2590920" y="838080"/>
            <a:ext cx="3809880" cy="5181840"/>
          </a:xfrm>
          <a:prstGeom prst="rect">
            <a:avLst/>
          </a:prstGeom>
          <a:ln w="289080">
            <a:solidFill>
              <a:srgbClr val="000000"/>
            </a:solidFill>
            <a:miter/>
          </a:ln>
        </p:spPr>
      </p:pic>
      <p:pic>
        <p:nvPicPr>
          <p:cNvPr id="57" name="Picture 3" descr="C:\Documents and Settings\Eliza\Escritorio\kamchatkageyser01.jpg"/>
          <p:cNvPicPr/>
          <p:nvPr/>
        </p:nvPicPr>
        <p:blipFill>
          <a:blip r:embed="rId3"/>
          <a:stretch/>
        </p:blipFill>
        <p:spPr>
          <a:xfrm>
            <a:off x="1447920" y="762120"/>
            <a:ext cx="6095880" cy="5257800"/>
          </a:xfrm>
          <a:prstGeom prst="rect">
            <a:avLst/>
          </a:prstGeom>
          <a:ln w="326880">
            <a:solidFill>
              <a:srgbClr val="000000"/>
            </a:solidFill>
            <a:miter/>
          </a:ln>
        </p:spPr>
      </p:pic>
      <p:pic>
        <p:nvPicPr>
          <p:cNvPr id="58" name="Picture 5" descr="C:\Documents and Settings\Eliza\Escritorio\kamchatkageyser04.jpg"/>
          <p:cNvPicPr/>
          <p:nvPr/>
        </p:nvPicPr>
        <p:blipFill>
          <a:blip r:embed="rId4"/>
          <a:stretch/>
        </p:blipFill>
        <p:spPr>
          <a:xfrm>
            <a:off x="1447920" y="762120"/>
            <a:ext cx="609588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620640"/>
            <a:ext cx="9144000" cy="76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 u="sng">
                <a:solidFill>
                  <a:srgbClr val="0066ff"/>
                </a:solidFill>
                <a:uFillTx/>
                <a:latin typeface="Quixley LET"/>
              </a:rPr>
              <a:t>A ESTÁTUA DA MADRE PAT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É uma estátua monumental levantada sobre a colina Mamáyev Kurgán em Volgogrado, antiga Stalingrado, em comemoração da batalha durante a Segunda Guerra Mundial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A construcção do monumento começou em 1959 terminou em 1967. Duas restaurações importantes foram realizadas nos anos de 1972 e de 1986.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Quixley LET"/>
              </a:rPr>
              <a:t>De uma altura de 85 metros, é composta por 5.500 toneladas de betão e 2.400 toneladas de metal. A espada mede 33 metros e pesa 14 toneladas, enquanto que a parte suspensa pesa 250 tonel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C:\Documents and Settings\Eliza\Mis documentos\lago bakal\Скульптура-'Родина-мать-зовет'.jpg"/>
          <p:cNvPicPr/>
          <p:nvPr/>
        </p:nvPicPr>
        <p:blipFill>
          <a:blip r:embed="rId2"/>
          <a:stretch/>
        </p:blipFill>
        <p:spPr>
          <a:xfrm>
            <a:off x="1714680" y="-380880"/>
            <a:ext cx="5715000" cy="7619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Documents and Settings\Eliza\Mis documentos\lago bakal\2169698.jpg"/>
          <p:cNvPicPr/>
          <p:nvPr/>
        </p:nvPicPr>
        <p:blipFill>
          <a:blip r:embed="rId3"/>
          <a:stretch/>
        </p:blipFill>
        <p:spPr>
          <a:xfrm>
            <a:off x="762120" y="-209520"/>
            <a:ext cx="7619760" cy="727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Documents and Settings\Eliza\Mis documentos\lago bakal\138592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1557360"/>
            <a:ext cx="9144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0066ff"/>
                </a:solidFill>
                <a:uFillTx/>
                <a:latin typeface="Quixley LET"/>
              </a:rPr>
              <a:t>O PALÁCIO DE PETERH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Quixley LET"/>
              </a:rPr>
              <a:t>É um conjunto formado pelo palácio palacio e pelo parque que se encontra na margem meridional do Golfo da Finlândia, a uns 29 kms de San Petersburgo. O centro do conjunto é constituído pelo Palácio Grande, que está construído no terraço marítimo e é de estilo barroco. Destacam-se também os parques e as fo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23:53:18Z</dcterms:created>
  <dc:creator>WINDOWS XP PRO</dc:creator>
  <dc:description/>
  <dc:language>en-US</dc:language>
  <cp:lastModifiedBy>WINDOWS XP PRO</cp:lastModifiedBy>
  <dcterms:modified xsi:type="dcterms:W3CDTF">2010-01-15T00:25:32Z</dcterms:modified>
  <cp:revision>2</cp:revision>
  <dc:subject/>
  <dc:title>Diapositivo 1</dc:title>
</cp:coreProperties>
</file>