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FDBD-638F-404A-813A-6B45A5E0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38AA-99EF-4859-A4B4-D2CD5A53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8E32-714A-456B-8440-2FAC6EED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5A1D-748A-4CB0-B5AE-4241D22C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D9B-47F7-4ED0-80C8-6FFB5245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DEE-D165-4F5D-A0F8-4369EB74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20C-E9CD-4D95-B8A9-53452258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D7E1-9598-4BEF-8FA3-99ECC911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57F-C35B-4AA1-B8AB-8B3DE5CA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7A9-71B3-4F5D-B478-844F59D9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ACF-BD59-4DC9-B852-C742F37B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9FD-08A9-45CA-A157-52EE211F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303B-8DB3-4535-8F82-850207922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ManagersMeetingfooter2"/>
          <p:cNvPicPr/>
          <p:nvPr/>
        </p:nvPicPr>
        <p:blipFill>
          <a:blip r:embed="rId2"/>
          <a:stretch/>
        </p:blipFill>
        <p:spPr>
          <a:xfrm>
            <a:off x="0" y="6418440"/>
            <a:ext cx="9144000" cy="447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managersMeetingHeader2"/>
          <p:cNvPicPr/>
          <p:nvPr/>
        </p:nvPicPr>
        <p:blipFill>
          <a:blip r:embed="rId3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letterheadlogo"/>
          <p:cNvPicPr/>
          <p:nvPr/>
        </p:nvPicPr>
        <p:blipFill>
          <a:blip r:embed="rId4"/>
          <a:stretch/>
        </p:blipFill>
        <p:spPr>
          <a:xfrm>
            <a:off x="7848720" y="6172200"/>
            <a:ext cx="114300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C12C-1718-45B3-9934-FA52379CF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managersMeetin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114440" y="3429000"/>
            <a:ext cx="48769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67400" y="6416640"/>
            <a:ext cx="4495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SAFETY is the number 1 value of the company!!!                                    </a:t>
            </a:r>
            <a:r>
              <a:rPr b="1" i="1" lang="en-US" sz="800" spc="-1" strike="noStrike">
                <a:solidFill>
                  <a:srgbClr val="ffffff"/>
                </a:solidFill>
                <a:latin typeface="Arial"/>
              </a:rPr>
              <a:t>Louis Raspino, President &amp; CEO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967E-7C2F-435F-9706-4825E79F2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8600" y="1600200"/>
            <a:ext cx="3505320" cy="144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 PR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EITÁ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 PS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8 P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4 PS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 P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 PS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4 P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952880" y="3581280"/>
            <a:ext cx="396252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Diferentes pneus são projectados para diferentes pressões, você pode encontrar o valor máximo de pressão dos pneus num pequeno número próximo à jante sobre um dos lados do pneu, nunca poderá ultrapassar esta pres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moto_0046"/>
          <p:cNvPicPr/>
          <p:nvPr/>
        </p:nvPicPr>
        <p:blipFill>
          <a:blip r:embed="rId1"/>
          <a:stretch/>
        </p:blipFill>
        <p:spPr>
          <a:xfrm>
            <a:off x="609480" y="3200400"/>
            <a:ext cx="2571840" cy="2971800"/>
          </a:xfrm>
          <a:prstGeom prst="rect">
            <a:avLst/>
          </a:prstGeom>
          <a:ln w="0">
            <a:noFill/>
          </a:ln>
        </p:spPr>
      </p:pic>
      <p:sp>
        <p:nvSpPr>
          <p:cNvPr id="91" name="Line 8"/>
          <p:cNvSpPr/>
          <p:nvPr/>
        </p:nvSpPr>
        <p:spPr>
          <a:xfrm flipH="1">
            <a:off x="1523880" y="3581280"/>
            <a:ext cx="190512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352680" y="3352680"/>
            <a:ext cx="1981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44 psi) MAX 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A561-9069-4E41-8C8F-1888EE7A9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5943600" cy="2503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3962520" y="1752480"/>
            <a:ext cx="4495680" cy="155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Uma pressão inferior ao recomendado faz aumentar a temperatura do pneu. Através de fotografias de infravermelhos obtidas em pneus a alta velocidade, verifica-se que o calor que produzirá danos aumenta na medida que a pressão do pneu diminu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09480" y="6172200"/>
            <a:ext cx="2819520" cy="23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0000"/>
                </a:solidFill>
                <a:latin typeface="Arial"/>
              </a:rPr>
              <a:t>Baseado em Pneus tamanho P235/75/R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705720" y="3962520"/>
            <a:ext cx="2209680" cy="105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PERIGO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O calor excesivo danifica os pn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78A2-146B-4F7E-B018-84BEA69D5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886200" y="2133720"/>
            <a:ext cx="480060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utro ponto importante a considerar é a carga a que submetemos os nossos pneus, muitas vezes sobrecarregamos os veículos sem prestar atenção ao esforço que isto representa para os pneus, ao exceder a capacidade máxima de carga pode resultar na  falha do mesmo e causar um aci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048120" cy="2477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3048120" cy="238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6FC4-DE93-4D14-8E7E-4F0F03931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57200" y="1822320"/>
            <a:ext cx="4724280" cy="4521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457200" y="1447920"/>
            <a:ext cx="47242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Máxima Capacidade de Carga por Pn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410080" y="1600200"/>
            <a:ext cx="25909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715000" y="1676520"/>
            <a:ext cx="26668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 tabela mostra o índice de carga e a máxima capacidade de carga por pneu em libras e qui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moto_0047"/>
          <p:cNvPicPr/>
          <p:nvPr/>
        </p:nvPicPr>
        <p:blipFill>
          <a:blip r:embed="rId2"/>
          <a:stretch/>
        </p:blipFill>
        <p:spPr>
          <a:xfrm>
            <a:off x="6019920" y="4800600"/>
            <a:ext cx="1771560" cy="1447920"/>
          </a:xfrm>
          <a:prstGeom prst="rect">
            <a:avLst/>
          </a:prstGeom>
          <a:ln w="0">
            <a:noFill/>
          </a:ln>
        </p:spPr>
      </p:pic>
      <p:sp>
        <p:nvSpPr>
          <p:cNvPr id="111" name="Line 12"/>
          <p:cNvSpPr/>
          <p:nvPr/>
        </p:nvSpPr>
        <p:spPr>
          <a:xfrm flipH="1">
            <a:off x="6934320" y="4191120"/>
            <a:ext cx="83808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 flipH="1" flipV="1">
            <a:off x="3352320" y="3885840"/>
            <a:ext cx="44197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6685-39CE-420F-A701-A8B942DAF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moto_0049"/>
          <p:cNvPicPr/>
          <p:nvPr/>
        </p:nvPicPr>
        <p:blipFill>
          <a:blip r:embed="rId1"/>
          <a:stretch/>
        </p:blipFill>
        <p:spPr>
          <a:xfrm>
            <a:off x="380880" y="2798640"/>
            <a:ext cx="4496040" cy="3297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moto_0047"/>
          <p:cNvPicPr/>
          <p:nvPr/>
        </p:nvPicPr>
        <p:blipFill>
          <a:blip r:embed="rId2"/>
          <a:stretch/>
        </p:blipFill>
        <p:spPr>
          <a:xfrm>
            <a:off x="5943600" y="3200400"/>
            <a:ext cx="2365200" cy="315432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 flipH="1">
            <a:off x="2362320" y="2362320"/>
            <a:ext cx="228600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648320" y="2362320"/>
            <a:ext cx="1981080" cy="1676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80880" y="1447920"/>
            <a:ext cx="845820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index 109 maximum load capacity 2271 lbs 1030 k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Índice de Carga 109 máxima capacidade de carga 2271 lbs. 1030 k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865C-8435-46A4-A699-EC2681116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486400" y="2514600"/>
            <a:ext cx="3124080" cy="259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 velocidade para que um pneu que foi projectado é indicada por uma letra ao lado do índice de carga, a tabela mostra a gama de velocidade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m Km/h e 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981600" cy="4543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5094-45F0-4E56-A710-A900D0644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oto_0044"/>
          <p:cNvPicPr/>
          <p:nvPr/>
        </p:nvPicPr>
        <p:blipFill>
          <a:blip r:embed="rId1"/>
          <a:stretch/>
        </p:blipFill>
        <p:spPr>
          <a:xfrm>
            <a:off x="380880" y="160020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3962520" y="3352680"/>
            <a:ext cx="472428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Muitos de nós já compramos pneus no passado e, quando nos perguntam de que tamanho queremos, socorremo-nos do pneu velho  para obter essa informação, mas que significam esses númer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685800" y="2666880"/>
            <a:ext cx="297180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H="1" flipV="1">
            <a:off x="3733920" y="3124080"/>
            <a:ext cx="91440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54AB-8AC5-4545-AA7F-5B7A0EE64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17600" y="2895480"/>
            <a:ext cx="44114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 265 / 60 R 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0" y="1523880"/>
            <a:ext cx="4495680" cy="71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neu para veículo de passag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914400" y="2209680"/>
            <a:ext cx="129528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495680" y="1447920"/>
            <a:ext cx="396252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rgura do pneu em milí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 flipH="1">
            <a:off x="3657600" y="2209680"/>
            <a:ext cx="14479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6095880" y="2209680"/>
            <a:ext cx="281952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T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neu Ra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 flipH="1">
            <a:off x="5638680" y="2514600"/>
            <a:ext cx="91440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228600" y="4191120"/>
            <a:ext cx="3200400" cy="133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lação da altura com a largura do pneu, 60% da largura neste c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 flipV="1">
            <a:off x="3200400" y="3733560"/>
            <a:ext cx="121932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5257800" y="4800600"/>
            <a:ext cx="350532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 Inch Wh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Jante de 18 Pol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 flipH="1" flipV="1">
            <a:off x="6553080" y="3580920"/>
            <a:ext cx="106704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AF13-35A4-4ACC-898E-FAB0E40FE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838080" y="1676520"/>
            <a:ext cx="78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ENCIA À TEMPERATURA / TEMPERATURE 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962520" y="3886200"/>
            <a:ext cx="44956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s letras indicarão a resistência de um pneu ao calor. Estas classificam-se do mas alto para o mais baixo tal como A, B ou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2209680"/>
          <a:ext cx="3200400" cy="2438640"/>
        </p:xfrm>
        <a:graphic>
          <a:graphicData uri="http://schemas.openxmlformats.org/drawingml/2006/table">
            <a:tbl>
              <a:tblPr/>
              <a:tblGrid>
                <a:gridCol w="1067040"/>
                <a:gridCol w="21333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b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Qu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F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Picture 31" descr=""/>
          <p:cNvPicPr/>
          <p:nvPr/>
        </p:nvPicPr>
        <p:blipFill>
          <a:blip r:embed="rId1"/>
          <a:stretch/>
        </p:blipFill>
        <p:spPr>
          <a:xfrm>
            <a:off x="380880" y="4876920"/>
            <a:ext cx="3200400" cy="1409760"/>
          </a:xfrm>
          <a:prstGeom prst="rect">
            <a:avLst/>
          </a:prstGeom>
          <a:ln w="0">
            <a:noFill/>
          </a:ln>
        </p:spPr>
      </p:pic>
      <p:sp>
        <p:nvSpPr>
          <p:cNvPr id="149" name="Line 32"/>
          <p:cNvSpPr/>
          <p:nvPr/>
        </p:nvSpPr>
        <p:spPr>
          <a:xfrm flipH="1">
            <a:off x="2819520" y="3581280"/>
            <a:ext cx="137160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3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4B69-766E-4E64-978C-BAA40ED24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600200" y="1523880"/>
            <a:ext cx="5791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TION / TRAC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33520" y="2133720"/>
            <a:ext cx="807696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tracção é a capacidade de um pneu para parar em pavimento molhado. Um pneu de maior graduação deverá permitir uma maior capacidade de parar o veículo numa via molhada, numa distância menor do que um pneu de um menor grau.. A tracção está classificada do mais alto para o mais baixo como “AA”,”A”, “B” y “C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1"/>
          <a:stretch/>
        </p:blipFill>
        <p:spPr>
          <a:xfrm>
            <a:off x="3733920" y="4602240"/>
            <a:ext cx="2133360" cy="16095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5562720" y="5867280"/>
            <a:ext cx="304560" cy="3049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0C2D-3327-4995-90ED-5B8D66DF7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152280" y="152280"/>
            <a:ext cx="4572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moto_0052"/>
          <p:cNvPicPr/>
          <p:nvPr/>
        </p:nvPicPr>
        <p:blipFill>
          <a:blip r:embed="rId1"/>
          <a:stretch/>
        </p:blipFill>
        <p:spPr>
          <a:xfrm>
            <a:off x="533520" y="16002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8"/>
          <p:cNvSpPr/>
          <p:nvPr/>
        </p:nvSpPr>
        <p:spPr>
          <a:xfrm>
            <a:off x="4952880" y="1752480"/>
            <a:ext cx="396252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 maioria de nós operamos veículos diariamente e quase nunca prestamos atenção a uma das mais importantes partes do veículo, 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3962520" y="3808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86FB-EDF4-4679-B6FC-95A2BA67B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895480" y="4191120"/>
            <a:ext cx="2362320" cy="18302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1523880" y="1600200"/>
            <a:ext cx="5639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DWEAR / DESG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685800" y="2209680"/>
            <a:ext cx="7543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te numero indica o ritmo ao qual o pneu se desgasta, quanto maior for a graduação, mais tempo levará o pneu a desgastar-se. Por conseguinte, um pneu de graduação 400 deveria durar o dobro que duraria um de graduação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C1B5-D3F6-4938-82DB-07D50AC7E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28600" y="1600200"/>
            <a:ext cx="8686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QUE DEVEMOS SABER SOBRE OS PN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3505320" y="2514600"/>
            <a:ext cx="4876560" cy="364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Data de fab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Máxima pressão de ench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rac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Desg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Máxima capacidade de carga x pn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Variação de veloc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esistência à 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amanho do pn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C1C3-717C-438B-B583-F92DCDDF0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262400" cy="3490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4952880" y="2133720"/>
            <a:ext cx="39625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Infelizmente, a maioria de nós só mudará este mau hábito quando já for tarde dem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DE24-1945-4DB4-99DF-9E9DF317F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09480" y="3581280"/>
            <a:ext cx="82296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abia que os pneus caducam 4 anos depois de data de fabrico e esta data está estampada no lado do pneu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1676520" cy="131616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5562360" y="2209680"/>
            <a:ext cx="20574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moto_0051"/>
          <p:cNvPicPr/>
          <p:nvPr/>
        </p:nvPicPr>
        <p:blipFill>
          <a:blip r:embed="rId1"/>
          <a:stretch/>
        </p:blipFill>
        <p:spPr>
          <a:xfrm>
            <a:off x="304920" y="1828800"/>
            <a:ext cx="3314520" cy="4419720"/>
          </a:xfrm>
          <a:prstGeom prst="rect">
            <a:avLst/>
          </a:prstGeom>
          <a:ln w="0">
            <a:noFill/>
          </a:ln>
        </p:spPr>
      </p:pic>
      <p:sp>
        <p:nvSpPr>
          <p:cNvPr id="63" name="Line 5"/>
          <p:cNvSpPr/>
          <p:nvPr/>
        </p:nvSpPr>
        <p:spPr>
          <a:xfrm>
            <a:off x="1371600" y="2286000"/>
            <a:ext cx="144792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4191120" y="1752480"/>
            <a:ext cx="464796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É fácil descobrir qual é a data de validade de um pneu, basta verificar o lado do pneu que vai encontrar um número impresso de 4 dígitos, isso indica a semana e o ano em que foi fabricado, a data de validade é de 4 anos depois.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3486-000A-41A3-A91A-26B40B7AF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876920" y="1905120"/>
            <a:ext cx="3962160" cy="131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Este numero indica que o pneu foi fabricado na 7a. Semana de 2007 o que é o mesmo que Fevereiro de 2007, isto significa que tem data de validade até Fevereiro d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514600" y="3581280"/>
            <a:ext cx="396252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0 7 0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3124080" y="3733920"/>
            <a:ext cx="1447920" cy="838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2057400" y="4266720"/>
            <a:ext cx="9907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4572000" y="3733920"/>
            <a:ext cx="1447920" cy="838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 flipH="1" flipV="1">
            <a:off x="5943600" y="4343400"/>
            <a:ext cx="91440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52280" y="5181480"/>
            <a:ext cx="396252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7a. Semana do ano “ Fevereir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5257800" y="5181480"/>
            <a:ext cx="274320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no de fabrico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254A-0E08-42CC-892D-F86799190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0" y="2286000"/>
            <a:ext cx="75438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Se utilizamos pneus caducados, é possível que estes rebentem e o resultado pode ser um acidente muito grave, inclusive fatal, seria um bom hábito inspeccionar os pneus para verificar se ainda não passaram a sua data de va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7763040" y="2286000"/>
            <a:ext cx="1380960" cy="106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2"/>
          <a:stretch/>
        </p:blipFill>
        <p:spPr>
          <a:xfrm>
            <a:off x="7791480" y="3581280"/>
            <a:ext cx="135252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B1BC-6B03-4E0C-8D45-D4F476750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38080" y="2057400"/>
            <a:ext cx="762012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Outro ponto importante que nos escapa muitas vezes é o enchimento dos pneus, a maior parte das estações de serviço calibram os pneus para 28 PSI e se souberem que vai apenas andar em estrada, em muitos casos baixam a pressão para 24-26 PSI afirmando que vão “aquecer na estrada e a pressão subirá” </a:t>
            </a:r>
            <a:r>
              <a:rPr b="1" lang="pt-PT" sz="2400" spc="-1" strike="noStrike" u="sng">
                <a:solidFill>
                  <a:srgbClr val="ff0000"/>
                </a:solidFill>
                <a:uFillTx/>
                <a:latin typeface="Arial"/>
              </a:rPr>
              <a:t>NÃO O PERM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EF7C-A71C-49E9-BC24-6764838E0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762120" y="2362320"/>
            <a:ext cx="739116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Na lateral do pneu, encontramos o valor máximo admissível para a pressão, alguns pneus têm apenas capacidade para a pressão máxima de 32 PSI, outros são projectados para 44 PSI e alguns mesmo 50 PSI. Verifique os pneus para ver qual é a máxima pressão que suportam e é uma prática aceitável manter a pressão ligeiramente abaixo dess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886200" y="3049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ANÇA DOS P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21:44:37Z</dcterms:created>
  <dc:creator/>
  <dc:description/>
  <dc:language>en-US</dc:language>
  <cp:lastModifiedBy>Fernando Fidalgo</cp:lastModifiedBy>
  <dcterms:modified xsi:type="dcterms:W3CDTF">2009-05-08T22:50:16Z</dcterms:modified>
  <cp:revision>480</cp:revision>
  <dc:subject/>
  <dc:title>www.laboutiquedelpowerpoin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partment">
    <vt:lpwstr>QHSES</vt:lpwstr>
  </property>
  <property fmtid="{D5CDD505-2E9C-101B-9397-08002B2CF9AE}" pid="3" name="Owner">
    <vt:lpwstr>PBOLZON</vt:lpwstr>
  </property>
</Properties>
</file>