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04D-C5A3-497E-84C4-ABFA913A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D36-4484-4E44-9E73-82A8707B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115-9FB5-4A9D-8DA2-9B6B35E7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337-6711-4614-837C-6A348B0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87D-7AE0-450A-AA43-7687B72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B1B-47C6-4535-9953-ED39292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DDB-D169-4346-AC00-A56BA94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835-D035-4C9A-BA37-5534FE5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DC6-762C-4EF9-B5EA-9162D18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B3D-7277-492C-8248-6791F70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BF4-B015-4BB0-A97C-3F42956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A9B-2D59-48AC-891B-5E01F127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B04-B666-47A8-9CE2-49122DD35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anagersMeetingfooter2"/>
          <p:cNvPicPr/>
          <p:nvPr/>
        </p:nvPicPr>
        <p:blipFill>
          <a:blip r:embed="rId2"/>
          <a:stretch/>
        </p:blipFill>
        <p:spPr>
          <a:xfrm>
            <a:off x="0" y="6418440"/>
            <a:ext cx="9144000" cy="447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managersMeetingHeader2"/>
          <p:cNvPicPr/>
          <p:nvPr/>
        </p:nvPicPr>
        <p:blipFill>
          <a:blip r:embed="rId3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letterheadlogo"/>
          <p:cNvPicPr/>
          <p:nvPr/>
        </p:nvPicPr>
        <p:blipFill>
          <a:blip r:embed="rId4"/>
          <a:stretch/>
        </p:blipFill>
        <p:spPr>
          <a:xfrm>
            <a:off x="7848720" y="6172200"/>
            <a:ext cx="11430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7BD4-D122-4AE5-84B7-55C95F62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managersMeeti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114440" y="34290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67400" y="6416640"/>
            <a:ext cx="4495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SAFETY is the number 1 value of the company!!!                                    </a:t>
            </a:r>
            <a:r>
              <a:rPr b="1" i="1" lang="en-US" sz="800" spc="-1" strike="noStrike">
                <a:solidFill>
                  <a:srgbClr val="ffffff"/>
                </a:solidFill>
                <a:latin typeface="Arial"/>
              </a:rPr>
              <a:t>Louis Raspino, President &amp; CEO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BE0A-937F-4C47-985A-F455B28BD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1600200"/>
            <a:ext cx="3505320" cy="14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 P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952880" y="3581280"/>
            <a:ext cx="396252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Diferentes pneus são projectados para diferentes pressões, você pode encontrar o valor máximo de pressão dos pneus num pequeno número próximo à jante sobre um dos lados do pneu, nunca poderá ultrapassar esta 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oto_0046"/>
          <p:cNvPicPr/>
          <p:nvPr/>
        </p:nvPicPr>
        <p:blipFill>
          <a:blip r:embed="rId1"/>
          <a:stretch/>
        </p:blipFill>
        <p:spPr>
          <a:xfrm>
            <a:off x="609480" y="3200400"/>
            <a:ext cx="257184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Line 8"/>
          <p:cNvSpPr/>
          <p:nvPr/>
        </p:nvSpPr>
        <p:spPr>
          <a:xfrm flipH="1">
            <a:off x="1523880" y="3581280"/>
            <a:ext cx="190512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52680" y="3352680"/>
            <a:ext cx="19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4 psi) MAX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E03-3B4B-47D0-960E-F4230370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5943600" cy="2503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962520" y="1752480"/>
            <a:ext cx="449568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Uma pressão inferior ao recomendado faz aumentar a temperatura do pneu. Através de fotografias de infravermelhos obtidas em pneus a alta velocidade, verifica-se que o calor que produzirá danos aumenta na medida que a pressão do pneu dimin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9480" y="6172200"/>
            <a:ext cx="281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Baseado em Pneus tamanho P235/75/R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705720" y="3962520"/>
            <a:ext cx="220968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ERIG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O calor excesivo danifica os pn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B817-F34B-4B1F-8628-88A1C7890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86200" y="2133720"/>
            <a:ext cx="48006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ro ponto importante a considerar é a carga a que submetemos os nossos pneus, muitas vezes sobrecarregamos os veículos sem prestar atenção ao esforço que isto representa para os pneus, ao exceder a capacidade máxima de carga pode resultar na  falha do mesmo e causar um a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48120" cy="247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3048120" cy="238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BFE-4958-429C-BE81-C0B31BED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1822320"/>
            <a:ext cx="472428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57200" y="1447920"/>
            <a:ext cx="4724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Máxima Capacidade de Carga por Pn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410080" y="1600200"/>
            <a:ext cx="25909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715000" y="1676520"/>
            <a:ext cx="2666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tabela mostra o índice de carga e a máxima capacidade de carga por pneu em libras e qu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oto_0047"/>
          <p:cNvPicPr/>
          <p:nvPr/>
        </p:nvPicPr>
        <p:blipFill>
          <a:blip r:embed="rId2"/>
          <a:stretch/>
        </p:blipFill>
        <p:spPr>
          <a:xfrm>
            <a:off x="6019920" y="4800600"/>
            <a:ext cx="1771560" cy="1447920"/>
          </a:xfrm>
          <a:prstGeom prst="rect">
            <a:avLst/>
          </a:prstGeom>
          <a:ln w="0">
            <a:noFill/>
          </a:ln>
        </p:spPr>
      </p:pic>
      <p:sp>
        <p:nvSpPr>
          <p:cNvPr id="111" name="Line 12"/>
          <p:cNvSpPr/>
          <p:nvPr/>
        </p:nvSpPr>
        <p:spPr>
          <a:xfrm flipH="1">
            <a:off x="6934320" y="4191120"/>
            <a:ext cx="8380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3352320" y="3885840"/>
            <a:ext cx="44197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B39-D94F-411D-A624-7A463E04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moto_0049"/>
          <p:cNvPicPr/>
          <p:nvPr/>
        </p:nvPicPr>
        <p:blipFill>
          <a:blip r:embed="rId1"/>
          <a:stretch/>
        </p:blipFill>
        <p:spPr>
          <a:xfrm>
            <a:off x="380880" y="2798640"/>
            <a:ext cx="4496040" cy="329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moto_0047"/>
          <p:cNvPicPr/>
          <p:nvPr/>
        </p:nvPicPr>
        <p:blipFill>
          <a:blip r:embed="rId2"/>
          <a:stretch/>
        </p:blipFill>
        <p:spPr>
          <a:xfrm>
            <a:off x="5943600" y="3200400"/>
            <a:ext cx="2365200" cy="315432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H="1">
            <a:off x="2362320" y="2362320"/>
            <a:ext cx="228600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648320" y="2362320"/>
            <a:ext cx="19810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80880" y="1447920"/>
            <a:ext cx="84582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index 109 maximum load capacity 2271 lbs 1030 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Índice de Carga 109 máxima capacidade de carga 2271 lbs. 1030 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54E8-40AA-4B01-9E65-AAA39904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486400" y="2514600"/>
            <a:ext cx="312408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velocidade para que um pneu que foi projectado é indicada por uma letra ao lado do índice de carga, a tabela mostra a gama de velocidad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m Km/h e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81600" cy="4543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D771-809F-4A97-89BC-4EBD2EB9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oto_0044"/>
          <p:cNvPicPr/>
          <p:nvPr/>
        </p:nvPicPr>
        <p:blipFill>
          <a:blip r:embed="rId1"/>
          <a:stretch/>
        </p:blipFill>
        <p:spPr>
          <a:xfrm>
            <a:off x="380880" y="16002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3962520" y="3352680"/>
            <a:ext cx="47242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uitos de nós já compramos pneus no passado e, quando nos perguntam de que tamanho queremos, socorremo-nos do pneu velho  para obter essa informação, mas que significam esses núme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85800" y="2666880"/>
            <a:ext cx="29718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 flipV="1">
            <a:off x="3733920" y="3124080"/>
            <a:ext cx="9144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A19-A89E-4EAE-84DD-E61951DC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17600" y="2895480"/>
            <a:ext cx="4411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 265 / 60 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1523880"/>
            <a:ext cx="4495680" cy="71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neu para veículo de passag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914400" y="2209680"/>
            <a:ext cx="12952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495680" y="1447920"/>
            <a:ext cx="39625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rgura do pneu em milí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3657600" y="2209680"/>
            <a:ext cx="1447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6095880" y="2209680"/>
            <a:ext cx="28195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neu Ra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638680" y="2514600"/>
            <a:ext cx="914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28600" y="4191120"/>
            <a:ext cx="3200400" cy="1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lação da altura com a largura do pneu, 60% da largura neste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200400" y="3733560"/>
            <a:ext cx="12193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257800" y="4800600"/>
            <a:ext cx="35053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Inch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ante de 18 Po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H="1" flipV="1">
            <a:off x="6553080" y="3580920"/>
            <a:ext cx="106704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5F6-EA76-48D2-980D-6FE9145FD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167652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ENCIA À TEMPERATURA / TEMPERATURE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62520" y="3886200"/>
            <a:ext cx="4495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s letras indicarão a resistência de um pneu ao calor. Estas classificam-se do mas alto para o mais baixo tal como A, B ou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2209680"/>
          <a:ext cx="3200400" cy="2438640"/>
        </p:xfrm>
        <a:graphic>
          <a:graphicData uri="http://schemas.openxmlformats.org/drawingml/2006/table">
            <a:tbl>
              <a:tblPr/>
              <a:tblGrid>
                <a:gridCol w="1067040"/>
                <a:gridCol w="2133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Q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3200400" cy="1409760"/>
          </a:xfrm>
          <a:prstGeom prst="rect">
            <a:avLst/>
          </a:prstGeom>
          <a:ln w="0">
            <a:noFill/>
          </a:ln>
        </p:spPr>
      </p:pic>
      <p:sp>
        <p:nvSpPr>
          <p:cNvPr id="149" name="Line 32"/>
          <p:cNvSpPr/>
          <p:nvPr/>
        </p:nvSpPr>
        <p:spPr>
          <a:xfrm flipH="1">
            <a:off x="2819520" y="3581280"/>
            <a:ext cx="137160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24D-F8BC-438A-B114-CD3D6596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00200" y="1523880"/>
            <a:ext cx="5791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TION / TRAC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2133720"/>
            <a:ext cx="80769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tracção é a capacidade de um pneu para parar em pavimento molhado. Um pneu de maior graduação deverá permitir uma maior capacidade de parar o veículo numa via molhada, numa distância menor do que um pneu de um menor grau.. A tracção está classificada do mais alto para o mais baixo como “AA”,”A”, “B” y “C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3733920" y="4602240"/>
            <a:ext cx="2133360" cy="1609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562720" y="5867280"/>
            <a:ext cx="304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374-6DB3-4820-82B2-CC610D61B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52280" y="152280"/>
            <a:ext cx="457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moto_0052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"/>
          <p:cNvSpPr/>
          <p:nvPr/>
        </p:nvSpPr>
        <p:spPr>
          <a:xfrm>
            <a:off x="4952880" y="1752480"/>
            <a:ext cx="39625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maioria de nós operamos veículos diariamente e quase nunca prestamos atenção a uma das mais importantes partes do veículo, 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3962520" y="3808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E59-1B5A-48F9-BB58-371D8638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362320" cy="1830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523880" y="160020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DWEAR / DESG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5800" y="2209680"/>
            <a:ext cx="754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e numero indica o ritmo ao qual o pneu se desgasta, quanto maior for a graduação, mais tempo levará o pneu a desgastar-se. Por conseguinte, um pneu de graduação 400 deveria durar o dobro que duraria um de graduação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749B-1CCF-4266-92DF-CA1307A5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1600200"/>
            <a:ext cx="8686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DEVEMOS SABER SOBRE OS P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505320" y="2514600"/>
            <a:ext cx="4876560" cy="36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ta de fab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áxima pressão de ench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rac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áxima capacidade de carga x pn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ariação de velo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sistência à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amanho do pn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04F-E5FC-4AEB-B208-F75D9249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2400" cy="3490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952880" y="2133720"/>
            <a:ext cx="3962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felizmente, a maioria de nós só mudará este mau hábito quando já for tarde de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4BF-256E-4D85-A8AA-6D520171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9480" y="3581280"/>
            <a:ext cx="82296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abia que os pneus caducam 4 anos depois de data de fabrico e esta data está estampada no lado do pneu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676520" cy="131616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5562360" y="220968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oto_0051"/>
          <p:cNvPicPr/>
          <p:nvPr/>
        </p:nvPicPr>
        <p:blipFill>
          <a:blip r:embed="rId1"/>
          <a:stretch/>
        </p:blipFill>
        <p:spPr>
          <a:xfrm>
            <a:off x="304920" y="182880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>
            <a:off x="1371600" y="228600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191120" y="1752480"/>
            <a:ext cx="46479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É fácil descobrir qual é a data de validade de um pneu, basta verificar o lado do pneu que vai encontrar um número impresso de 4 dígitos, isso indica a semana e o ano em que foi fabricado, a data de validade é de 4 anos depois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AF6-0E57-416B-9A28-30C02AD1E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76920" y="1905120"/>
            <a:ext cx="396216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Este numero indica que o pneu foi fabricado na 7a. Semana de 2007 o que é o mesmo que Fevereiro de 2007, isto significa que tem data de validade até Fevereiro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514600" y="3581280"/>
            <a:ext cx="396252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 7 0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3124080" y="3733920"/>
            <a:ext cx="14479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057400" y="4266720"/>
            <a:ext cx="9907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4572000" y="3733920"/>
            <a:ext cx="14479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 flipV="1">
            <a:off x="5943600" y="4343400"/>
            <a:ext cx="9144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52280" y="5181480"/>
            <a:ext cx="396252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7a. Semana do ano “ Fevereir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257800" y="5181480"/>
            <a:ext cx="27432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no de fabric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82F-533C-443E-B1B0-50870AEF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286000"/>
            <a:ext cx="7543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e utilizamos pneus caducados, é possível que estes rebentem e o resultado pode ser um acidente muito grave, inclusive fatal, seria um bom hábito inspeccionar os pneus para verificar se ainda não passaram a sua data de v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7763040" y="2286000"/>
            <a:ext cx="1380960" cy="10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7791480" y="3581280"/>
            <a:ext cx="135252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0C65-D86D-4EC0-AD48-5A9A27821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080" y="2057400"/>
            <a:ext cx="76201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utro ponto importante que nos escapa muitas vezes é o enchimento dos pneus, a maior parte das estações de serviço calibram os pneus para 28 PSI e se souberem que vai apenas andar em estrada, em muitos casos baixam a pressão para 24-26 PSI afirmando que vão “aquecer na estrada e a pressão subirá” </a:t>
            </a:r>
            <a:r>
              <a:rPr b="1" lang="pt-PT" sz="2400" spc="-1" strike="noStrike" u="sng">
                <a:solidFill>
                  <a:srgbClr val="ff0000"/>
                </a:solidFill>
                <a:uFillTx/>
                <a:latin typeface="Arial"/>
              </a:rPr>
              <a:t>NÃO O PERM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75A-20EE-4DBE-9F73-D18FE6083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62120" y="2362320"/>
            <a:ext cx="739116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Na lateral do pneu, encontramos o valor máximo admissível para a pressão, alguns pneus têm apenas capacidade para a pressão máxima de 32 PSI, outros são projectados para 44 PSI e alguns mesmo 50 PSI. Verifique os pneus para ver qual é a máxima pressão que suportam e é uma prática aceitável manter a pressão ligeiramente abaixo dess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21:44:37Z</dcterms:created>
  <dc:creator/>
  <dc:description/>
  <dc:language>en-US</dc:language>
  <cp:lastModifiedBy>Fernando Fidalgo</cp:lastModifiedBy>
  <dcterms:modified xsi:type="dcterms:W3CDTF">2009-05-08T22:50:16Z</dcterms:modified>
  <cp:revision>480</cp:revision>
  <dc:subject/>
  <dc:title>www.laboutiquedelpowerpoin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artment">
    <vt:lpwstr>QHSES</vt:lpwstr>
  </property>
  <property fmtid="{D5CDD505-2E9C-101B-9397-08002B2CF9AE}" pid="3" name="Owner">
    <vt:lpwstr>PBOLZON</vt:lpwstr>
  </property>
</Properties>
</file>