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ndes-18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04F2-7DDE-4F1F-B335-401AF36E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1B26-1895-4C6A-8B1B-93EEA536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F5A-BEF3-483A-ADDD-2938985B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9D2-9D54-4209-B4CD-5C194EFC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3BC3-7142-49AC-A61B-CB8E5DCE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5527-F52B-4589-A87A-6CC9E45B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AE8-FA2E-46E3-8826-15422A9C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2FB-778C-4ED5-89D7-F2DCFA0D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CC3-4240-47CE-986D-7C91CEA6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D9F-E0DB-484F-98C8-4CFF89B1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0059-9123-4E17-BA3D-1EE6E737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978B-6D98-45B9-90B3-C76CAF90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69F2-6C82-444B-9643-3F9A10F80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ndes-18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36572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rebuchet MS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42100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008000"/>
                </a:solidFill>
                <a:latin typeface="Trebuchet MS"/>
                <a:ea typeface="Times New Roman"/>
              </a:rPr>
              <a:t>Os Númer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11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rebuchet MS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5877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1052640"/>
            <a:ext cx="1800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6560" y="1052640"/>
            <a:ext cx="1440" cy="1728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2781360"/>
            <a:ext cx="1728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076720" y="981000"/>
            <a:ext cx="1800" cy="367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4581360"/>
            <a:ext cx="1800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60640"/>
            <a:ext cx="647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860640"/>
            <a:ext cx="0" cy="4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3860640"/>
            <a:ext cx="0" cy="720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859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932360" y="26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859280" y="44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932360" y="2924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27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2565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10720" y="470052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Trebuchet MS"/>
              </a:rPr>
              <a:t>9 </a:t>
            </a:r>
            <a:r>
              <a:rPr b="1" lang="es-AR" sz="2000" spc="-1" strike="noStrike">
                <a:solidFill>
                  <a:srgbClr val="008000"/>
                </a:solidFill>
                <a:latin typeface="Trebuchet MS"/>
              </a:rPr>
              <a:t>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500"/>
                            </p:stCondLst>
                            <p:childTnLst>
                              <p:par>
                                <p:cTn id="6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6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8500"/>
                            </p:stCondLst>
                            <p:childTnLst>
                              <p:par>
                                <p:cTn id="6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9500"/>
                            </p:stCondLst>
                            <p:childTnLst>
                              <p:par>
                                <p:cTn id="6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1128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558972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9280" y="191628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8000"/>
                </a:solidFill>
                <a:latin typeface="Trebuchet MS"/>
              </a:rPr>
              <a:t>E o mais interessante e inteligente de todo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5564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rebuchet MS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71640" y="1413000"/>
            <a:ext cx="3024360" cy="3384360"/>
          </a:xfrm>
          <a:prstGeom prst="ellipse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285264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Trebuchet MS"/>
              </a:rPr>
              <a:t>Zero ângul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4360" y="472428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87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1484280"/>
            <a:ext cx="749016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008000"/>
                </a:solidFill>
                <a:latin typeface="Trebuchet MS"/>
              </a:rPr>
              <a:t>Moral da histó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8000"/>
                </a:solidFill>
                <a:latin typeface="Trebuchet MS"/>
              </a:rPr>
              <a:t>Nunca é tarde para aprend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0000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126828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0" spc="-1" strike="noStrike">
                <a:solidFill>
                  <a:srgbClr val="008000"/>
                </a:solidFill>
                <a:latin typeface="Trebuchet MS"/>
                <a:ea typeface="Times New Roman"/>
              </a:rPr>
              <a:t>Compartilhe com os seus amigo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484280"/>
            <a:ext cx="81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8000"/>
                </a:solidFill>
                <a:latin typeface="Trebuchet MS"/>
              </a:rPr>
              <a:t>Os números que escrevemos são formados por algarismos (1, 2, 3, 4, etc.) chamados de algarismos arábes, para distingui-los dos algarismos romanos (I; II; III; IV;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rebuchet MS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484280"/>
            <a:ext cx="734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8000"/>
                </a:solidFill>
                <a:latin typeface="Trebuchet MS"/>
              </a:rPr>
              <a:t>Os árabes popularizaram esses algarismos, mas a sua origem remonta aos tempos dos mercadores fenícios que os utilizavam para contar e para fazer a contabilidade comer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5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rebuchet MS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1700280"/>
            <a:ext cx="64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8000"/>
                </a:solidFill>
                <a:latin typeface="Trebuchet MS"/>
              </a:rPr>
              <a:t>Já se perguntou alguma vez, por que é que 1 é "um", 2 é "dois", 3 é "três".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4292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2205000"/>
            <a:ext cx="59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8000"/>
                </a:solidFill>
                <a:latin typeface="Trebuchet MS"/>
              </a:rPr>
              <a:t>Qual a lógica que existe nos algarismos árab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rebuchet MS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1484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8000"/>
                </a:solidFill>
                <a:latin typeface="Trebuchet MS"/>
              </a:rPr>
              <a:t>Fácil, muito fácil…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2565360"/>
            <a:ext cx="523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8000"/>
                </a:solidFill>
                <a:latin typeface="Trebuchet MS"/>
              </a:rPr>
              <a:t>É a quantidade de ângulos no algarism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450864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rebuchet MS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234936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8000"/>
                </a:solidFill>
                <a:latin typeface="Trebuchet MS"/>
              </a:rPr>
              <a:t>Veja como eram escritos os algarismos na sua forma primitiva e constate!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rebuchet MS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55640" y="476280"/>
            <a:ext cx="79200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476360" y="476280"/>
            <a:ext cx="7128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32360" y="47628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787640" y="476280"/>
            <a:ext cx="136836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2492280"/>
            <a:ext cx="1296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3284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300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86920" y="3284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4292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3141720"/>
            <a:ext cx="0" cy="2374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211640" y="450864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40000" y="3141720"/>
            <a:ext cx="1223640" cy="1366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71640" y="980640"/>
            <a:ext cx="431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692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19280" y="220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51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476360" y="4292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788000" y="4652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292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0" y="4365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29272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565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rebuchet MS"/>
              </a:rPr>
              <a:t>1 â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63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rebuchet MS"/>
              </a:rPr>
              <a:t>2 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445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rebuchet MS"/>
              </a:rPr>
              <a:t>3 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551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Trebuchet MS"/>
              </a:rPr>
              <a:t>4 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rebuchet MS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20000" y="2637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61440" y="2637000"/>
            <a:ext cx="1366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3716280"/>
            <a:ext cx="151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405612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620640"/>
            <a:ext cx="0" cy="107964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170028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1700280"/>
            <a:ext cx="0" cy="10810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2781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971640" y="2276640"/>
            <a:ext cx="0" cy="50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620640"/>
            <a:ext cx="0" cy="22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852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1773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1280" y="1773360"/>
            <a:ext cx="1440" cy="10792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332000" y="3500280"/>
            <a:ext cx="792000" cy="180036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500280"/>
            <a:ext cx="1152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365720"/>
            <a:ext cx="792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5300640"/>
            <a:ext cx="5032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342900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373720"/>
            <a:ext cx="1297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1640" y="3429000"/>
            <a:ext cx="122400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3429000"/>
            <a:ext cx="129708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6720" y="28288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Trebuchet MS"/>
              </a:rPr>
              <a:t>5 </a:t>
            </a:r>
            <a:r>
              <a:rPr b="1" lang="es-AR" sz="2000" spc="-1" strike="noStrike">
                <a:solidFill>
                  <a:srgbClr val="008000"/>
                </a:solidFill>
                <a:latin typeface="Trebuchet MS"/>
              </a:rPr>
              <a:t>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58360" y="290052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Trebuchet MS"/>
              </a:rPr>
              <a:t>6 </a:t>
            </a:r>
            <a:r>
              <a:rPr b="1" lang="es-AR" sz="2000" spc="-1" strike="noStrike">
                <a:solidFill>
                  <a:srgbClr val="008000"/>
                </a:solidFill>
                <a:latin typeface="Trebuchet MS"/>
              </a:rPr>
              <a:t>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1080" y="534996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Trebuchet MS"/>
              </a:rPr>
              <a:t>7 </a:t>
            </a:r>
            <a:r>
              <a:rPr b="1" lang="es-AR" sz="2000" spc="-1" strike="noStrike">
                <a:solidFill>
                  <a:srgbClr val="008000"/>
                </a:solidFill>
                <a:latin typeface="Trebuchet MS"/>
              </a:rPr>
              <a:t>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31440" y="54928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Trebuchet MS"/>
              </a:rPr>
              <a:t>8 </a:t>
            </a:r>
            <a:r>
              <a:rPr b="1" lang="es-AR" sz="2000" spc="-1" strike="noStrike">
                <a:solidFill>
                  <a:srgbClr val="008000"/>
                </a:solidFill>
                <a:latin typeface="Trebuchet MS"/>
              </a:rPr>
              <a:t>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18692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8692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355640" y="76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148000" y="2708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9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763280" y="26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355640" y="162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08360" y="2708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422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1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834920" y="4221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54764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45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763640" y="4508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14836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003280" y="4365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7280" y="4365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148360" y="522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788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788000" y="465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50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500"/>
                            </p:stCondLst>
                            <p:childTnLst>
                              <p:par>
                                <p:cTn id="3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50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7000"/>
                            </p:stCondLst>
                            <p:childTnLst>
                              <p:par>
                                <p:cTn id="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37:10Z</dcterms:created>
  <dc:creator>TERM 3</dc:creator>
  <dc:description>Solo para uso didáctico</dc:description>
  <cp:keywords>curiosidades matemáticas</cp:keywords>
  <dc:language>en-US</dc:language>
  <cp:lastModifiedBy>SILVA NUNES</cp:lastModifiedBy>
  <dcterms:modified xsi:type="dcterms:W3CDTF">2009-07-15T17:35:55Z</dcterms:modified>
  <cp:revision>6</cp:revision>
  <dc:subject>Curiosidades</dc:subject>
  <dc:title>Diapositiva 1</dc:title>
</cp:coreProperties>
</file>