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Serenade%20Issac%20Stern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70B-4BB0-4857-888C-E94C66FA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EF6-B532-449E-8C94-E6F819A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952-749E-4EE9-8C15-A9CC0ADB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2B7-6E5A-49FA-8894-11EB1654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64-1640-4B42-ABB8-F83BA2BE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C53-E0B3-4BFB-AAF7-24A3B5A5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390-2F85-4125-9C39-851B979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FD9-5B7E-43F1-9B0C-642461C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D16-6E2A-4E2D-BB57-ADC354D5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F8C-1852-4878-AD07-7A2DEE2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2E0-E5E2-4D20-A2E2-E7B9820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C04-9D4D-4661-A021-B791655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61F-CCFA-41A7-A8D4-7BA9B54D84F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erenade%20Issac%20Stern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0560" y="14842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A morte liberta o escra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A morte submete o rei e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7208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paga a cada um seu salár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devolve ao pobre o que ele p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daae3"/>
                </a:solidFill>
                <a:latin typeface="Verdana"/>
              </a:rPr>
              <a:t>E toma ao rico o que ele abocan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4869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a54a8"/>
                </a:solidFill>
                <a:latin typeface="Verdana"/>
              </a:rPr>
              <a:t>Hélinand de Froidmo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a54a8"/>
                </a:solidFill>
                <a:latin typeface="Verdana"/>
              </a:rPr>
              <a:t>em ‘Os Versos da Mort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Serenade%20Issac%20Ste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1052640"/>
            <a:ext cx="7704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7d"/>
                </a:solidFill>
                <a:latin typeface="Verdana"/>
              </a:rPr>
              <a:t>Enquanto a maioria prefere ignorar o que se passa do outro lado do abismo, existem, - ainda bem -, aqueles que enxergam além, se preocupam, e tentam construir pon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860640"/>
            <a:ext cx="806436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7d"/>
                </a:solidFill>
                <a:latin typeface="Verdana"/>
              </a:rPr>
              <a:t>E uma destas pessoas                                            se chama Angelina,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084640"/>
            <a:ext cx="806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‘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pequeno anjo’ em ital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336" t="2145" r="1336" b="2145"/>
          <a:stretch/>
        </p:blipFill>
        <p:spPr>
          <a:xfrm>
            <a:off x="1403280" y="620640"/>
            <a:ext cx="64803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4360" y="5084640"/>
            <a:ext cx="8064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O que leva uma jovem atriz a abdicar de todo conforto, e viajar meio mundo para aliviar com seu abraço um coração entristecido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336" t="2145" r="1336" b="2145"/>
          <a:stretch/>
        </p:blipFill>
        <p:spPr>
          <a:xfrm>
            <a:off x="1403280" y="620640"/>
            <a:ext cx="6480360" cy="432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5084640"/>
            <a:ext cx="80643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O garoto africano, de sete anos de idade, traumatizado pelos tantos conflitos tribais que já presenciou, vive excessivamente agitado, motivo pelo qual sua família o mantém amarrado o tempo to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6165720"/>
            <a:ext cx="806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Durante a visita, diante do carinho e do abraço, aquietou-s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3535" t="6162" r="37336" b="4259"/>
          <a:stretch/>
        </p:blipFill>
        <p:spPr>
          <a:xfrm>
            <a:off x="468360" y="549360"/>
            <a:ext cx="3600360" cy="2319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3227400"/>
            <a:ext cx="80658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Há sete anos envolvida em trabalhos humanitários, Angelina Jolie conta que durante os primeiros dois anos chorava continuamente durante as viagen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724280"/>
            <a:ext cx="806616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Hoje, diz que aprendeu a controlar melhor o sentimento de desespero diante de tamanha miséria, e que busca meios que viabilizem uma solução para os tantos problemas encontrad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600360" cy="239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906480"/>
            <a:ext cx="4716720" cy="25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omo embaixadora da boa vontade das Nações Unidas, ela tem percorrido dezenas de país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hade, Costa Rica, Índia, Paquistão, Líbano, Sudão, Tailândia, Sri Lanka, Tanzânia, Equador, Namíbia, Camboja, Serra Leoa, entre out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013360"/>
            <a:ext cx="43196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A primeira pessoa a ser agraciada com o título de “Cidadã do Mundo”, conferido pelas Nações Unida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716280"/>
            <a:ext cx="43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7d"/>
                </a:solidFill>
                <a:latin typeface="Verdana"/>
              </a:rPr>
              <a:t>Na foto ao lado, em Nova Delhi, Índia, durante uma visita a crianças refugiadas afegã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277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600360" cy="239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3357720"/>
            <a:ext cx="3384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7d"/>
                </a:solidFill>
                <a:latin typeface="Verdana"/>
              </a:rPr>
              <a:t>Ajudando a construir cabanas para refugiados,   na Tanzânia.</a:t>
            </a: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1052640"/>
            <a:ext cx="3527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Eu não me sinto apenas americana, mas também cidadã do mun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35800" y="1125360"/>
            <a:ext cx="2630160" cy="338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420920"/>
            <a:ext cx="50418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Angelina Jolie foi escolhida pela revista Time como a segunda mulher mais influente do gl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681280"/>
            <a:ext cx="53294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Além de emprestar sua imagem, e doar seu tempo e dinheiro a refugiados e órfãos, ela procura levar a realidade que vivencia nas suas viagens até os líderes mundiais e governantes dos países ricos, propondo soluções e cobrando 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08560"/>
            <a:ext cx="54356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Segundo a reportagem da revista Time, doa um terço de seus rendimentos em prol das causas humanitária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6560" y="830160"/>
            <a:ext cx="4751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hamar a atenção do mundo às causas humanitárias, envolvendo-se intensamente em cada projeto, também tem seus riscos.</a:t>
            </a: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2872080" cy="43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6560" y="2855880"/>
            <a:ext cx="475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nquanto visitava Angola juntamente com a Unicef, após a guerra em 2002, foi contaminada gravemente pela malária, chegando a quase perder a aud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275440"/>
            <a:ext cx="47512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Na época, ao comentar o episódio numa entrevista, afirmou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19280" y="622440"/>
            <a:ext cx="6192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Existem alguns riscos que são dignos de se correr, porém o medo de riscos é indesculpá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2421000"/>
            <a:ext cx="54007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Você tem que defender aquilo  em que você acredit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3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19384200">
            <a:off x="684000" y="981000"/>
            <a:ext cx="3533760" cy="2651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84720" y="2749680"/>
            <a:ext cx="475128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Numa outra entrevista, ela afirma que durante a adolescência era um tanto rebelde, e que não conseguia se imaginar constituindo família algum dia. Acrescenta que a oportunidade de colaborar para uma causa mais nobre mudou toda a sua maneira de enxergar a vida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4005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Um só plane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dois mundos tão dista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84440" y="1413000"/>
            <a:ext cx="5119920" cy="3838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1197000"/>
            <a:ext cx="4751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O que eu tenho feito tem me dado uma nova perspectiva e me levado a descobrir um outro mundo, de dor e me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933720"/>
            <a:ext cx="4751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Alcançar o próximo me conduziu a uma vida de significado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7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456000" cy="2584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3568680"/>
            <a:ext cx="806436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erta vez, interrogada por um jornalista sobre as suas motivações humanitárias, respondeu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2205000"/>
            <a:ext cx="2413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7d"/>
                </a:solidFill>
                <a:latin typeface="Verdana"/>
              </a:rPr>
              <a:t>Com Maddox, um      de seus três filhos ado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508640"/>
            <a:ext cx="820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"Gostaria que Maddox se recordasse de mim não apenas como uma atriz que atuou bem e que por isso ganhou prêmios, mas também como alguém que se preocupou com os outros e que fez, ou que pelo menos tentou, com que o mundo fosse melhor para os outros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456000" cy="258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8720" y="3672000"/>
            <a:ext cx="806436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Angelina representa este momento de ressaca e digestão dos tempos de excesso, em que questões antes tidas como públicas viram responsabilidade pessoal.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5518080"/>
            <a:ext cx="34574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Camila Piza, psicólo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41920" y="54936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8200" y="4287960"/>
            <a:ext cx="8137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Sexy sem ser vulgar, Angelina concentra a versatilidade do papel feminino contemporâneo. Suas mil faces não deixam espaço para a imagem certinha. É o novo tipo de celebridade. Enfim, uma heroína de carne e oss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6165720"/>
            <a:ext cx="3457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Dario Caldas, soció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1130400"/>
            <a:ext cx="402732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2360" y="4581360"/>
            <a:ext cx="47512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Guerreira e frágil, a diva ambígua constrói, com um velho coração maternal, uma nova família multiraci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6232680"/>
            <a:ext cx="23032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7d"/>
                </a:solidFill>
                <a:latin typeface="Verdana"/>
              </a:rPr>
              <a:t>Revista V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03680"/>
            <a:ext cx="446400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Uma heroína com os olhos  voltados para o mundo real, que ela tenta melhorar com compaixão e bravur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1818" b="0"/>
          <a:stretch/>
        </p:blipFill>
        <p:spPr>
          <a:xfrm>
            <a:off x="611280" y="476280"/>
            <a:ext cx="5832360" cy="3949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4508640"/>
            <a:ext cx="85694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As premiações, o Oscar e o Globo de Ouro que ela acumula, os filmes e os festivais... Tudo isso passará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419800"/>
            <a:ext cx="856944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7d"/>
                </a:solidFill>
                <a:latin typeface="Verdana"/>
              </a:rPr>
              <a:t>Porém, o amor, a solidariedade, a generosidade e a compaixão... São estes os bens eternos, que para sempre acompanharão aqueles que os manifestam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16720" y="5157720"/>
            <a:ext cx="2663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Érico Veríss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21300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Felicidade é a certeza de que a nossa vida não está se passando inutil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5589720"/>
            <a:ext cx="40320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7d"/>
                </a:solidFill>
                <a:latin typeface="Verdana"/>
              </a:rPr>
              <a:t>Formatação: um_peregrino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295720" cy="31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2109"/>
          <a:stretch/>
        </p:blipFill>
        <p:spPr>
          <a:xfrm>
            <a:off x="2987640" y="1628640"/>
            <a:ext cx="3606840" cy="267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995640" y="549360"/>
            <a:ext cx="4773600" cy="3024000"/>
            <a:chOff x="3995640" y="549360"/>
            <a:chExt cx="4773600" cy="3024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2479" t="3668" r="1519" b="4025"/>
            <a:stretch/>
          </p:blipFill>
          <p:spPr>
            <a:xfrm>
              <a:off x="3995640" y="549360"/>
              <a:ext cx="477360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217640" y="3457080"/>
              <a:ext cx="1551240" cy="11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3728880"/>
            <a:ext cx="424836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96000" y="4149720"/>
            <a:ext cx="414000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Porém, há tantos que despertam e adormecem com fom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25360"/>
            <a:ext cx="33116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7d"/>
                </a:solidFill>
                <a:latin typeface="Verdana"/>
              </a:rPr>
              <a:t>A Terra produz                        o suficiente par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87964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954" t="9840" r="5953" b="8716"/>
          <a:stretch/>
        </p:blipFill>
        <p:spPr>
          <a:xfrm>
            <a:off x="4572000" y="3789360"/>
            <a:ext cx="424800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8000" y="376200"/>
            <a:ext cx="4464000" cy="319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981000"/>
            <a:ext cx="504036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Políticos de um partido qualqu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comemoram uma vitória qualqu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numa eleição qualqu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2492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Que diferença faz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789360"/>
            <a:ext cx="4321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7d"/>
                </a:solidFill>
                <a:latin typeface="Verdana"/>
              </a:rPr>
              <a:t>Cada vez mais imersa em escândalos, falcatruas e no seu eterno teatro de vaidades, a política partidária se distancia cada vez mais daqueles a quem deveria servir: o pov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1483" t="31152" r="40568" b="29321"/>
          <a:stretch/>
        </p:blipFill>
        <p:spPr>
          <a:xfrm>
            <a:off x="324000" y="3754440"/>
            <a:ext cx="4608360" cy="2852640"/>
          </a:xfrm>
          <a:prstGeom prst="rect">
            <a:avLst/>
          </a:prstGeom>
          <a:ln w="0">
            <a:noFill/>
          </a:ln>
        </p:spPr>
      </p:pic>
      <p:pic>
        <p:nvPicPr>
          <p:cNvPr id="59" name="070516_f_019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176720" cy="303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549360"/>
            <a:ext cx="4248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As bolsas de va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omemoram os cresc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lucros obtid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rentáveis a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38280"/>
            <a:ext cx="42480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É a festa dos ric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ada vez mais ric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005360"/>
            <a:ext cx="381636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nquanto isso, no outro extremo, a vã espera por qualquer resto, migalha ou sobra que possa atenuar a fom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198900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Que cruel abismo é este que construímos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7614" r="2289" b="2646"/>
          <a:stretch/>
        </p:blipFill>
        <p:spPr>
          <a:xfrm>
            <a:off x="6156360" y="2781360"/>
            <a:ext cx="2724120" cy="38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465" t="6927" r="5465" b="6927"/>
          <a:stretch/>
        </p:blipFill>
        <p:spPr>
          <a:xfrm>
            <a:off x="395280" y="476280"/>
            <a:ext cx="5472000" cy="45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360" y="5229360"/>
            <a:ext cx="579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De um lado, o consumo desenfreado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734080"/>
            <a:ext cx="518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E do outro, nada para consumir..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56000" y="4941720"/>
            <a:ext cx="33098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Como a vida é frági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7d"/>
                </a:solidFill>
                <a:latin typeface="Verdana"/>
              </a:rPr>
              <a:t>se a abandonam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7614" r="2289" b="2646"/>
          <a:stretch/>
        </p:blipFill>
        <p:spPr>
          <a:xfrm>
            <a:off x="6156360" y="2781360"/>
            <a:ext cx="272412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112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Separados pelo abismo,                              dois mundos difer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56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- de um lado, o nosso mundo, o dos abençoados pelo desti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00536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7d"/>
                </a:solidFill>
                <a:latin typeface="Verdana"/>
              </a:rPr>
              <a:t>- do outro, o triste mundo da grande maioria de excluídos, esquecidos, ignorados pelo destin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7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6:32:50Z</dcterms:created>
  <dc:creator>um_peregrino@hotmail.com</dc:creator>
  <dc:description/>
  <dc:language>en-US</dc:language>
  <cp:lastModifiedBy>Notebook</cp:lastModifiedBy>
  <dcterms:modified xsi:type="dcterms:W3CDTF">2007-06-01T15:26:44Z</dcterms:modified>
  <cp:revision>87</cp:revision>
  <dc:subject/>
  <dc:title>Angelina</dc:title>
</cp:coreProperties>
</file>