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FB1-4E3A-4ACB-9F4E-B4A811A3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72B-B2FB-4902-8354-7773C0D0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7FA-B1A9-460F-A6F9-01F63AC0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F50-D266-4A27-A89E-8225E93C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254-41FA-4101-BC4F-716515B6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661-2F96-4EE6-816D-6270AC72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2C1-F54F-43D6-9B34-1FAB525F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8F6-9E33-48A1-B31D-B9C27CD0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0C2-269E-44AA-BF09-0C85E262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CCC-EB31-45A9-9B51-0DDFD65C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4B6-6B34-49F6-9FF0-F7A611BE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4FA-0906-4C5C-B02A-90EB64B4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2BC5-D626-4236-BFFF-8059FF59C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" y="40644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60" y="36828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16240" y="2700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600" y="36828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600" y="2556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6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253280" y="6600960"/>
            <a:ext cx="17668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>
                    <a:alpha val="66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YAVEHA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>
                  <a:alpha val="66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 spokes="1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56:55Z</dcterms:created>
  <dc:creator>Hugo Olímpio</dc:creator>
  <dc:description/>
  <dc:language>en-US</dc:language>
  <cp:lastModifiedBy>Hugo Olímpio</cp:lastModifiedBy>
  <dcterms:modified xsi:type="dcterms:W3CDTF">2006-10-03T20:17:54Z</dcterms:modified>
  <cp:revision>5</cp:revision>
  <dc:subject/>
  <dc:title>Diapositivo 1</dc:title>
</cp:coreProperties>
</file>