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4B5-4AB6-4862-9E97-E94CE251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9DC-A606-4868-96ED-5E0B6731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471-6A99-4575-AEC7-58714B19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ABA-711C-471D-B188-74598D49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9BC-B32A-4204-8A96-496D6212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90A-E3AC-4B3E-A147-E9F436EF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DF8-9902-4BAD-8C4E-AE532BC1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2AE-B629-4D83-9B14-0712740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0F3-F6B7-4FC6-B1AF-C661B95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16E-2AC5-4C22-9245-4CA6C52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EC8-1CB9-4F93-BA0A-28D20AB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F56-CA0A-473D-9F96-C5FE315E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5079-908D-46EB-9E2C-75A440A80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" y="40644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60" y="36828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16240" y="2700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600" y="36828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600" y="2556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6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253280" y="6600960"/>
            <a:ext cx="17668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>
                    <a:alpha val="66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YAVEHA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>
                  <a:alpha val="66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 spokes="1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56:55Z</dcterms:created>
  <dc:creator>Hugo Olímpio</dc:creator>
  <dc:description/>
  <dc:language>en-US</dc:language>
  <cp:lastModifiedBy>Hugo Olímpio</cp:lastModifiedBy>
  <dcterms:modified xsi:type="dcterms:W3CDTF">2006-10-03T20:17:54Z</dcterms:modified>
  <cp:revision>5</cp:revision>
  <dc:subject/>
  <dc:title>Diapositivo 1</dc:title>
</cp:coreProperties>
</file>