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58E-F317-44D1-A098-019F897DD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BAC4-F906-4D76-9B15-464AF1F21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2A9-FCDF-48C3-9F77-C755F7346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BCA-1C84-486C-AED8-6A2526160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F6C-0C83-4510-9ACF-D975F9CB3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050-3C21-4C1C-9C87-ED53D4EB1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C43-AB4F-4957-B591-F795ED63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AF1-A442-45B7-A24A-4D0B73F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9B4-1CB6-43FE-AE93-3E4C750D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F25-E38C-45BB-AA72-03B6E4A4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EC6-4C1C-41FF-A9D9-2DDB6E2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55E-50EE-4D7F-ACD7-0A694C9D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257-42D9-4EFE-8533-4BF0B37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FC3-0DA3-4DDC-8FAE-24B4983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E89-4DCF-45FA-924E-5B767F1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476-453B-4E86-A83C-89849D1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C42-BE02-484E-B32D-E9C6B58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BAE-39E1-499F-BB1D-672D6356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21B1-82C8-427B-897D-6A836DF625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V="1">
            <a:off x="228600" y="151920"/>
            <a:ext cx="0" cy="396252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28600" y="152280"/>
            <a:ext cx="87631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991720" y="152280"/>
            <a:ext cx="0" cy="655344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4114440" y="6705720"/>
            <a:ext cx="48769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11280" y="907920"/>
            <a:ext cx="792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ffffff"/>
                </a:solidFill>
                <a:latin typeface="Arial"/>
                <a:ea typeface="宋体"/>
              </a:rPr>
              <a:t>Sugestões para uma Vida Melhor em 201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5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  <p:sndAc>
      <p:stSnd>
        <p:snd r:embed="rId4" name="sound0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14300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63480" y="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a um pequeno almoço como um rei,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moce como um prínc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jante como um pedi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9280" y="38160"/>
            <a:ext cx="902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rranje tempo para meditar.  Isso providencia-nos o nosso “combustível” diário para as nossas muito ocupadas vida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92200" y="2541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nhe mais enquanto está acord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ebutia pallida"/>
          <p:cNvPicPr/>
          <p:nvPr/>
        </p:nvPicPr>
        <p:blipFill>
          <a:blip r:embed="rId1"/>
          <a:stretch/>
        </p:blipFill>
        <p:spPr>
          <a:xfrm>
            <a:off x="99072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47840" y="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rria e ria m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5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nte fazer com que, pelo menos, três pessoas sorriam cada dia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95280" y="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perca o seu precioso tempo com mexer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Echinocereus klapperi"/>
          <p:cNvPicPr/>
          <p:nvPr/>
        </p:nvPicPr>
        <p:blipFill>
          <a:blip r:embed="rId1"/>
          <a:stretch/>
        </p:blipFill>
        <p:spPr>
          <a:xfrm>
            <a:off x="785880" y="114480"/>
            <a:ext cx="7257960" cy="6743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14200" y="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nha pensamentos negativos acerca de coisas que não pode control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796000" y="3786120"/>
            <a:ext cx="321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m vez disso invista a sua energia nos momentos positivos do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chinocereus polyacanthus"/>
          <p:cNvPicPr/>
          <p:nvPr/>
        </p:nvPicPr>
        <p:blipFill>
          <a:blip r:embed="rId1"/>
          <a:stretch/>
        </p:blipFill>
        <p:spPr>
          <a:xfrm>
            <a:off x="1176480" y="61920"/>
            <a:ext cx="6791040" cy="6734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8760" y="0"/>
            <a:ext cx="88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aste tempo com pessoas com mais de 70 anos &amp; com menos de 6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8900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vida é muito curta para ser gasta a odiar algué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12200" y="254160"/>
            <a:ext cx="46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se leve muito a sério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50920" y="1484280"/>
            <a:ext cx="30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inguém mais o fa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54200" y="398520"/>
            <a:ext cx="567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minhe 0-3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enquanto anda, sorr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8000" y="0"/>
            <a:ext cx="82328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queça factos do passado. Não lembre ao seu parceiro/a os erros do pass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sso arruinará a sua felicidade do presente.</a:t>
            </a:r>
            <a:r>
              <a:rPr b="1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66760" y="-33480"/>
            <a:ext cx="8454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preenda que a vida é uma esco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que voçê está nela para aprender. Problem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ão apenas simples par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o 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arecem 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aparecem c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uma aul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álgebr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s as li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r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icam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oda 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640" y="111240"/>
            <a:ext cx="728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m que ganhar todas as discussõ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ncorde ou discor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9280" y="115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m que comparar as sua vida com a dos outros. Não faz a menor ideia de como são os dias de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ça as pazes com o passado e assim não estragará o pres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seu trabalho não tomará conta de si quando estiver doente. Mas os seus amigos s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ntanha-se em contacto com ele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bivia peclardiana"/>
          <p:cNvPicPr/>
          <p:nvPr/>
        </p:nvPicPr>
        <p:blipFill>
          <a:blip r:embed="rId1"/>
          <a:stretch/>
        </p:blipFill>
        <p:spPr>
          <a:xfrm>
            <a:off x="76212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6200" y="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erdoe a todos por tu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31840" y="0"/>
            <a:ext cx="83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quilo que os outros pensam de si não é da sua con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81440" y="182520"/>
            <a:ext cx="63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mbora a situação seja boa ou má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la mudará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657440" y="114480"/>
            <a:ext cx="7486560" cy="674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58760" y="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faça-se de tud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seja úti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u aleg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7620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nte-se em silêncio, pelo meno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8760" y="189000"/>
            <a:ext cx="434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veja é uma perda de t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Já tem tudo aquilo que necess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1840" y="1159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melhor está ainda para vir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52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importa como se sente, levante-se, vista-se e apareça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exagere. Mantenha os seus limi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0920" y="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seu íntimo está feliz a maior parte das vezes. Portanto seja feliz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5108400" y="115920"/>
            <a:ext cx="41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ça o que está certo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623520" y="3816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le muitas vezes com a sua família ou amigo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924360" y="3816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ia dê alguma coisa boa aos outros por ex. um sorri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6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445320" y="-3348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r favor, reenvie para alguém que lhe seja ca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图片 6" descr="slide0075_image041.gif"/>
          <p:cNvPicPr/>
          <p:nvPr/>
        </p:nvPicPr>
        <p:blipFill>
          <a:blip r:embed="rId2"/>
          <a:stretch/>
        </p:blipFill>
        <p:spPr>
          <a:xfrm>
            <a:off x="4572000" y="51436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4724280"/>
            <a:ext cx="35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urma dur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 hora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876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iva com os 3 E's : Energia, Entusias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Empat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33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7760" y="182520"/>
            <a:ext cx="45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ratique mais desporto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2200" y="18252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eia mais livr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o que aqueles que leu em 2010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15720" y="3816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ba muita água.</a:t>
            </a:r>
            <a:r>
              <a:rPr b="1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a mais alimentos que crescem em árvores e plantas e coma menos alimentos que são fabricados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06:53Z</dcterms:created>
  <dc:creator>jb</dc:creator>
  <dc:description/>
  <dc:language>en-US</dc:language>
  <cp:lastModifiedBy>M. Jose Soares Lopes</cp:lastModifiedBy>
  <dcterms:modified xsi:type="dcterms:W3CDTF">2010-12-28T01:08:12Z</dcterms:modified>
  <cp:revision>63</cp:revision>
  <dc:subject/>
  <dc:title>Présentation PowerPoint</dc:title>
</cp:coreProperties>
</file>