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1.gif" ContentType="image/gif"/>
  <Override PartName="/ppt/media/image8.jpeg" ContentType="image/jpeg"/>
  <Override PartName="/ppt/media/image3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sound003.wav" ContentType="audio/x-wav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DDE0-7562-4796-A2DC-7C34217BE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18CE-5D34-40DF-BED9-4FB6F3811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7D1B-AECA-4939-9FE0-3C9D113859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938-E64B-462E-82E0-1AA05918A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AD5E-B20C-41CC-810E-77A77FDF9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9ADF-2EEB-467A-8A22-8B05CD0521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196-87D6-424C-AFFF-BB119246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83E-0B1E-49B6-8A4A-54E878C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876-4069-49D2-A2E5-FFD75A17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002-3053-4D73-B6B2-C639B534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105-3120-43D9-948F-22606160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CC8-D850-407D-958C-6ABCEBC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DAB-003F-4454-BFFA-D56BF6A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C10-D0F9-4467-9B7C-7A0A0F67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36A-EE9B-4856-8AB2-37C9A10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242-085B-45AE-9B7A-F1B7CDB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EB1-D5FC-4EBC-8D9F-22D05901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4A5-1683-425B-A637-46D37CC3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3C34-01F4-4153-BD7D-9584FD9E85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ound003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er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746136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 flipV="1">
            <a:off x="228600" y="151920"/>
            <a:ext cx="0" cy="396252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28600" y="152280"/>
            <a:ext cx="87631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8991720" y="152280"/>
            <a:ext cx="0" cy="655344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4114440" y="6705720"/>
            <a:ext cx="4876920" cy="0"/>
          </a:xfrm>
          <a:prstGeom prst="line">
            <a:avLst/>
          </a:prstGeom>
          <a:ln w="9360">
            <a:solidFill>
              <a:srgbClr val="f9c4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11280" y="907920"/>
            <a:ext cx="792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ffffff"/>
                </a:solidFill>
                <a:latin typeface="Arial"/>
                <a:ea typeface="宋体"/>
              </a:rPr>
              <a:t>Sugestões para uma Vida Melhor em 201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ano - Clyderman Richard.mp3" descr=""/>
          <p:cNvPicPr/>
          <p:nvPr/>
        </p:nvPicPr>
        <p:blipFill>
          <a:blip r:embed="rId2"/>
          <a:stretch/>
        </p:blipFill>
        <p:spPr>
          <a:xfrm>
            <a:off x="3851280" y="6021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5" name="春之声圆舞曲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  <p:sndAc>
      <p:stSnd>
        <p:snd r:embed="rId4" name="sound00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4d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chinocereus reichenbachii"/>
          <p:cNvPicPr/>
          <p:nvPr/>
        </p:nvPicPr>
        <p:blipFill>
          <a:blip r:embed="rId1"/>
          <a:stretch/>
        </p:blipFill>
        <p:spPr>
          <a:xfrm>
            <a:off x="1143000" y="114480"/>
            <a:ext cx="6858000" cy="6743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219320" y="6324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reichenbach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63480" y="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a um pequeno almoço como um rei,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4359240"/>
            <a:ext cx="374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lmoce como um prínc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1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jante como um pedi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Oroya peruviana"/>
          <p:cNvPicPr/>
          <p:nvPr/>
        </p:nvPicPr>
        <p:blipFill>
          <a:blip r:embed="rId1"/>
          <a:stretch/>
        </p:blipFill>
        <p:spPr>
          <a:xfrm>
            <a:off x="2352600" y="142920"/>
            <a:ext cx="6791400" cy="6715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6212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oya peruv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9280" y="38160"/>
            <a:ext cx="902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rranje tempo para meditar.  Isso providencia-nos o nosso “combustível” diário para as nossas muito ocupadas vida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scobaria minima"/>
          <p:cNvPicPr/>
          <p:nvPr/>
        </p:nvPicPr>
        <p:blipFill>
          <a:blip r:embed="rId1"/>
          <a:stretch/>
        </p:blipFill>
        <p:spPr>
          <a:xfrm>
            <a:off x="304920" y="790560"/>
            <a:ext cx="8572320" cy="606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639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min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92200" y="2541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onhe mais enquanto está acorda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ebutia pallida"/>
          <p:cNvPicPr/>
          <p:nvPr/>
        </p:nvPicPr>
        <p:blipFill>
          <a:blip r:embed="rId1"/>
          <a:stretch/>
        </p:blipFill>
        <p:spPr>
          <a:xfrm>
            <a:off x="990720" y="114480"/>
            <a:ext cx="7448400" cy="6743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28600" y="639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all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58760" y="115920"/>
            <a:ext cx="880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47840" y="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orria e ria m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Escobaria wissmannii"/>
          <p:cNvPicPr/>
          <p:nvPr/>
        </p:nvPicPr>
        <p:blipFill>
          <a:blip r:embed="rId1"/>
          <a:stretch/>
        </p:blipFill>
        <p:spPr>
          <a:xfrm>
            <a:off x="571680" y="104760"/>
            <a:ext cx="8572320" cy="6753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5228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wissman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15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ente fazer com que, pelo menos, três pessoas sorriam cada dia.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ammillaria albiflora"/>
          <p:cNvPicPr/>
          <p:nvPr/>
        </p:nvPicPr>
        <p:blipFill>
          <a:blip r:embed="rId1"/>
          <a:stretch/>
        </p:blipFill>
        <p:spPr>
          <a:xfrm>
            <a:off x="609480" y="114480"/>
            <a:ext cx="7896240" cy="674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29528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albifl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95280" y="0"/>
            <a:ext cx="83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perca o seu precioso tempo com mexeric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Echinocereus klapperi"/>
          <p:cNvPicPr/>
          <p:nvPr/>
        </p:nvPicPr>
        <p:blipFill>
          <a:blip r:embed="rId1"/>
          <a:stretch/>
        </p:blipFill>
        <p:spPr>
          <a:xfrm>
            <a:off x="785880" y="114480"/>
            <a:ext cx="7257960" cy="6743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066680" y="63165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klapp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14200" y="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tenha pensamentos negativos acerca de coisas que não pode control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796000" y="3786120"/>
            <a:ext cx="321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m vez disso invista a sua energia nos momentos positivos do pre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b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Echinocereus polyacanthus"/>
          <p:cNvPicPr/>
          <p:nvPr/>
        </p:nvPicPr>
        <p:blipFill>
          <a:blip r:embed="rId1"/>
          <a:stretch/>
        </p:blipFill>
        <p:spPr>
          <a:xfrm>
            <a:off x="1176480" y="61920"/>
            <a:ext cx="6791040" cy="6734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219320" y="63928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oly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58760" y="0"/>
            <a:ext cx="88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aste tempo com pessoas com mais de 70 anos &amp; com menos de 6.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Neowerdermannia vorwerkii"/>
          <p:cNvPicPr/>
          <p:nvPr/>
        </p:nvPicPr>
        <p:blipFill>
          <a:blip r:embed="rId1"/>
          <a:stretch/>
        </p:blipFill>
        <p:spPr>
          <a:xfrm>
            <a:off x="2200320" y="114480"/>
            <a:ext cx="6943680" cy="6743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Neowerdermannia vorwerk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189000"/>
            <a:ext cx="825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 vida é muito curta para ser gasta a odiar algué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atucana krahnii"/>
          <p:cNvPicPr/>
          <p:nvPr/>
        </p:nvPicPr>
        <p:blipFill>
          <a:blip r:embed="rId1"/>
          <a:stretch/>
        </p:blipFill>
        <p:spPr>
          <a:xfrm>
            <a:off x="814320" y="57240"/>
            <a:ext cx="7515360" cy="6743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8580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tucana krah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12200" y="254160"/>
            <a:ext cx="46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se leve muito a sério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50920" y="1484280"/>
            <a:ext cx="30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inguém mais o fa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ochemiea poselgeri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52280" y="6400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chemiea posel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54200" y="398520"/>
            <a:ext cx="567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minhe 0-30 minutos por d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enquanto anda, sorr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Discocactus pugionacanthus"/>
          <p:cNvPicPr/>
          <p:nvPr/>
        </p:nvPicPr>
        <p:blipFill>
          <a:blip r:embed="rId1"/>
          <a:stretch/>
        </p:blipFill>
        <p:spPr>
          <a:xfrm>
            <a:off x="2438280" y="114480"/>
            <a:ext cx="5857920" cy="6743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pugion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8000" y="0"/>
            <a:ext cx="82328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squeça factos do passado. Não lembre ao seu parceiro/a os erros do passa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sso arruinará a sua felicidade do presente.</a:t>
            </a:r>
            <a:r>
              <a:rPr b="1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Astrophytum coahuilense"/>
          <p:cNvPicPr/>
          <p:nvPr/>
        </p:nvPicPr>
        <p:blipFill>
          <a:blip r:embed="rId1"/>
          <a:stretch/>
        </p:blipFill>
        <p:spPr>
          <a:xfrm>
            <a:off x="2514600" y="114480"/>
            <a:ext cx="6305400" cy="6743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457200" y="639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coahuil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66760" y="-33480"/>
            <a:ext cx="8454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preenda que a vida é uma esco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que voçê está nela para aprender. Problem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ão apenas simples par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o curricul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aparecem 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saparecem co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uma aul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álgebr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as as li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que apr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icam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oda a v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e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chinocereus subinermis"/>
          <p:cNvPicPr/>
          <p:nvPr/>
        </p:nvPicPr>
        <p:blipFill>
          <a:blip r:embed="rId1"/>
          <a:stretch/>
        </p:blipFill>
        <p:spPr>
          <a:xfrm>
            <a:off x="0" y="447840"/>
            <a:ext cx="8953560" cy="6410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838080" y="624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subinerm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640" y="111240"/>
            <a:ext cx="728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tem que ganhar todas as discussõ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ncorde ou discord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Echinomastus durangensis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632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mastus durangen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9280" y="1159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tem que comparar as sua vida com a dos outros. Não faz a menor ideia de como são os dias de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Ferobergia hybride"/>
          <p:cNvPicPr/>
          <p:nvPr/>
        </p:nvPicPr>
        <p:blipFill>
          <a:blip r:embed="rId1"/>
          <a:stretch/>
        </p:blipFill>
        <p:spPr>
          <a:xfrm>
            <a:off x="1362240" y="114480"/>
            <a:ext cx="7781760" cy="6743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0" y="639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Ferobergia hybr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76200" y="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aça as pazes com o passado e assim não estragará o pres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obivia cinnabar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248520" y="65451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cinnaba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 seu trabalho não tomará conta de si quando estiver doente. Mas os seus amigos si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antanha-se em contacto com ele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a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bivia peclardiana"/>
          <p:cNvPicPr/>
          <p:nvPr/>
        </p:nvPicPr>
        <p:blipFill>
          <a:blip r:embed="rId1"/>
          <a:stretch/>
        </p:blipFill>
        <p:spPr>
          <a:xfrm>
            <a:off x="762120" y="114480"/>
            <a:ext cx="7629480" cy="6743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28600" y="6477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peclard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6200" y="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erdoe a todos por tu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mmillaria slevinii"/>
          <p:cNvPicPr/>
          <p:nvPr/>
        </p:nvPicPr>
        <p:blipFill>
          <a:blip r:embed="rId1"/>
          <a:stretch/>
        </p:blipFill>
        <p:spPr>
          <a:xfrm>
            <a:off x="1066680" y="114480"/>
            <a:ext cx="7039080" cy="6743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380880" y="6469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slevi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31840" y="0"/>
            <a:ext cx="83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Aquilo que os outros pensam de si não é da sua con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opiapoa tenuissima"/>
          <p:cNvPicPr/>
          <p:nvPr/>
        </p:nvPicPr>
        <p:blipFill>
          <a:blip r:embed="rId1"/>
          <a:stretch/>
        </p:blipFill>
        <p:spPr>
          <a:xfrm>
            <a:off x="1981080" y="114480"/>
            <a:ext cx="6524640" cy="674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522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iapoa tenuiss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81440" y="182520"/>
            <a:ext cx="63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mbora a situação seja boa ou má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la mudará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Ortegocactus macdougallii"/>
          <p:cNvPicPr/>
          <p:nvPr/>
        </p:nvPicPr>
        <p:blipFill>
          <a:blip r:embed="rId1"/>
          <a:stretch/>
        </p:blipFill>
        <p:spPr>
          <a:xfrm>
            <a:off x="1657440" y="114480"/>
            <a:ext cx="7486560" cy="6743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624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tegocactus macdougall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58760" y="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esfaça-se de tud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seja úti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u aleg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2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Echinocereus pectinatus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429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304920" y="632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ectin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7620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Sente-se em silêncio, pelo meno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0 minutos por d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5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arodia spaniosa"/>
          <p:cNvPicPr/>
          <p:nvPr/>
        </p:nvPicPr>
        <p:blipFill>
          <a:blip r:embed="rId1"/>
          <a:stretch/>
        </p:blipFill>
        <p:spPr>
          <a:xfrm>
            <a:off x="1219320" y="114480"/>
            <a:ext cx="7924680" cy="6743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28600" y="639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8760" y="189000"/>
            <a:ext cx="434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Inveja é uma perda de t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Já tem tudo aquilo que necessi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Strombocactus pulcherri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860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31840" y="1159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 melhor está ainda para vir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52" name="Picture 9" descr="http://blogimages.bloggen.be/cactussen/123-c789d26835de9486a04e844c78eab23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376200" y="11592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importa como se sente, levante-se, vista-se e apareça.</a:t>
            </a:r>
            <a:r>
              <a:rPr b="0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http://blogimages.bloggen.be/cactussen/128-80d41187d544e909890aa283e65b8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19120" y="11592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ão exagere. Mantenha os seus limi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http://blogimages.bloggen.be/cactussen/4-fec39180376a2e585d6ba77a848c0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4140360" y="115920"/>
            <a:ext cx="431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0920" y="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O seu íntimo está feliz a maior parte das vezes. Portanto seja feliz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9" descr="http://blogimages.bloggen.be/cactussen/226-3fd123d66749aed47864a66230bee7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5108400" y="115920"/>
            <a:ext cx="41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aça o que está certo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http://blogimages.bloggen.be/cactussen/139-5126bfa8c5978396d86bee4fbe22b8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623520" y="3816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ale muitas vezes com a sua família ou amigo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http://blogimages.bloggen.be/cactussen/172-31cfca5a481d7a1c8f5efae284226a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924360" y="3816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da dia dê alguma coisa boa aos outros por ex. um sorris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66" name="Picture 9" descr="http://blogimages.bloggen.be/cactussen/229-fc83c2f7eb0633c09dfc9676479cd1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445320" y="-3348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or favor, reenvie para alguém que lhe seja ca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图片 6" descr="slide0075_image041.gif"/>
          <p:cNvPicPr/>
          <p:nvPr/>
        </p:nvPicPr>
        <p:blipFill>
          <a:blip r:embed="rId2"/>
          <a:stretch/>
        </p:blipFill>
        <p:spPr>
          <a:xfrm>
            <a:off x="4572000" y="514368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oryphantha wohlschlageri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676520" y="631656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ryphantha wohlschla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4724280"/>
            <a:ext cx="353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urma dur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7 hora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Lobivia tiegeliana"/>
          <p:cNvPicPr/>
          <p:nvPr/>
        </p:nvPicPr>
        <p:blipFill>
          <a:blip r:embed="rId1"/>
          <a:stretch/>
        </p:blipFill>
        <p:spPr>
          <a:xfrm>
            <a:off x="0" y="515880"/>
            <a:ext cx="8964720" cy="6342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701028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tiegel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876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Viva com os 3 E's : Energia, Entusias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e Empat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Astrophytum super kabuto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33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super kab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7760" y="182520"/>
            <a:ext cx="45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Pratique mais desportos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Rebutia poecilantha"/>
          <p:cNvPicPr/>
          <p:nvPr/>
        </p:nvPicPr>
        <p:blipFill>
          <a:blip r:embed="rId1"/>
          <a:stretch/>
        </p:blipFill>
        <p:spPr>
          <a:xfrm>
            <a:off x="19044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52280" y="654516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oecilant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2200" y="18252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Leia mais livr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do que aqueles que leu em 2010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obivia robus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28600" y="632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robu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15720" y="3816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Beba muita água.</a:t>
            </a:r>
            <a:r>
              <a:rPr b="1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iscocactus horstii"/>
          <p:cNvPicPr/>
          <p:nvPr/>
        </p:nvPicPr>
        <p:blipFill>
          <a:blip r:embed="rId1"/>
          <a:stretch/>
        </p:blipFill>
        <p:spPr>
          <a:xfrm>
            <a:off x="1542960" y="71280"/>
            <a:ext cx="6058080" cy="6715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90720" y="6240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horst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0920" y="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oma mais alimentos que crescem em árvores e plantas e coma menos alimentos que são fabricados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1:06:53Z</dcterms:created>
  <dc:creator>jb</dc:creator>
  <dc:description/>
  <dc:language>en-US</dc:language>
  <cp:lastModifiedBy>M. Jose Soares Lopes</cp:lastModifiedBy>
  <dcterms:modified xsi:type="dcterms:W3CDTF">2010-12-28T01:08:12Z</dcterms:modified>
  <cp:revision>63</cp:revision>
  <dc:subject/>
  <dc:title>Présentation PowerPoint</dc:title>
</cp:coreProperties>
</file>