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Ernesto%20Cortazar%20-%20leaves_in_the_wind.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CB9A-FCCF-44B3-ACEC-E9AAA5A5534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AED8-9252-405B-820A-A297C71C9A08}"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3605-5AD5-4426-B6D8-B6C8F7FDF3DA}"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8FF4-FC2A-4D6C-860D-D83D568087D7}"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F7C5-16E5-4BA0-A92D-AEC260F5BDE6}"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0940-251E-4449-B706-C848709E1059}"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D4E4-FA8F-4AC4-8699-243674D7904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E88B-2AD3-4412-BF78-61F6C455A8D2}"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6F14-6C79-4893-90A3-CDA8A6F6513A}"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30F2-61A3-44ED-80A5-BFE4253E787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710F-F33B-4A6D-BECA-EA0C2B1279F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F102-5326-4CF4-BEF1-474AD0698B16}"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C175-1A8C-4A86-AF08-49619F413CB9}"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7200-6029-4A41-9BA1-BDA3F642189F}"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5205-E9AB-4324-AEB9-F2CA7D1FFF63}"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F0A6-BA2A-418B-B460-F6B451F5A551}"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7BE7-1E25-41F0-BD58-6D3E1216C08E}"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37F28-872F-44CE-BD25-F2BB43655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CBD01-EB49-471B-8174-FF7CC6741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AF8BB-337A-43B6-BE01-2C022E8F8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A9E7E-05B8-41C2-A3E1-53338E4BF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2E524-103A-4B85-B92D-29C75DD35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B08E6-6232-4D79-891E-454362EC7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39155-10E3-4E08-9BC9-10CE06A71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0CA3A-A489-4538-B797-7A1D6AE83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8C5B9-EF86-4CED-8978-07192C69A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A231C-4527-4CF8-B308-9C333569A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11F63-6CE5-4B16-BD29-69D48267E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FFAE6-7940-4FAA-832B-DD73B26EF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49C5-0B12-4CB5-8466-FFE8D090C2EF}"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Ernesto%20Cortazar%20-%20leaves_in_the_wind.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268360" y="1773360"/>
            <a:ext cx="6480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0" spc="-1" strike="noStrike">
                <a:solidFill>
                  <a:srgbClr val="003399"/>
                </a:solidFill>
                <a:latin typeface="Times New Roman"/>
              </a:rPr>
              <a:t>Um Dia, Isto Tinha Que Acontecer</a:t>
            </a:r>
            <a:endParaRPr b="0" lang="en-US" sz="6000" spc="-1" strike="noStrike">
              <a:solidFill>
                <a:srgbClr val="000000"/>
              </a:solidFill>
              <a:latin typeface="Times New Roman"/>
            </a:endParaRPr>
          </a:p>
        </p:txBody>
      </p:sp>
      <p:sp>
        <p:nvSpPr>
          <p:cNvPr id="49" name="Text Box 9"/>
          <p:cNvSpPr/>
          <p:nvPr/>
        </p:nvSpPr>
        <p:spPr>
          <a:xfrm>
            <a:off x="0" y="6308640"/>
            <a:ext cx="27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99"/>
                </a:solidFill>
                <a:latin typeface="Arial"/>
              </a:rPr>
              <a:t>CLICAR</a:t>
            </a:r>
            <a:endParaRPr b="0" lang="en-US" sz="1800" spc="-1" strike="noStrike">
              <a:solidFill>
                <a:srgbClr val="000000"/>
              </a:solidFill>
              <a:latin typeface="Times New Roman"/>
            </a:endParaRPr>
          </a:p>
        </p:txBody>
      </p:sp>
      <p:pic>
        <p:nvPicPr>
          <p:cNvPr id="50" name="Picture 4" descr="C:\Documents and Settings\Adelino Leal\Os meus documentos\As minhas imagens\securedownloadCA62TFEA.jpg"/>
          <p:cNvPicPr/>
          <p:nvPr/>
        </p:nvPicPr>
        <p:blipFill>
          <a:blip r:embed="rId1"/>
          <a:stretch/>
        </p:blipFill>
        <p:spPr>
          <a:xfrm>
            <a:off x="3564000" y="3500280"/>
            <a:ext cx="3809880" cy="2857680"/>
          </a:xfrm>
          <a:prstGeom prst="rect">
            <a:avLst/>
          </a:prstGeom>
          <a:ln w="0">
            <a:noFill/>
          </a:ln>
        </p:spPr>
      </p:pic>
      <p:sp>
        <p:nvSpPr>
          <p:cNvPr id="51" name="CaixaDeTexto 4"/>
          <p:cNvSpPr/>
          <p:nvPr/>
        </p:nvSpPr>
        <p:spPr>
          <a:xfrm>
            <a:off x="4402080" y="6381720"/>
            <a:ext cx="2252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Por: Mia Couto</a:t>
            </a:r>
            <a:endParaRPr b="0" lang="en-US" sz="2400" spc="-1" strike="noStrike">
              <a:solidFill>
                <a:srgbClr val="000000"/>
              </a:solidFill>
              <a:latin typeface="Times New Roman"/>
            </a:endParaRPr>
          </a:p>
        </p:txBody>
      </p:sp>
    </p:spTree>
  </p:cSld>
  <p:transition spd="med">
    <p:checker dir="horz"/>
    <p:sndAc>
      <p:stSnd>
        <p:snd r:embed="rId2" name="Ernesto%20Cortazar%20-%20leaves_in_the_win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ângulo 2"/>
          <p:cNvSpPr/>
          <p:nvPr/>
        </p:nvSpPr>
        <p:spPr>
          <a:xfrm>
            <a:off x="2286000" y="2781360"/>
            <a:ext cx="6462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que vai a toda a parte, mas que não sabe estar em sítio nenhum. Uma geração que tem acesso à informação, sem que isso signifique que é informada; uma geração dotada de trôpegas competências de leitura e interpretação da realidade em que se inse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habituada a comunicar por abreviaturas e frustrada por não poder abreviar, do mesmo modo, o caminho para o sucesso.</a:t>
            </a:r>
            <a:endParaRPr b="0" lang="en-US" sz="2400" spc="-1" strike="noStrike">
              <a:solidFill>
                <a:srgbClr val="000000"/>
              </a:solidFill>
              <a:latin typeface="Times New Roman"/>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ângulo 2"/>
          <p:cNvSpPr/>
          <p:nvPr/>
        </p:nvSpPr>
        <p:spPr>
          <a:xfrm>
            <a:off x="2124000" y="2565360"/>
            <a:ext cx="676908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Uma geração que deseja saltar as etapas da ascensão social, à mesma velocidade que queimou etapas de crescimento. Uma geração que distingue mal a diferença entre emprego e trabalho, ambicionando mais aquele do que este, num tempo em que nem um nem outro abunda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que, de repente, se apercebeu que não manda no mundo como mandou nos pais e que agora quer ditar regras à sociedade como as foi ditando à escola, alarvemente e sem maneiras. </a:t>
            </a:r>
            <a:endParaRPr b="0" lang="en-US" sz="2400" spc="-1" strike="noStrike">
              <a:solidFill>
                <a:srgbClr val="000000"/>
              </a:solidFill>
              <a:latin typeface="Times New Roman"/>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ângulo 2"/>
          <p:cNvSpPr/>
          <p:nvPr/>
        </p:nvSpPr>
        <p:spPr>
          <a:xfrm>
            <a:off x="2124000" y="2276640"/>
            <a:ext cx="7020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tão habituada ao muito e ao supérfluo, que o pouco não lhe chega e o acessório se lhe tornou indispensáve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consumista, insaciável e completamente desorientad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preparadinha para ser arrastada, para servir de montada a quem é exímio na arte de cavalgar demagogicamente sobre o desespero alhe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Há talento e cultura e capacidade e competência e solidariedade e inteligência nesta geraçã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Claro que há. Conheço uns bons e valentes punhados de exemplos!</a:t>
            </a:r>
            <a:endParaRPr b="0" lang="en-US" sz="2400" spc="-1" strike="noStrike">
              <a:solidFill>
                <a:srgbClr val="000000"/>
              </a:solidFill>
              <a:latin typeface="Times New Roman"/>
            </a:endParaRPr>
          </a:p>
        </p:txBody>
      </p:sp>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ângulo 2"/>
          <p:cNvSpPr/>
          <p:nvPr/>
        </p:nvSpPr>
        <p:spPr>
          <a:xfrm>
            <a:off x="2124000" y="1916280"/>
            <a:ext cx="70200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jovens que detêm estas capacidades - caracterís-ticas que não encaixam no retrato colectivo, pouco se identificam com os seus contemporâneos, e nem são esses que se queixam assim (embora estejam à rasca, como todos nós). Chego a ter a impressão de que, se alguns jovens mais inflamados pudessem, atirariam ao tapete os seus contemporâneos que trabalham bem, os que são empreendedores, os que conseguem bons resultados académicos, porque, (que inveja! que chatice!) são betinhos, cromos que só estorvam os outros (como se viu no último Prós e Contras) e, oh, injustiça!, já estão a ser capazes de abarbatar bons ordenados e a subir na vida. </a:t>
            </a:r>
            <a:endParaRPr b="0" lang="en-US" sz="2400" spc="-1" strike="noStrike">
              <a:solidFill>
                <a:srgbClr val="000000"/>
              </a:solidFill>
              <a:latin typeface="Times New Roman"/>
            </a:endParaRPr>
          </a:p>
        </p:txBody>
      </p:sp>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5"/>
          <p:cNvSpPr/>
          <p:nvPr/>
        </p:nvSpPr>
        <p:spPr>
          <a:xfrm>
            <a:off x="2230560" y="1989000"/>
            <a:ext cx="69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69" name="Rectângulo 2"/>
          <p:cNvSpPr/>
          <p:nvPr/>
        </p:nvSpPr>
        <p:spPr>
          <a:xfrm>
            <a:off x="2286000" y="2708280"/>
            <a:ext cx="63183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 nós, os mais velhos, estaremos em vias de ser caçados à entrada dos nossos locais de trabalho, para deixarmos livres os invejados lugares a que alguns acham ter direito e que pelos vistos - e a acreditar no que ultimamente ouvimos de algumas almas - ocupamos injusta, imerecida e indevidament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Novos e velhos, todos estamos à rasc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pesar do tom desta minha prosa, o que eu tenho mesmo é pena destes jovens. </a:t>
            </a:r>
            <a:endParaRPr b="0" lang="en-US" sz="2400" spc="-1" strike="noStrike">
              <a:solidFill>
                <a:srgbClr val="000000"/>
              </a:solidFill>
              <a:latin typeface="Times New Roman"/>
            </a:endParaRPr>
          </a:p>
        </p:txBody>
      </p:sp>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484360" y="249228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71" name="Rectângulo 2"/>
          <p:cNvSpPr/>
          <p:nvPr/>
        </p:nvSpPr>
        <p:spPr>
          <a:xfrm>
            <a:off x="2286000" y="2565360"/>
            <a:ext cx="631836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Tudo o que atrás escrevi serve apenas para demonstrar a minha firme convicção de que a culpa não é del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culpa de tudo isto é nossa, que não soubemos formar nem educar, nem fazer melhor, mas é uma culpa que morre solteira, porque é de todos, e a sociedade não consegue, não quer, não pode assumi-la. Curiosamente, não é desta culpa maior que os jovens agora nos acusa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Haverá mais triste prova do nosso falhanç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  </a:t>
            </a:r>
            <a:endParaRPr b="0" lang="en-US" sz="2400" spc="-1" strike="noStrike">
              <a:solidFill>
                <a:srgbClr val="000000"/>
              </a:solidFill>
              <a:latin typeface="Times New Roman"/>
            </a:endParaRPr>
          </a:p>
        </p:txBody>
      </p:sp>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895480" y="2133720"/>
            <a:ext cx="4124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5"/>
          <p:cNvSpPr/>
          <p:nvPr/>
        </p:nvSpPr>
        <p:spPr>
          <a:xfrm>
            <a:off x="2340000" y="2421000"/>
            <a:ext cx="6480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3399"/>
                </a:solidFill>
                <a:latin typeface="BernhardFashion BT"/>
              </a:rPr>
              <a:t>“</a:t>
            </a:r>
            <a:r>
              <a:rPr b="1" lang="pt-BR" sz="4000" spc="-1" strike="noStrike">
                <a:solidFill>
                  <a:srgbClr val="003399"/>
                </a:solidFill>
                <a:latin typeface="BernhardFashion BT"/>
              </a:rPr>
              <a:t>A amizade, a solidariedade e o amor ao próximo jamais sairão de moda.”!</a:t>
            </a:r>
            <a:br>
              <a:rPr sz="4000"/>
            </a:br>
            <a:endParaRPr b="0" lang="en-US" sz="4000" spc="-1" strike="noStrike">
              <a:solidFill>
                <a:srgbClr val="000000"/>
              </a:solidFill>
              <a:latin typeface="Times New Roman"/>
            </a:endParaRPr>
          </a:p>
        </p:txBody>
      </p:sp>
      <p:sp>
        <p:nvSpPr>
          <p:cNvPr id="74" name="CaixaDeTexto 3"/>
          <p:cNvSpPr/>
          <p:nvPr/>
        </p:nvSpPr>
        <p:spPr>
          <a:xfrm>
            <a:off x="4838760" y="4076640"/>
            <a:ext cx="1379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003399"/>
                </a:solidFill>
                <a:latin typeface="Times New Roman"/>
              </a:rPr>
              <a:t>FIM</a:t>
            </a:r>
            <a:endParaRPr b="0" lang="en-US" sz="4800" spc="-1" strike="noStrike">
              <a:solidFill>
                <a:srgbClr val="000000"/>
              </a:solidFill>
              <a:latin typeface="Times New Roman"/>
            </a:endParaRPr>
          </a:p>
        </p:txBody>
      </p:sp>
      <p:sp>
        <p:nvSpPr>
          <p:cNvPr id="75" name="CaixaDeTexto 4"/>
          <p:cNvSpPr/>
          <p:nvPr/>
        </p:nvSpPr>
        <p:spPr>
          <a:xfrm>
            <a:off x="2195640" y="5589720"/>
            <a:ext cx="626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Autor: Mia Cou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Texto recebido por e-mail de: Orestes Ferr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Composição em pps: Linito</a:t>
            </a:r>
            <a:endParaRPr b="0" lang="en-US" sz="1800" spc="-1" strike="noStrike">
              <a:solidFill>
                <a:srgbClr val="000000"/>
              </a:solidFill>
              <a:latin typeface="Times New Roman"/>
            </a:endParaRPr>
          </a:p>
        </p:txBody>
      </p:sp>
    </p:spTree>
  </p:cSld>
  <p:transition spd="med">
    <p:checker dir="horz"/>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73"/>
                                        </p:tgtEl>
                                        <p:attrNameLst>
                                          <p:attrName>style.visibility</p:attrName>
                                        </p:attrNameLst>
                                      </p:cBhvr>
                                      <p:to>
                                        <p:strVal val="visible"/>
                                      </p:to>
                                    </p:set>
                                    <p:animEffect filter="box(in)" transition="in">
                                      <p:cBhvr additive="repl">
                                        <p:cTn id="14" dur="3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ângulo 2"/>
          <p:cNvSpPr/>
          <p:nvPr/>
        </p:nvSpPr>
        <p:spPr>
          <a:xfrm>
            <a:off x="2124000" y="2492280"/>
            <a:ext cx="6840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stá à rasca a geração dos pais que educaram os seus meninos numa abastança caprichosa, protegendo-os de dificuldades e escondendo-lhes  as agruras da vid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stá à rasca a geração dos filhos que nunca foram ensinados a lidar com frustraçõ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ironia de tudo isto é que os jovens que agora se dizem (e também estão) à rasca são os que mais tiveram tudo. Nunca nenhuma geração foi,      como esta, tão privilegiada na sua infância e na  sua adolescência. </a:t>
            </a:r>
            <a:endParaRPr b="0" lang="en-US" sz="2400" spc="-1" strike="noStrike">
              <a:solidFill>
                <a:srgbClr val="000000"/>
              </a:solidFill>
              <a:latin typeface="Times New Roman"/>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2484360" y="2492280"/>
            <a:ext cx="6121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4" name="Rectângulo 2"/>
          <p:cNvSpPr/>
          <p:nvPr/>
        </p:nvSpPr>
        <p:spPr>
          <a:xfrm>
            <a:off x="2286000" y="2924280"/>
            <a:ext cx="6858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 nunca a sociedade exigiu tão pouco aos seus jovens como lhes tem sido exigido nos últimos a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eslumbradas com a melhoria significativa das condições de vida, a minha geração e as seguintes (actualmente entre os 30 e os 50 anos) vingaram-se das dificuldades em que foram criadas, no antes ou no pós 1974, e quiseram dar aos seus filhos             o melhor. </a:t>
            </a:r>
            <a:endParaRPr b="0" lang="en-US" sz="2400" spc="-1" strike="noStrike">
              <a:solidFill>
                <a:srgbClr val="000000"/>
              </a:solidFill>
              <a:latin typeface="Times New Roman"/>
            </a:endParaRPr>
          </a:p>
        </p:txBody>
      </p:sp>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7"/>
          <p:cNvSpPr/>
          <p:nvPr/>
        </p:nvSpPr>
        <p:spPr>
          <a:xfrm>
            <a:off x="2556000" y="2421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3399"/>
                </a:solidFill>
                <a:latin typeface="BernhardFashion BT"/>
              </a:rPr>
              <a:t> </a:t>
            </a:r>
            <a:endParaRPr b="0" lang="en-US" sz="2400" spc="-1" strike="noStrike">
              <a:solidFill>
                <a:srgbClr val="000000"/>
              </a:solidFill>
              <a:latin typeface="Times New Roman"/>
            </a:endParaRPr>
          </a:p>
        </p:txBody>
      </p:sp>
      <p:sp>
        <p:nvSpPr>
          <p:cNvPr id="56" name="Rectângulo 2"/>
          <p:cNvSpPr/>
          <p:nvPr/>
        </p:nvSpPr>
        <p:spPr>
          <a:xfrm>
            <a:off x="2124000" y="2205000"/>
            <a:ext cx="7020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nsiosos por sublimar as suas próprias frustrações, os pais investiram nos seus descendentes: proporcionaram-lhes os estudos que fazem deles a geração mais qualificada de sempre (já lá vamos...), mas também lhes deram uma vida desafogada, mimos e mordomias, entradas nos locais de diversão, cartas de condução e 1.º automóvel, depósitos de combustível cheios, dinheiro no bolso para que nada lhes faltasse. Mesmo quando as expectativas de primeiro emprego saíram goradas,  a família continuou presente, a garantir aos filhos cama, mesa e roupa lavada. </a:t>
            </a:r>
            <a:endParaRPr b="0" lang="en-US" sz="2400" spc="-1" strike="noStrike">
              <a:solidFill>
                <a:srgbClr val="000000"/>
              </a:solidFill>
              <a:latin typeface="Times New Roman"/>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ângulo 2"/>
          <p:cNvSpPr/>
          <p:nvPr/>
        </p:nvSpPr>
        <p:spPr>
          <a:xfrm>
            <a:off x="2195640" y="2276640"/>
            <a:ext cx="67690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urante anos, acreditaram estes pais e estas mães estar a fazer o melhor; o dinheiro ia chegando para comprar (quase) tudo, quantas vezes em substituição de princípios e de uma educação para a qual não havia tempo, já que ele era todo para o trabalho, garante do ordenado com que se compra (quase) tudo. E éramos (quase) todos feliz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epois, veio a crise, o aumento do custo de vida,   o desemprego...                                                             A vaquinha emagreceu, feneceu, secou.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Foi então que os pais ficaram à rasca. </a:t>
            </a:r>
            <a:endParaRPr b="0" lang="en-US" sz="2400" spc="-1" strike="noStrike">
              <a:solidFill>
                <a:srgbClr val="000000"/>
              </a:solidFill>
              <a:latin typeface="Times New Roman"/>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2627280" y="3141720"/>
            <a:ext cx="572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Rectângulo 2"/>
          <p:cNvSpPr/>
          <p:nvPr/>
        </p:nvSpPr>
        <p:spPr>
          <a:xfrm>
            <a:off x="2286000" y="2708280"/>
            <a:ext cx="6462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pais, à rasca, não vão a um concerto, mas   os seus rebentos enchem Pavilhões Atlânticos e festivais de música e bares e discotecas onde não se entra à borla nem se consome f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pais à rasca deixaram de ir ao restaurante, para poderem continuar a pagar restaurante aos filhos, num país onde uma festa de aniversário de adolescente que se preza é no restaurante e vedada a pais. </a:t>
            </a:r>
            <a:endParaRPr b="0" lang="en-US" sz="2400" spc="-1" strike="noStrike">
              <a:solidFill>
                <a:srgbClr val="000000"/>
              </a:solidFill>
              <a:latin typeface="Times New Roman"/>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ângulo 2"/>
          <p:cNvSpPr/>
          <p:nvPr/>
        </p:nvSpPr>
        <p:spPr>
          <a:xfrm>
            <a:off x="2286000" y="2852640"/>
            <a:ext cx="6246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São pais que contam os cêntimos para pagar,  à rasca, as contas da água e da luz e do resto,  e que abdicam dos seus pequenos prazeres para que os filhos não prescindam da internet de banda larga, a alta velocidade, nem dos qualquercoisaphones ou pads, sempre de última geração. </a:t>
            </a:r>
            <a:endParaRPr b="0" lang="en-US" sz="2400" spc="-1" strike="noStrike">
              <a:solidFill>
                <a:srgbClr val="000000"/>
              </a:solidFill>
              <a:latin typeface="Times New Roman"/>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2556000" y="2133720"/>
            <a:ext cx="597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62" name="Rectângulo 2"/>
          <p:cNvSpPr/>
          <p:nvPr/>
        </p:nvSpPr>
        <p:spPr>
          <a:xfrm>
            <a:off x="2286000" y="2492280"/>
            <a:ext cx="6462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São estes pais, mesmo à rasca, que já não aguentam, que começam a ter de dizer "não".  É um "não" que nunca ensinaram os filhos a ouvir e que, por isso, eles não suportam nem compreendem, porque eles têm direitos, porque eles têm necessidades, porque eles têm expectativas, porque lhes disseram que eles são muito bons e eles querem e querem, querem o que já ninguém lhes pode da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sociedade colhe assim, hoje, os frutos do que semeou durante, pelo menos, duas décadas. </a:t>
            </a:r>
            <a:endParaRPr b="0" lang="en-US" sz="2400" spc="-1" strike="noStrike">
              <a:solidFill>
                <a:srgbClr val="000000"/>
              </a:solidFill>
              <a:latin typeface="Times New Roman"/>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ângulo 2"/>
          <p:cNvSpPr/>
          <p:nvPr/>
        </p:nvSpPr>
        <p:spPr>
          <a:xfrm>
            <a:off x="2286000" y="2421000"/>
            <a:ext cx="638964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agora uma geração de pais impotentes e frustr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agora uma geração jovem altamente qualificada, que andou muito por escolas e universidades mas que estudou pouco, e que aprendeu e sabe na proporção do que estudou. Uma geração que colecciona diplomas com que o país lhes alimenta o ego insuflado, mas que são uma ilusão, pois correspondem a pouco conhecimento teórico e a duvidosa capacidade operacional. </a:t>
            </a:r>
            <a:endParaRPr b="0" lang="en-US" sz="2400" spc="-1" strike="noStrike">
              <a:solidFill>
                <a:srgbClr val="000000"/>
              </a:solidFill>
              <a:latin typeface="Times New Roman"/>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21:51:43Z</dcterms:created>
  <dc:creator>Linito</dc:creator>
  <dc:description/>
  <dc:language>en-US</dc:language>
  <cp:lastModifiedBy>Lenovo User</cp:lastModifiedBy>
  <dcterms:modified xsi:type="dcterms:W3CDTF">2012-04-13T23:30:12Z</dcterms:modified>
  <cp:revision>51</cp:revision>
  <dc:subject/>
  <dc:title>Apresentação do PowerPoint</dc:title>
</cp:coreProperties>
</file>