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ED71-B5B9-4051-81B2-910FFA093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5C36-854C-4EF6-8D06-22C73070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FF4D-5851-4917-AA4E-600B3960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0B94-CDD4-4114-9ECD-2D841CA38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7096-F725-40B6-8321-4BCF4570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6332-67CE-4144-B635-C200D375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3797-7FAA-4D55-8169-BA5EFCAE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6306-5B62-475E-8066-29B07929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1B0C-BC30-48E7-A6CD-803C0F6E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25F4-6D56-4879-A3F0-1F4619F0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A31F-80CA-423C-A8D2-88A5527B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F8AB-D533-420E-9BC0-73941C9F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75A1-029F-4F5E-976A-ABF53C6943B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6828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 dia, o Senhor chamou Noé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ava em Portugal e disse-l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tro de 6 meses, farei chover ininterruptamente dur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 dias e 40 noit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é que todo o Portu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eja coberto pelas águ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60280"/>
            <a:ext cx="9144000" cy="60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Veio o Sindicato e exigi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ato de funcionário públ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 os carpintei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 seguida vieram as Finança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seram-me que a arca er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 “sinal exterior de riqueza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 agravaram-me o 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ão tive dinheiro para pagar 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ocaram-me a arca sob penh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20640"/>
            <a:ext cx="914400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Finalmente, quand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ecretaria de Estado do Amb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ediu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Relatório de Impacto Ambiental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obre a zona a ser inundad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juntei-lhe o mapa de Portu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nviaram-no para o INAG que só vai apreciar o assunto depois de resolver o problema da Costa da Caparica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0" y="269712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41300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Noé terminou o relato a chor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enhor! Que hei-de eu fazer mai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Notou então que o céu clare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 pergunt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enhor, sempre v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destruir Portug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84280"/>
            <a:ext cx="914400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ão!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pondeu a V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re as nuv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á vi que cheguei  tard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Sócrates chegou primeir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5573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s maus serão destruído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s quero salvar os ju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 um casal de cada espécie ani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i e constrói uma arca de madei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43352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hegada a altura, os trovões deram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viso e os relâmpagos cruzaram o cé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Noé chorava, ajoelhado no quintal da sua casa, quando ouviu a voz do Senh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oar furiosa, entre as nuve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Noé, onde está a ar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40840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Perdoe-me, Senhor, suplicou o home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Fiz o que pude, mas encontr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iculdades imens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41300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eiro tentei obter uma licenç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 Câmara Municipal, m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ém das taxas elevadas para obter o alvará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diram-me uma contribui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 a campanha do Partido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 a reeleição do presid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3352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cisando de dinheiro, fui aos ban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s não consegui empréstimo, mesmo aceitando aquelas taxas de juro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Os Bombeiros exigiram 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stema de prevenção de incêndi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s consegui contornar a situaçã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ornando um funcioná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07920"/>
            <a:ext cx="914400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omeçaram então os probl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om o Instituto Flores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ara a extracção da madei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u disse que eram ordens Su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as eles só queriam saber se eu tinh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 “Projecto de Reflorestament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 um tal “Plano Sectorial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62064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Neste meio temp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 Protecção dos Animais descobriu alguns casais de animais guardados no meu quint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Disseram-me que eram espécies protegida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lém de pesada mult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fui colocado em prisão preventi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ela posse dos anima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Valeu-me a pulseira electrónic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43020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ndo comecei a obr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areceu a Inspecção do Trabalh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ou-me porque eu não tinha 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genheiro na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ponsável pela constru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i à Universidade Independente e comprei um diploma de engenhei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charam a Universidade e tive de pôr o diploma no papelã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8T07:29:19Z</dcterms:created>
  <dc:creator>DDD</dc:creator>
  <dc:description/>
  <dc:language>en-US</dc:language>
  <cp:lastModifiedBy>Mari Ana Paul</cp:lastModifiedBy>
  <dcterms:modified xsi:type="dcterms:W3CDTF">2007-04-14T00:44:16Z</dcterms:modified>
  <cp:revision>11</cp:revision>
  <dc:subject/>
  <dc:title>Slide 1</dc:title>
</cp:coreProperties>
</file>