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A36-CAD9-48C0-A096-9D5CEDCA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1DD-0C50-47BE-ACBA-0055F41A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F3B-3995-4103-9611-1B8DC9A4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F5C-077B-4FCD-B71D-99A95B62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0C2-BF9D-4E62-B5AA-794BD1FB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7F7-86EC-40A7-B8C4-0121A76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B28-CB1B-44DE-ABA0-B30DB50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CF0-68EF-4CB1-BA60-E9D22AD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BAF-A58B-4EB2-BEC4-5564B225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883-63CE-4140-84BA-C1A0ECB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3F4-75AA-4567-8D4D-A0C24E1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16E-B360-4AF4-B766-ADECD03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B3F4-396D-40CF-9DBC-21545AA384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68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 dia, o Senhor chamou Noé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va em Portugal e disse-l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ro de 6 meses, farei chover ininterruptamente d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dias e 40 noi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é que todo o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ja coberto pelas águ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eio o Sindicato e exigi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to de funcionário públ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os carpint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 seguida vieram as Finanç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ram-me que a arca e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 “sinal exterior de riquez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agravaram-me o 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ão tive dinheiro para pagar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caram-me a arca sob penh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064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inalmente, quand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diu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latório de Impacto Ambiental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bre a zona a ser inunda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ntei-lhe o mapa de Portu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nviaram-no para o INAG que só vai apreciar o assunto depois de resolver o problema da Costa da Caparic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697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13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 terminou o relato a chor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hor! Que hei-de eu fazer ma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ou então que o céu clare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pergunt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hor, sempre v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struir Portug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8428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ão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eu a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e as nu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á vi que cheguei  tard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Sócrates chegou primeir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557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 maus serão destruíd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quero salvar os j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um casal de cada espécie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i e constrói uma arca de m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335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hegada a altura, os trovões deram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viso e os relâmpagos cruzaram o cé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 chorava, ajoelhado no quintal da sua casa, quando ouviu a voz do Sen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ar furiosa, entre as nuv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é, onde está a ar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4084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Perdoe-me, Senhor, suplicou o hom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Fiz o que pude, mas encont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iculdades imen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130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eiro tentei obter uma licenç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Câmara Municipal, m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ém das taxas elevadas para obter o alvará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diram-me uma con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a campanha do Partido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a reeleição do presid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335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ando de dinheiro, fui aos ban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não consegui empréstimo, mesmo aceitando aquelas taxas de jur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s Bombeiros exigiram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a de prevenção de incêndi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consegui contornar a situaçã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ornando um funcion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7920"/>
            <a:ext cx="9144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eçaram então os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 o Instituto Flores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 a extracção da mad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u disse que eram ordens Su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s eles só queriam saber se eu tin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“Projecto de Reflorestam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um tal “Plano Sectori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este meio temp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 Protecção dos Animais descobriu alguns casais de animais guardados no meu quin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sseram-me que eram espécies protegida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ém de pesada mul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ui colocado em prisão preven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ela posse dos anim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leu-me a pulseira electróni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3020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do comecei a obr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receu a Inspecção do Trabal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ou-me porque eu não tinha 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enheiro na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ável pela constr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i à Universidade Independente e comprei um diploma de engenh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charam a Universidade e tive de pôr o diploma no papelã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07:29:19Z</dcterms:created>
  <dc:creator>DDD</dc:creator>
  <dc:description/>
  <dc:language>en-US</dc:language>
  <cp:lastModifiedBy>Mari Ana Paul</cp:lastModifiedBy>
  <dcterms:modified xsi:type="dcterms:W3CDTF">2007-04-14T00:44:16Z</dcterms:modified>
  <cp:revision>11</cp:revision>
  <dc:subject/>
  <dc:title>Slide 1</dc:title>
</cp:coreProperties>
</file>