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2683-7061-4F10-ABBB-FF8973E60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5A3A-0E26-4892-AC9E-0CA7B852F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81BD-727B-4A4C-8177-C349E1226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0D11-3304-44A4-99CC-60E72CD58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8D57-115A-43D9-A40B-69FA83A9B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E104-8B3C-4C08-BD46-027BAD135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3342-F9F0-44FB-9740-AADA08F22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7484-797B-450B-BB3C-8D250D214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2BBD-3827-4B17-A344-0A23CE33D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F9B0-BCDA-4C8D-9FBB-FD108AD56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D2CE-B0C0-4006-BEB1-E865DE4E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FF1E-002B-4792-8F14-F23BD233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4d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11991-824A-4BCF-8AF1-3FED0E0892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0" y="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Jokerman"/>
              </a:rPr>
              <a:t>SHANXI, CH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Jokerman"/>
              </a:rPr>
              <a:t>CITY BUILT IN THE MOUNTAINS OF SH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Jokerman"/>
              </a:rPr>
              <a:t>This is amaz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Jokerman"/>
              </a:rPr>
              <a:t>and we have to wonder how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Jokerman"/>
              </a:rPr>
              <a:t>why and when did they do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Jokerman"/>
              </a:rPr>
              <a:t>From where &amp; how do they get water...power....sewer.....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Jokerman"/>
              </a:rPr>
              <a:t>How did they build all this?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Jokerman"/>
              </a:rPr>
              <a:t>And why..way.."up there"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0" y="46530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Jokerman"/>
              </a:rPr>
              <a:t>My best guess is that this is a Buddhist Monestary – They are noted for building in the most extreme, inacessible, but scenicly speaking, some of the most beautiful places there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Jokerman"/>
              </a:rPr>
              <a:t>Bobby 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5508720" y="6381720"/>
            <a:ext cx="36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Jokerman"/>
              </a:rPr>
              <a:t>Click  to  advance 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DSC_24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7836840" y="620640"/>
            <a:ext cx="60696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空谷幽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DSC_26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DSC_257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DSC_29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c2bce2039fc27daad43f7c8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DSC_276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46080" y="476280"/>
            <a:ext cx="1033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峭岩陡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Rectangle 4"/>
          <p:cNvGrpSpPr/>
          <p:nvPr/>
        </p:nvGrpSpPr>
        <p:grpSpPr>
          <a:xfrm>
            <a:off x="-12600" y="-12600"/>
            <a:ext cx="9169200" cy="6883200"/>
            <a:chOff x="-12600" y="-12600"/>
            <a:chExt cx="9169200" cy="6883200"/>
          </a:xfrm>
        </p:grpSpPr>
        <p:pic>
          <p:nvPicPr>
            <p:cNvPr id="67" name="Rectangle 4" descr=""/>
            <p:cNvPicPr/>
            <p:nvPr/>
          </p:nvPicPr>
          <p:blipFill>
            <a:blip r:embed="rId1"/>
            <a:stretch/>
          </p:blipFill>
          <p:spPr>
            <a:xfrm>
              <a:off x="-12600" y="-12600"/>
              <a:ext cx="916920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newsflash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DSC_25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DSC_25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DSC_256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6"/>
          <p:cNvSpPr/>
          <p:nvPr/>
        </p:nvSpPr>
        <p:spPr>
          <a:xfrm>
            <a:off x="7920000" y="765000"/>
            <a:ext cx="122400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全长三百余米四百多级台阶通往正果寺</a:t>
            </a:r>
            <a:r>
              <a:rPr b="0" lang="zh-CN" sz="2000" spc="-1" strike="noStrike">
                <a:solidFill>
                  <a:srgbClr val="c0c0c0"/>
                </a:solidFill>
                <a:latin typeface="hakuyokaishu7000"/>
                <a:ea typeface="hakuyokaishu7000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DSC_258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0" y="836640"/>
            <a:ext cx="9144000" cy="56275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DSC_285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DSC_22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DSC_206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6"/>
          <p:cNvSpPr/>
          <p:nvPr/>
        </p:nvSpPr>
        <p:spPr>
          <a:xfrm>
            <a:off x="8068680" y="765000"/>
            <a:ext cx="60696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漫步崖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DSC_204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DSC_225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DSC_22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DSC_23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DSC_25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DSCF22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5435640" y="1268280"/>
            <a:ext cx="27367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Shanxi China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2009.8.18~19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Fly_sile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2484360" y="609300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YF 09-12-2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简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DSC_25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DSC_27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DSC_269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DSC_28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04:40:15Z</dcterms:created>
  <dc:creator>huang yifan</dc:creator>
  <dc:description/>
  <dc:language>en-US</dc:language>
  <cp:lastModifiedBy>HP Authorized Customer</cp:lastModifiedBy>
  <dcterms:modified xsi:type="dcterms:W3CDTF">2010-06-16T01:58:56Z</dcterms:modified>
  <cp:revision>16</cp:revision>
  <dc:subject/>
  <dc:title>幻灯片 1</dc:title>
</cp:coreProperties>
</file>