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png" ContentType="image/pn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40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46431-CC9D-40A9-85D9-67987CA9C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8530E-2FA7-4E85-82B3-F2FE9A994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B983A-A69F-418A-B48F-3B78D9144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4CD72-2093-4A2C-8946-D474BE5F6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C62C3-00E4-447A-A15E-580723094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ACBBE-B26F-4B73-B5ED-B37F23405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C7FA2-C0FC-4B4B-B220-CB069A6F3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7D327-213A-4471-B9B9-8A893A9A2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0C016-464B-4954-9E5B-54E7EE6EE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0E356-8C7F-435F-84B8-31DF6B198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18C02-15EA-4E61-B12A-B680DA8C2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68BAB-A413-44A2-81BE-2B22FC376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004d4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B0286-A696-4346-851C-4B5638EB8A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"/>
          <p:cNvSpPr/>
          <p:nvPr/>
        </p:nvSpPr>
        <p:spPr>
          <a:xfrm>
            <a:off x="0" y="0"/>
            <a:ext cx="9144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Jokerman"/>
              </a:rPr>
              <a:t>SHANXI, CH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Jokerman"/>
              </a:rPr>
              <a:t>CITY BUILT IN THE MOUNTAINS OF SH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Jokerman"/>
              </a:rPr>
              <a:t>This is amaz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Jokerman"/>
              </a:rPr>
              <a:t>and we have to wonder how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Jokerman"/>
              </a:rPr>
              <a:t>why and when did they do th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Jokerman"/>
              </a:rPr>
              <a:t>From where &amp; how do they get water...power....sewer.....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Jokerman"/>
              </a:rPr>
              <a:t>How did they build all this?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Jokerman"/>
              </a:rPr>
              <a:t>And why..way.."up there"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2"/>
          <p:cNvSpPr/>
          <p:nvPr/>
        </p:nvSpPr>
        <p:spPr>
          <a:xfrm>
            <a:off x="0" y="465300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Jokerman"/>
              </a:rPr>
              <a:t>My best guess is that this is a Buddhist Monestary – They are noted for building in the most extreme, inacessible, but scenicly speaking, some of the most beautiful places there 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Jokerman"/>
              </a:rPr>
              <a:t>Bobby G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3"/>
          <p:cNvSpPr/>
          <p:nvPr/>
        </p:nvSpPr>
        <p:spPr>
          <a:xfrm>
            <a:off x="5508720" y="6381720"/>
            <a:ext cx="363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Jokerman"/>
              </a:rPr>
              <a:t>Click  to  advance 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DSC_247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5"/>
          <p:cNvSpPr/>
          <p:nvPr/>
        </p:nvSpPr>
        <p:spPr>
          <a:xfrm>
            <a:off x="7836840" y="620640"/>
            <a:ext cx="60696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空谷幽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DSC_268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DSC_257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DSC_290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5" descr="c2bce2039fc27daad43f7c8e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4" descr="DSC_276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Text Box 5"/>
          <p:cNvSpPr/>
          <p:nvPr/>
        </p:nvSpPr>
        <p:spPr>
          <a:xfrm>
            <a:off x="46080" y="476280"/>
            <a:ext cx="10335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峭岩陡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Rectangle 4"/>
          <p:cNvGrpSpPr/>
          <p:nvPr/>
        </p:nvGrpSpPr>
        <p:grpSpPr>
          <a:xfrm>
            <a:off x="-12600" y="-12600"/>
            <a:ext cx="9169200" cy="6883200"/>
            <a:chOff x="-12600" y="-12600"/>
            <a:chExt cx="9169200" cy="6883200"/>
          </a:xfrm>
        </p:grpSpPr>
        <p:pic>
          <p:nvPicPr>
            <p:cNvPr id="67" name="Rectangle 4" descr=""/>
            <p:cNvPicPr/>
            <p:nvPr/>
          </p:nvPicPr>
          <p:blipFill>
            <a:blip r:embed="rId1"/>
            <a:stretch/>
          </p:blipFill>
          <p:spPr>
            <a:xfrm>
              <a:off x="-12600" y="-12600"/>
              <a:ext cx="9169200" cy="688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newsflash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DSC_251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DSC_250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4" descr="DSC_256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6"/>
          <p:cNvSpPr/>
          <p:nvPr/>
        </p:nvSpPr>
        <p:spPr>
          <a:xfrm>
            <a:off x="7920000" y="765000"/>
            <a:ext cx="1224000" cy="56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全长三百余米四百多级台阶通往正果寺</a:t>
            </a:r>
            <a:r>
              <a:rPr b="0" lang="zh-CN" sz="2000" spc="-1" strike="noStrike">
                <a:solidFill>
                  <a:srgbClr val="c0c0c0"/>
                </a:solidFill>
                <a:latin typeface="hakuyokaishu7000"/>
                <a:ea typeface="hakuyokaishu7000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4" descr="DSC_258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4"/>
          <p:cNvSpPr/>
          <p:nvPr/>
        </p:nvSpPr>
        <p:spPr>
          <a:xfrm>
            <a:off x="0" y="836640"/>
            <a:ext cx="9144000" cy="562752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DSC_285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5" descr="DSC_222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DSC_206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Text Box 6"/>
          <p:cNvSpPr/>
          <p:nvPr/>
        </p:nvSpPr>
        <p:spPr>
          <a:xfrm>
            <a:off x="8068680" y="765000"/>
            <a:ext cx="606960" cy="33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漫步崖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4" descr="DSC_204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4" descr="DSC_225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4" descr="DSC_228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5" descr="DSC_239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DSC_250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4" descr="DSCF220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Text Box 5"/>
          <p:cNvSpPr/>
          <p:nvPr/>
        </p:nvSpPr>
        <p:spPr>
          <a:xfrm>
            <a:off x="5435640" y="1268280"/>
            <a:ext cx="273672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Shanxi China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2009.8.18~19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Fly_silen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6"/>
          <p:cNvSpPr/>
          <p:nvPr/>
        </p:nvSpPr>
        <p:spPr>
          <a:xfrm>
            <a:off x="2484360" y="6093000"/>
            <a:ext cx="41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YF 09-12-21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简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4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5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6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7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DSC_253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DSC_276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DSC_269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DSC_282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1T04:40:15Z</dcterms:created>
  <dc:creator>huang yifan</dc:creator>
  <dc:description/>
  <dc:language>en-US</dc:language>
  <cp:lastModifiedBy>HP Authorized Customer</cp:lastModifiedBy>
  <dcterms:modified xsi:type="dcterms:W3CDTF">2010-06-16T01:58:56Z</dcterms:modified>
  <cp:revision>16</cp:revision>
  <dc:subject/>
  <dc:title>幻灯片 1</dc:title>
</cp:coreProperties>
</file>