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D55-F04A-437E-AA38-3F5E2AD0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479-1B10-4EBC-A0AF-61FA29B7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9A6-697B-4E74-9182-D30A8EA7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699-DE00-4B28-A722-8808C4EC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359-E636-4436-B2D2-9A9BE5B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F3B-6AA0-4A4D-91EA-65C5E1F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312-1893-4399-9DE6-A322BE9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023-91FC-4B47-97CA-2020B7A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22B-C908-4494-9B45-48A5AF1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150-8358-44E7-B254-EABECBD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27E-F3C1-4E50-A718-31D35FC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03F-72F6-406E-AB13-98D1C26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8A4F-322F-4065-A5AF-13CDFB7A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ff"/>
                </a:solidFill>
                <a:latin typeface="Times New Roman"/>
              </a:rPr>
              <a:t>FELICIDA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aproveita bem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 tê-lo partilhado com alguém especial;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tão especial que o levas no teu coraçã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recorda que: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O TEMPO NÃO ESPE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5832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ssim,  deixa de esperar até que termines a Universidade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saias de casa,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 apaixon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encontres trabalh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 cas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nhas filho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 divorci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percas esses dez quilos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...até  sexta à noite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ou até  domingo de manhã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à Primavera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o Verão, ao Outono ou ao Invern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ou até que morr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ara decidir que não há melhor moment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o que, justamente,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STE PARA SERES FELIZ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 FELICIDADE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É UM TRAJECTO,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NÃO É UM DESTI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BALH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O SE NÃO NECESITASSES DE DINHEIRO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M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O SE NUNCA TE TIVESSEM MAGOADO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 DANÇ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O SE NINGUÉM TE ESTIVESSE A V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Manda esta mensagem a todas aquelas pessoas  que consideras tuas amig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a quem desejas toda a felicidade do mundo, ainda que isso pressuponha mandá-l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à mesma pessoa que to enviou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Já ouviste falar de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“eu não acredito em  brux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mas que elas existem, existem”.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ede um desejo... E verás o que suce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QUI COMEÇA O JOGO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I DE TI SE O LERES ANT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 CONHECER O RESULT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Começa a pensar em alg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e realmente desej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que isso funcion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pessoa que me enviou esta mensajem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isse-me que o seu desejo se cumpriu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m10 minutos despois de ler o e-mail.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Só então pensa em enviá-l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vencemo-nos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de que a vida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rá melhor depo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s Fadas vão conceder-te 1 desejo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ede o desejo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quando a contagem decrescente termin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10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9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8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7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6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5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4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3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609480"/>
            <a:ext cx="712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terminar o curs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conseguir trabalh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casarmo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termos um filh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entã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termos out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2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1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***PEDE UM DESEJO***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nvia esta mensajem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 5 pessoas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o prazo de 1 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 não a enviares,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ucederá tudo ao contrário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daquilo que deseja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609480"/>
            <a:ext cx="6840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Logo  sentimo-nos frustrado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que os nossos filho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não são suficientemente grandes, e pensamos que seremos mais felize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crescerem e deixarem de ser meninos, depois  desesperamo-no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que são adolescent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ifíceis de atur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ensamos: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seremos mais felize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deixarem essa f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609120"/>
            <a:ext cx="6913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Logo decidimos que nossa vida será completa quando o nosso cônjuge estiver melhor, quando tivemos um  carro melhor, quando  pudermos ir de féri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conseguirmos progredir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nos reformarm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verdade é que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NÃO HÁ MELHOR MOMENT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ARA SER FELIZ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O QUE AGORA MESM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Se não for agora, será quando?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vida estará sempre cheia de logro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 desafios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É melhor admiti-lo e decidir ser feliz agora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 todas as formas.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Não há um truque, nem um caminh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ara a felicidade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felicidade é o caminh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é AGO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ROVEITA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DA MOMENTO QUE V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55:51Z</dcterms:created>
  <dc:creator>NUNO Y VANE</dc:creator>
  <dc:description/>
  <dc:language>en-US</dc:language>
  <cp:lastModifiedBy>João Félix Galizes</cp:lastModifiedBy>
  <dcterms:modified xsi:type="dcterms:W3CDTF">2006-04-27T21:40:45Z</dcterms:modified>
  <cp:revision>6</cp:revision>
  <dc:subject/>
  <dc:title>FELICIDAD</dc:title>
</cp:coreProperties>
</file>