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097-DADA-4FBB-AF55-B309715E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565-10CC-441C-B196-2973484E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276-B1BA-4947-B775-99F76ADA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A25-C4C3-435D-8C8A-07827DC0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608-B84A-404E-A8B9-992A4C8A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9E4-0B8C-4AF0-9B2E-E5E7865A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013-D5E4-448C-A605-7E22022B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D05-71BD-450A-A3DD-4A9CF60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382-C598-444C-A139-0E83AC16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454-6E6F-43A2-ACE2-2983594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950-821E-4D73-BA84-1698913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3E6-013B-4F55-8772-28957C9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ABC-3223-4EB7-8AB9-A46A8E8C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ff"/>
                </a:solidFill>
                <a:latin typeface="Times New Roman"/>
              </a:rPr>
              <a:t>FELICIDAD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aproveita bem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 tê-lo partilhado com alguém especial;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tão especial que o levas no teu coraçã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recorda que: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 TEMPO NÃO ESPE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5832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ssim,  deixa de esperar até que termines a Universidade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saias de casa,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apaixon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encontres traba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cas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nhas filh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te divorci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que percas esses dez quilos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...até  sexta à noit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u até  domingo de manhã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té à Primavera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o Verão, ao Outono ou ao Invern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ou até que morr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decidir que não há melhor moment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o que, justamente,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STE PARA SERES FELIZ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 FELICIDADE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É UM TRAJECTO, 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NÃO É UM DESTI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BALH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ÃO NECESITASSES DE DINHEIRO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M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UNCA TE TIVESSEM MAGOADO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 DANÇ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O SE NINGUÉM TE ESTIVESSE A V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Manda esta mensagem a todas aquelas pessoas  que consideras tuas amig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a quem desejas toda a felicidade do mundo, ainda que isso pressuponha mandá-l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à mesma pessoa que to enviou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Já ouviste falar d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“eu não acredito em  brux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mas que elas existem, existem”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ede um desejo... E verás o que suce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QUI COMEÇA O JOGO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I DE TI SE O LERES ANT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 CONHECER O RESULT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Começa a pensar em alg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e realmente desej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isso funcion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pessoa que me enviou esta mensajem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isse-me que o seu desejo se cumpriu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m10 minutos despois de ler o e-mail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ó então pensa em enviá-lo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vencemo-nos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e que a vida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rá melhor depo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s Fadas vão conceder-te 1 desejo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de o desejo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quando a contagem decrescente termin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10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9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8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7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6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5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4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3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609480"/>
            <a:ext cx="712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inar o curs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conseguir traba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casarm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os um filh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então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pois de termos out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2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..1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***PEDE UM DESEJO***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nvia esta mensajem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 5 pessoas 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o prazo de 1 h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 não a enviares,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ucederá tudo ao contrário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daquilo que desejas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609480"/>
            <a:ext cx="6840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Logo  sentimo-nos frustrad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os nossos filh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são suficientemente grandes, e pensamos que seremos mais felize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crescerem e deixarem de ser meninos, depois  desesperamo-no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orque são adolescente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ifíceis de atur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ensamos: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eremos mais felizes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deixarem essa fa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609120"/>
            <a:ext cx="6913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Logo decidimos que nossa vida será completa quando o nosso cônjuge estiver melhor, quando tivemos um  carro melhor, quando  pudermos ir de féria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conseguirmos progredir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quando nos reformarm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verdade é que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HÁ MELHOR MOMENT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SER FELIZ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O QUE AGORA MESM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Se não for agora, será quando?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vida estará sempre cheia de logros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 desafios. 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É melhor admiti-lo e decidir ser feliz agora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de todas as formas.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Não há um truque, nem um caminh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para a felicidade,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a felicidade é o caminho</a:t>
            </a:r>
            <a:br>
              <a:rPr sz="3000"/>
            </a:br>
            <a:r>
              <a:rPr b="0" lang="es-ES" sz="3000" spc="-1" strike="noStrike">
                <a:solidFill>
                  <a:srgbClr val="ffffff"/>
                </a:solidFill>
                <a:latin typeface="Times New Roman"/>
              </a:rPr>
              <a:t>e é AGO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ROVEITA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DA MOMENTO QUE V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55:51Z</dcterms:created>
  <dc:creator>NUNO Y VANE</dc:creator>
  <dc:description/>
  <dc:language>en-US</dc:language>
  <cp:lastModifiedBy>João Félix Galizes</cp:lastModifiedBy>
  <dcterms:modified xsi:type="dcterms:W3CDTF">2006-04-27T21:40:45Z</dcterms:modified>
  <cp:revision>6</cp:revision>
  <dc:subject/>
  <dc:title>FELICIDAD</dc:title>
</cp:coreProperties>
</file>