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076-B55D-489C-ABFA-6E02CCF7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E5D-2162-4F04-A33D-33EDF22F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7B2-AD61-4332-8AFA-3AE0985C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BC3-D527-4BED-90CB-0379F911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4FD-D80B-41A2-9B1A-64DEA612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B23-1967-426F-95C8-ECAA6363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573-2850-4175-918D-E226A7E8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BAB-241D-4F5F-B06C-67070C67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BB8-B508-4804-9744-D0D742A1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C4B-7CC1-46E9-9D42-F2B7F92C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222-2A3B-4571-BEFA-17F7858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369-AA24-4607-856D-241DAB6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DE0E-D1FD-44D5-B8A8-8629163A448D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04720" y="1413000"/>
            <a:ext cx="81345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lterskelter"/>
              </a:rPr>
              <a:t>A vida secreta de Sócrat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lterskelter"/>
              <a:ea typeface="Helterskel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0770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5680" y="636480"/>
            <a:ext cx="8609040" cy="50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s tarde, em 27 de Dezembro de 1994, o aluno nº 20382 José Sócrates Carvalho Pinto de Sousa, inscreve-se no Instituto Politécnico de Lisboa no curso de Transportes e Vias de Comunicação. (ver anexo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89132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76320"/>
            <a:ext cx="478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-264240"/>
            <a:ext cx="8569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Repentinamente, assim que toma conhecimento que a Universidade Independente foi aprovado pela portaria 496/95 24 de Maio de 1995, sem que se conheça qualquer justificação, muda-se de "</a:t>
            </a: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armas e bagagens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" para esta recente, corrupta e desorganizada Universidade. (ver anex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É AQUI, neste antro de facilitismo e promiscuidade, que José Sócrates consegue FINALMENTE aquilo que sempre ambicionou - uma "</a:t>
            </a: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licenciatura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" em Engenharia. </a:t>
            </a:r>
            <a:r>
              <a:rPr b="1" lang="pt-PT" sz="2000" spc="-1" strike="noStrike" u="sng">
                <a:solidFill>
                  <a:srgbClr val="ffff00"/>
                </a:solidFill>
                <a:uFillTx/>
                <a:latin typeface="Arial"/>
              </a:rPr>
              <a:t>Não interessa COMO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 a possa ter conseguido, isso NÃO INTERESSA, interessa SIM, é que conseguiu uma "</a:t>
            </a: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licenciatura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" em Engenh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994280" cy="71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10600"/>
            <a:ext cx="86421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Querem saber co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Das 31 cadeiras que teria de fazer, deram-lhe equivalência a ... 2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Nem mais, nem menos ... 26 disciplin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Apenas teria de fazer ... 5 disciplinas! Quem é amigo, quem 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Ah. . . mas isto não fica por aqui, destas 5 disciplinas que lhe faltava fazer, 4 delas - os chamados "cadeirões" por serem as mais difíceis - foram dadas por UM ÚNICO PROFESSOR, por sinal seu amigo e conhecido, de nome António José Morais, adjunto do secretário de estado do também seu amigo Armando Vara e </a:t>
            </a:r>
            <a:r>
              <a:rPr b="1" lang="pt-PT" sz="2000" spc="-1" strike="noStrike" u="sng">
                <a:solidFill>
                  <a:srgbClr val="ffff00"/>
                </a:solidFill>
                <a:uFillTx/>
                <a:latin typeface="Arial"/>
              </a:rPr>
              <a:t>colega do mesmo governo em que estava nessa altura José Sócrates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 como secretário de estado adjunto. Lindos meninos, grandes compinchas!</a:t>
            </a: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15920"/>
            <a:ext cx="867888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Que notas o amigo do peito António José Morais lhe deu? Fácil, vejam o anexo do Certificado de Habilitações da U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Análise de Estruturas - 17 (dezassete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Projecto e Dissertação - 18 (dezoito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Betão Armado e Pré Esforçado - 18 (dezoito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Estruturas Especiais - 16 (dezasse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NADA MAU, hein ... para quem vinha com média de 12 do Politécnico ... NADA MAU, NADA M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Ahhh, é verdade, e nessa altura José Sócrates ainda era secretário de estado adjunto do Ministro do Ambiente, tinha pouco tempo para estudar, para trabalhos e para exames, agora imaginem se ele tivesse mais tempo para se dedicar às aulas.</a:t>
            </a: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05480"/>
            <a:ext cx="8521560" cy="67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 falta ainda uma cadeira, de entre as 5 que o "obrigaram" a fazer - Inglês Técnico. Teve 15. (Ver anexo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m é verdade, teve 1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i seu professor o reitor Luís Arouca, entretanto preso por falsificação de documentos sem que no entanto, não faltasse a mãozinha de José Sócrates ao enviar a este mesmo reitor um FAX socorrendo-se de um papel timbrado do Ministério do Ambiente, do Gabinete do Secretário de Estado Adjunto, numa clara atitude de promiscuidade e de pressão, terminando de forma muito pouco formal e excessivamente familiar com um "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u Sócrat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". (ver anexo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40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lguma vez José Sócrates disse a verd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263960"/>
            <a:ext cx="740412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Não será ele um oportunista que à custa da sua ambição desmedida em </a:t>
            </a:r>
            <a:r>
              <a:rPr b="1" lang="pt-PT" sz="2000" spc="-1" strike="noStrike" u="sng">
                <a:solidFill>
                  <a:srgbClr val="ffff00"/>
                </a:solidFill>
                <a:uFillTx/>
                <a:latin typeface="Arial"/>
              </a:rPr>
              <a:t>querer ser engenheiro a toda a força e de qualquer maneira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, encontrou num passe de mágica que nem a varinha de uma fada se lembraria de engendrar, a melhor forma de, sem qualquer mérito, se poder ufanar de um título que, </a:t>
            </a:r>
            <a:r>
              <a:rPr b="1" lang="pt-PT" sz="2000" spc="-1" strike="noStrike" u="sng">
                <a:solidFill>
                  <a:srgbClr val="ffff00"/>
                </a:solidFill>
                <a:uFillTx/>
                <a:latin typeface="Arial"/>
              </a:rPr>
              <a:t>às três pancadas e a martelo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 subvertendo a verdade e a correcção devida, conseguiu numa Universidade acabadinha de abrir as portas, desorganizada, corrupta e de créditos duvidosos, ser, imagine-se ... engenheir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Uma Universidade, dita Independente, que no auge de todas as descobertas, num período em que se dizia que havia inúmeras revelações a serem feitas foi IMEDIATAMENTE encerrada. Sabem por quem? Exactamente, pelo governo de José Sócrates.</a:t>
            </a: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6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-68400"/>
            <a:ext cx="8721720" cy="69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Curiosamente, e para cúmulo de toda esta trapalhada, se confirmarem no referido certificado de Habilitações da UN Independente, diz lá que "concluiu o curso em 08-09-1996" que, estranhamente, foi a um...DOMINGO. É verdade, a um DOMINGO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Há com cada uma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Ah, antes de terminar, concluiu com média 14, isto é, estas 5 disciplinas dadas pelo amigo António José Morais mais o "seu" reitor Luís Arouca, fizeram com que, </a:t>
            </a:r>
            <a:r>
              <a:rPr b="1" lang="pt-PT" sz="2400" spc="-1" strike="noStrike" u="sng">
                <a:solidFill>
                  <a:srgbClr val="ffff00"/>
                </a:solidFill>
                <a:uFillTx/>
                <a:latin typeface="Arial"/>
              </a:rPr>
              <a:t>num ápice</a:t>
            </a: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, subisse </a:t>
            </a:r>
            <a:r>
              <a:rPr b="1" lang="pt-PT" sz="2400" spc="-1" strike="noStrike" u="sng">
                <a:solidFill>
                  <a:srgbClr val="ffff00"/>
                </a:solidFill>
                <a:uFillTx/>
                <a:latin typeface="Arial"/>
              </a:rPr>
              <a:t>a média de 12 que trazia do Politécnico</a:t>
            </a: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 (Escola Pública) para...14, catorzeeeee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710000"/>
            <a:ext cx="87138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terskelter"/>
              </a:rPr>
              <a:t>QUALQUER UM DE NÓS JÁ ESTARIA PRESO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143000" y="1066680"/>
            <a:ext cx="6477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Fim?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670680"/>
            <a:ext cx="800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Quantos documentos não terão desaparecido desde então? Quantos segredos estão por desvendar? Quantos comprometimentos morreram para sempre na mesma sepultura desse abrigo a estudantes "licenciados" a cuspo e a marte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Verdadeiramente vergonhoso!! E anda este homem a exigir aquilo que não tem nem nunca soube ter que é o rigor, a excelência e o mérito. Seriedade e verdade. Crédito e confiança. BRIO e EXEMPL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Mente com a mesma cara com que desconhecia ter sido sócio da Sovenco em 1990 quando o questionaram, com a mesma cara com que diz que não sabia que não se podia fumar num avião, com a mesma cara com que diz que o computador Magalhães é português. Enfim, mente compulsivamente com a mesma cara desavergonhada com que sonha na mentira que há-de dizer no dia segu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560880"/>
            <a:ext cx="8459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 VI Legislatura, José Sócrates entrega na Assembleia da República, um Registo Biográfico onde consta, escrito pelo seu puno e a sua própria letra, que a sua profissão é a de "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NGENHEIR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" e que as suas habilitações literárias são ... "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NGENHARIA CIVIL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". Tal e qual. (ver documento anex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99120" cy="71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-166320"/>
            <a:ext cx="87138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o se sabe, quando esta MENTIRA, para não lhe chamarmos OUTRA COISA, foi descoberta, apareceu igualmente uma segunda versão deste mesmo documento que, onde estava escrito "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GENHEIR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oi ACRESCENTAD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 palavra "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ÉCNIC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" e onde estava escrito "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GENHARIA CIVIL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" foi igualmente acrescentado em espaço anterior, quiçá estrategicamente lá deixado, a abreviatura "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A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" de Bacharelato que era o que verdadeiramente ele ti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sto é, o Registo Biográfico de José Sócrates foi RASURADO, foi ALTERADO, foi FALSIFICADO por ele próprio sem que alguém (?) responsável (?) na Assembleia da República consiga explicar (?) como é que isso foi possível e admissível. (ver documento anexo)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 NADA lhe aconteceu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500800" cy="75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982800"/>
            <a:ext cx="871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m 31 de Julho de 1979, termina o Bacharelato no Instituto Politécnico de Coimbra apenas com média de 12 valores. (ver anex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0578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6:46:11Z</dcterms:created>
  <dc:creator/>
  <dc:description/>
  <dc:language>en-US</dc:language>
  <cp:lastModifiedBy>NETDC</cp:lastModifiedBy>
  <dcterms:modified xsi:type="dcterms:W3CDTF">2009-03-23T09:34:07Z</dcterms:modified>
  <cp:revision>16</cp:revision>
  <dc:subject/>
  <dc:title>Diapositivo 1</dc:title>
</cp:coreProperties>
</file>