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E56B-0DD0-4EB2-A2B3-5F2BA92C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715C-2273-4E7A-A53B-651CDCCF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C54C-9F29-4A60-86B7-6B6AEAE28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2134-ADDD-41D3-8B3C-87E1E6A5F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0AC2-5F0C-4DA5-94F8-5AA95A04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3BF5-49DA-4FF2-AC49-F83A651C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7AC3-8172-43A9-9F9D-D325A36C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74CD-C8FD-4718-A990-6486BF61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E181-85D2-4F52-91F0-843B5036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61BE-6AFB-4AAF-907F-6F932732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3F9E-3824-48B6-A029-CF209528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2A78-F684-400B-A8B4-2DB67C5C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ADD2-6EE0-4E11-AF44-6E50E112A544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04720" y="1413000"/>
            <a:ext cx="813456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elterskelter"/>
              </a:rPr>
              <a:t>A vida secreta de Sócrate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elterskelter"/>
              <a:ea typeface="Helterskelt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07708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5680" y="636480"/>
            <a:ext cx="8609040" cy="50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is tarde, em 27 de Dezembro de 1994, o aluno nº 20382 José Sócrates Carvalho Pinto de Sousa, inscreve-se no Instituto Politécnico de Lisboa no curso de Transportes e Vias de Comunicação. (ver anexo)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89132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11280" y="76320"/>
            <a:ext cx="478152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0920" y="-264240"/>
            <a:ext cx="85690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00"/>
                </a:solidFill>
                <a:latin typeface="Arial"/>
              </a:rPr>
              <a:t>Repentinamente, assim que toma conhecimento que a Universidade Independente foi aprovado pela portaria 496/95 24 de Maio de 1995, sem que se conheça qualquer justificação, muda-se de "</a:t>
            </a:r>
            <a:r>
              <a:rPr b="1" i="1" lang="pt-PT" sz="2000" spc="-1" strike="noStrike">
                <a:solidFill>
                  <a:srgbClr val="ffff00"/>
                </a:solidFill>
                <a:latin typeface="Arial"/>
              </a:rPr>
              <a:t>armas e bagagens</a:t>
            </a:r>
            <a:r>
              <a:rPr b="1" lang="pt-PT" sz="2000" spc="-1" strike="noStrike">
                <a:solidFill>
                  <a:srgbClr val="ffff00"/>
                </a:solidFill>
                <a:latin typeface="Arial"/>
              </a:rPr>
              <a:t>" para esta recente, corrupta e desorganizada Universidade. (ver anex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00"/>
                </a:solidFill>
                <a:latin typeface="Arial"/>
              </a:rPr>
              <a:t>É AQUI, neste antro de facilitismo e promiscuidade, que José Sócrates consegue FINALMENTE aquilo que sempre ambicionou - uma "</a:t>
            </a:r>
            <a:r>
              <a:rPr b="1" i="1" lang="pt-PT" sz="2000" spc="-1" strike="noStrike">
                <a:solidFill>
                  <a:srgbClr val="ffff00"/>
                </a:solidFill>
                <a:latin typeface="Arial"/>
              </a:rPr>
              <a:t>licenciatura</a:t>
            </a:r>
            <a:r>
              <a:rPr b="1" lang="pt-PT" sz="2000" spc="-1" strike="noStrike">
                <a:solidFill>
                  <a:srgbClr val="ffff00"/>
                </a:solidFill>
                <a:latin typeface="Arial"/>
              </a:rPr>
              <a:t>" em Engenharia. </a:t>
            </a:r>
            <a:r>
              <a:rPr b="1" lang="pt-PT" sz="2000" spc="-1" strike="noStrike" u="sng">
                <a:solidFill>
                  <a:srgbClr val="ffff00"/>
                </a:solidFill>
                <a:uFillTx/>
                <a:latin typeface="Arial"/>
              </a:rPr>
              <a:t>Não interessa COMO</a:t>
            </a:r>
            <a:r>
              <a:rPr b="1" lang="pt-PT" sz="2000" spc="-1" strike="noStrike">
                <a:solidFill>
                  <a:srgbClr val="ffff00"/>
                </a:solidFill>
                <a:latin typeface="Arial"/>
              </a:rPr>
              <a:t> a possa ter conseguido, isso NÃO INTERESSA, interessa SIM, é que conseguiu uma "</a:t>
            </a:r>
            <a:r>
              <a:rPr b="1" i="1" lang="pt-PT" sz="2000" spc="-1" strike="noStrike">
                <a:solidFill>
                  <a:srgbClr val="ffff00"/>
                </a:solidFill>
                <a:latin typeface="Arial"/>
              </a:rPr>
              <a:t>licenciatura</a:t>
            </a:r>
            <a:r>
              <a:rPr b="1" lang="pt-PT" sz="2000" spc="-1" strike="noStrike">
                <a:solidFill>
                  <a:srgbClr val="ffff00"/>
                </a:solidFill>
                <a:latin typeface="Arial"/>
              </a:rPr>
              <a:t>" em Engenha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994280" cy="715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210600"/>
            <a:ext cx="864216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00"/>
                </a:solidFill>
                <a:latin typeface="Arial"/>
              </a:rPr>
              <a:t>Querem saber com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00"/>
                </a:solidFill>
                <a:latin typeface="Arial"/>
              </a:rPr>
              <a:t>Das 31 cadeiras que teria de fazer, deram-lhe equivalência a ... 2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00"/>
                </a:solidFill>
                <a:latin typeface="Arial"/>
              </a:rPr>
              <a:t>Nem mais, nem menos ... 26 disciplinas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00"/>
                </a:solidFill>
                <a:latin typeface="Arial"/>
              </a:rPr>
              <a:t>Apenas teria de fazer ... 5 disciplinas! Quem é amigo, quem é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00"/>
                </a:solidFill>
                <a:latin typeface="Arial"/>
              </a:rPr>
              <a:t>Ah. . . mas isto não fica por aqui, destas 5 disciplinas que lhe faltava fazer, 4 delas - os chamados "cadeirões" por serem as mais difíceis - foram dadas por UM ÚNICO PROFESSOR, por sinal seu amigo e conhecido, de nome António José Morais, adjunto do secretário de estado do também seu amigo Armando Vara e </a:t>
            </a:r>
            <a:r>
              <a:rPr b="1" lang="pt-PT" sz="2000" spc="-1" strike="noStrike" u="sng">
                <a:solidFill>
                  <a:srgbClr val="ffff00"/>
                </a:solidFill>
                <a:uFillTx/>
                <a:latin typeface="Arial"/>
              </a:rPr>
              <a:t>colega do mesmo governo em que estava nessa altura José Sócrates</a:t>
            </a:r>
            <a:r>
              <a:rPr b="1" lang="pt-PT" sz="2000" spc="-1" strike="noStrike">
                <a:solidFill>
                  <a:srgbClr val="ffff00"/>
                </a:solidFill>
                <a:latin typeface="Arial"/>
              </a:rPr>
              <a:t> como secretário de estado adjunto. Lindos meninos, grandes compinchas!</a:t>
            </a:r>
            <a:r>
              <a:rPr b="0" lang="pt-PT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115920"/>
            <a:ext cx="867888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00"/>
                </a:solidFill>
                <a:latin typeface="Arial"/>
              </a:rPr>
              <a:t>Que notas o amigo do peito António José Morais lhe deu? Fácil, vejam o anexo do Certificado de Habilitações da UN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00"/>
                </a:solidFill>
                <a:latin typeface="Arial"/>
              </a:rPr>
              <a:t>Análise de Estruturas - 17 (dezassete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00"/>
                </a:solidFill>
                <a:latin typeface="Arial"/>
              </a:rPr>
              <a:t>Projecto e Dissertação - 18 (dezoito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00"/>
                </a:solidFill>
                <a:latin typeface="Arial"/>
              </a:rPr>
              <a:t>Betão Armado e Pré Esforçado - 18 (dezoito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00"/>
                </a:solidFill>
                <a:latin typeface="Arial"/>
              </a:rPr>
              <a:t>Estruturas Especiais - 16 (dezasse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00"/>
                </a:solidFill>
                <a:latin typeface="Arial"/>
              </a:rPr>
              <a:t>NADA MAU, hein ... para quem vinha com média de 12 do Politécnico ... NADA MAU, NADA MA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00"/>
                </a:solidFill>
                <a:latin typeface="Arial"/>
              </a:rPr>
              <a:t>Ahhh, é verdade, e nessa altura José Sócrates ainda era secretário de estado adjunto do Ministro do Ambiente, tinha pouco tempo para estudar, para trabalhos e para exames, agora imaginem se ele tivesse mais tempo para se dedicar às aulas.</a:t>
            </a:r>
            <a:r>
              <a:rPr b="0" lang="pt-PT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84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105480"/>
            <a:ext cx="8521560" cy="67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s falta ainda uma cadeira, de entre as 5 que o "obrigaram" a fazer - Inglês Técnico. Teve 15. (Ver anexo)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im é verdade, teve 1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oi seu professor o reitor Luís Arouca, entretanto preso por falsificação de documentos sem que no entanto, não faltasse a mãozinha de José Sócrates ao enviar a este mesmo reitor um FAX socorrendo-se de um papel timbrado do Ministério do Ambiente, do Gabinete do Secretário de Estado Adjunto, numa clara atitude de promiscuidade e de pressão, terminando de forma muito pouco formal e excessivamente familiar com um "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Seu Sócrate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". (ver anexo)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4046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Alguma vez José Sócrates disse a verda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1263960"/>
            <a:ext cx="7404120" cy="52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00"/>
                </a:solidFill>
                <a:latin typeface="Arial"/>
              </a:rPr>
              <a:t>Não será ele um oportunista que à custa da sua ambição desmedida em </a:t>
            </a:r>
            <a:r>
              <a:rPr b="1" lang="pt-PT" sz="2000" spc="-1" strike="noStrike" u="sng">
                <a:solidFill>
                  <a:srgbClr val="ffff00"/>
                </a:solidFill>
                <a:uFillTx/>
                <a:latin typeface="Arial"/>
              </a:rPr>
              <a:t>querer ser engenheiro a toda a força e de qualquer maneira</a:t>
            </a:r>
            <a:r>
              <a:rPr b="1" lang="pt-PT" sz="2000" spc="-1" strike="noStrike">
                <a:solidFill>
                  <a:srgbClr val="ffff00"/>
                </a:solidFill>
                <a:latin typeface="Arial"/>
              </a:rPr>
              <a:t>, encontrou num passe de mágica que nem a varinha de uma fada se lembraria de engendrar, a melhor forma de, sem qualquer mérito, se poder ufanar de um título que, </a:t>
            </a:r>
            <a:r>
              <a:rPr b="1" lang="pt-PT" sz="2000" spc="-1" strike="noStrike" u="sng">
                <a:solidFill>
                  <a:srgbClr val="ffff00"/>
                </a:solidFill>
                <a:uFillTx/>
                <a:latin typeface="Arial"/>
              </a:rPr>
              <a:t>às três pancadas e a martelo</a:t>
            </a:r>
            <a:r>
              <a:rPr b="1" lang="pt-PT" sz="2000" spc="-1" strike="noStrike">
                <a:solidFill>
                  <a:srgbClr val="ffff00"/>
                </a:solidFill>
                <a:latin typeface="Arial"/>
              </a:rPr>
              <a:t> subvertendo a verdade e a correcção devida, conseguiu numa Universidade acabadinha de abrir as portas, desorganizada, corrupta e de créditos duvidosos, ser, imagine-se ... engenheiro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00"/>
                </a:solidFill>
                <a:latin typeface="Arial"/>
              </a:rPr>
              <a:t>Uma Universidade, dita Independente, que no auge de todas as descobertas, num período em que se dizia que havia inúmeras revelações a serem feitas foi IMEDIATAMENTE encerrada. Sabem por quem? Exactamente, pelo governo de José Sócrates.</a:t>
            </a:r>
            <a:r>
              <a:rPr b="0" lang="pt-PT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86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79280" y="-68400"/>
            <a:ext cx="8721720" cy="69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00"/>
                </a:solidFill>
                <a:latin typeface="Arial"/>
              </a:rPr>
              <a:t>Curiosamente, e para cúmulo de toda esta trapalhada, se confirmarem no referido certificado de Habilitações da UN Independente, diz lá que "concluiu o curso em 08-09-1996" que, estranhamente, foi a um...DOMINGO. É verdade, a um DOMINGO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00"/>
                </a:solidFill>
                <a:latin typeface="Arial"/>
              </a:rPr>
              <a:t>Há com cada uma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00"/>
                </a:solidFill>
                <a:latin typeface="Arial"/>
              </a:rPr>
              <a:t>Ah, antes de terminar, concluiu com média 14, isto é, estas 5 disciplinas dadas pelo amigo António José Morais mais o "seu" reitor Luís Arouca, fizeram com que, </a:t>
            </a:r>
            <a:r>
              <a:rPr b="1" lang="pt-PT" sz="2400" spc="-1" strike="noStrike" u="sng">
                <a:solidFill>
                  <a:srgbClr val="ffff00"/>
                </a:solidFill>
                <a:uFillTx/>
                <a:latin typeface="Arial"/>
              </a:rPr>
              <a:t>num ápice</a:t>
            </a:r>
            <a:r>
              <a:rPr b="1" lang="pt-PT" sz="2400" spc="-1" strike="noStrike">
                <a:solidFill>
                  <a:srgbClr val="ffff00"/>
                </a:solidFill>
                <a:latin typeface="Arial"/>
              </a:rPr>
              <a:t>, subisse </a:t>
            </a:r>
            <a:r>
              <a:rPr b="1" lang="pt-PT" sz="2400" spc="-1" strike="noStrike" u="sng">
                <a:solidFill>
                  <a:srgbClr val="ffff00"/>
                </a:solidFill>
                <a:uFillTx/>
                <a:latin typeface="Arial"/>
              </a:rPr>
              <a:t>a média de 12 que trazia do Politécnico</a:t>
            </a:r>
            <a:r>
              <a:rPr b="1" lang="pt-PT" sz="2400" spc="-1" strike="noStrike">
                <a:solidFill>
                  <a:srgbClr val="ffff00"/>
                </a:solidFill>
                <a:latin typeface="Arial"/>
              </a:rPr>
              <a:t> (Escola Pública) para...14, catorzeeeee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1710000"/>
            <a:ext cx="8713800" cy="34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Helterskelter"/>
              </a:rPr>
              <a:t>QUALQUER UM DE NÓS JÁ ESTARIA PRESO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143000" y="1066680"/>
            <a:ext cx="64771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Fim?</a:t>
            </a:r>
            <a:endParaRPr b="0" lang="en-US" sz="6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670680"/>
            <a:ext cx="8004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00"/>
                </a:solidFill>
                <a:latin typeface="Arial"/>
              </a:rPr>
              <a:t>Quantos documentos não terão desaparecido desde então? Quantos segredos estão por desvendar? Quantos comprometimentos morreram para sempre na mesma sepultura desse abrigo a estudantes "licenciados" a cuspo e a martel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00"/>
                </a:solidFill>
                <a:latin typeface="Arial"/>
              </a:rPr>
              <a:t>Verdadeiramente vergonhoso!! E anda este homem a exigir aquilo que não tem nem nunca soube ter que é o rigor, a excelência e o mérito. Seriedade e verdade. Crédito e confiança. BRIO e EXEMPL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00"/>
                </a:solidFill>
                <a:latin typeface="Arial"/>
              </a:rPr>
              <a:t>Mente com a mesma cara com que desconhecia ter sido sócio da Sovenco em 1990 quando o questionaram, com a mesma cara com que diz que não sabia que não se podia fumar num avião, com a mesma cara com que diz que o computador Magalhães é português. Enfim, mente compulsivamente com a mesma cara desavergonhada com que sonha na mentira que há-de dizer no dia segui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560880"/>
            <a:ext cx="845964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a VI Legislatura, José Sócrates entrega na Assembleia da República, um Registo Biográfico onde consta, escrito pelo seu puno e a sua própria letra, que a sua profissão é a de "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ENGENHEIRO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" e que as suas habilitações literárias são ... "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ENGENHARIA CIVIL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". Tal e qual. (ver documento anex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199120" cy="71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-166320"/>
            <a:ext cx="87138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mo se sabe, quando esta MENTIRA, para não lhe chamarmos OUTRA COISA, foi descoberta, apareceu igualmente uma segunda versão deste mesmo documento que, onde estava escrito "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NGENHEIRO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"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foi ACRESCENTADA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a palavra "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TÉCNICO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" e onde estava escrito "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NGENHARIA CIVIL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" foi igualmente acrescentado em espaço anterior, quiçá estrategicamente lá deixado, a abreviatura "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BACH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" de Bacharelato que era o que verdadeiramente ele tin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sto é, o Registo Biográfico de José Sócrates foi RASURADO, foi ALTERADO, foi FALSIFICADO por ele próprio sem que alguém (?) responsável (?) na Assembleia da República consiga explicar (?) como é que isso foi possível e admissível. (ver documento anexo)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E NADA lhe aconteceu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!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500800" cy="75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982800"/>
            <a:ext cx="8713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m 31 de Julho de 1979, termina o Bacharelato no Instituto Politécnico de Coimbra apenas com média de 12 valores. (ver anex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0578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16:46:11Z</dcterms:created>
  <dc:creator/>
  <dc:description/>
  <dc:language>en-US</dc:language>
  <cp:lastModifiedBy>NETDC</cp:lastModifiedBy>
  <dcterms:modified xsi:type="dcterms:W3CDTF">2009-03-23T09:34:07Z</dcterms:modified>
  <cp:revision>16</cp:revision>
  <dc:subject/>
  <dc:title>Diapositivo 1</dc:title>
</cp:coreProperties>
</file>