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1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3.gif" ContentType="image/gif"/>
  <Override PartName="/ppt/media/and%20i%20love%20her%20(range).wav" ContentType="audio/x-wav"/>
  <Override PartName="/ppt/media/image17.png" ContentType="image/png"/>
  <Override PartName="/ppt/media/image14.gif" ContentType="image/gi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FA0-A7B7-4940-8D26-041A0805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CA1-47D0-4B68-97FE-CB940B61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E79-BD13-49FE-B747-7DE3C9B2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752-F5D7-4108-8825-C7A913DB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B5A-228F-4834-B6C3-E0BF844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39C-0B29-4423-8C42-1B3E603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49B-32A8-412B-ACB9-D342B3F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627-C9B6-483B-8604-8507A55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9C7-6343-4802-A78C-46114102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28E-09BF-40B5-9CD9-A522189B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978-7EDE-42A5-B3C7-F6872D4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086-E391-4799-948F-A193C99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EF4-3577-4F4B-B6C1-F8A124575CBE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%20i%20love%20her%20(range)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image" Target="../media/image17.pn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39640" y="1916280"/>
            <a:ext cx="799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4000" spc="-1" strike="noStrike">
                <a:solidFill>
                  <a:srgbClr val="ffffcc"/>
                </a:solidFill>
                <a:latin typeface="Arial"/>
              </a:rPr>
              <a:t>Responde a uma coi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000" spc="-1" strike="noStrike">
                <a:solidFill>
                  <a:srgbClr val="ffffcc"/>
                </a:solidFill>
                <a:latin typeface="Arial"/>
              </a:rPr>
              <a:t>Tu que tiveste a tua infância durante os anos  60, 70 ...</a:t>
            </a: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cc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0" y="43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00"/>
                </a:solidFill>
                <a:latin typeface="Arial"/>
              </a:rPr>
              <a:t>Como podes ter sobreviv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and%20i%20love%20her%20(range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714480" y="1999800"/>
            <a:ext cx="5118120" cy="27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Tínhamos aulas só de manhã,</a:t>
            </a:r>
            <a:r>
              <a:rPr b="0" lang="pt-PT" sz="2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e íamos almoçar 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c0c0c0"/>
                </a:solidFill>
                <a:latin typeface="Arial"/>
              </a:rPr>
              <a:t>Quando tínhamos piolhos a nossa mãe lavava-nos a cabeça com Quitoso e com um pente fininho removia a piolhada t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m 6" descr="arruda-combate-piolhos-e-pulgas.jpg"/>
          <p:cNvPicPr/>
          <p:nvPr/>
        </p:nvPicPr>
        <p:blipFill>
          <a:blip r:embed="rId1"/>
          <a:stretch/>
        </p:blipFill>
        <p:spPr>
          <a:xfrm>
            <a:off x="357120" y="1962000"/>
            <a:ext cx="3284640" cy="3252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0120" y="3544920"/>
            <a:ext cx="584352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Braço engessados, dentes partidos, joelhos esfolados, cabeça rac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Alguém se queixava dis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-36360" y="564660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PT" sz="2800" spc="-1" strike="noStrike">
                <a:solidFill>
                  <a:srgbClr val="ffff00"/>
                </a:solidFill>
                <a:latin typeface="Arial"/>
              </a:rPr>
              <a:t>Todos tinham razão, menos nó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Cópia de 88412117_16c73411cd_m"/>
          <p:cNvPicPr/>
          <p:nvPr/>
        </p:nvPicPr>
        <p:blipFill>
          <a:blip r:embed="rId1"/>
          <a:stretch/>
        </p:blipFill>
        <p:spPr>
          <a:xfrm>
            <a:off x="1042920" y="1146240"/>
            <a:ext cx="3529080" cy="2066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7128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Comíamos doces à vontade, pão com Tulicreme,</a:t>
            </a: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bebidas com o (perigoso) açúcar.</a:t>
            </a: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Não se falava de obesida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brincávamos sempre na rua e éramos super activos ...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m 6" descr="vinf14.jpg"/>
          <p:cNvPicPr/>
          <p:nvPr/>
        </p:nvPicPr>
        <p:blipFill>
          <a:blip r:embed="rId1"/>
          <a:stretch/>
        </p:blipFill>
        <p:spPr>
          <a:xfrm>
            <a:off x="4286160" y="2143080"/>
            <a:ext cx="4687920" cy="25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57800" y="1213920"/>
            <a:ext cx="4572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6666ff"/>
                </a:solidFill>
                <a:latin typeface="Arial"/>
              </a:rPr>
              <a:t>Quando comprávamos aqueles  tubinhos de Fá naquela mercearia da esquina, vinha logo o pessoal todo a pedir um “coche” e dividíamos com os nossos amigos. Bebiam todos pelo mesmo tubinho e nunca ninguém morreu por isso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m 6" descr="vinf23.jpg"/>
          <p:cNvPicPr/>
          <p:nvPr/>
        </p:nvPicPr>
        <p:blipFill>
          <a:blip r:embed="rId1"/>
          <a:stretch/>
        </p:blipFill>
        <p:spPr>
          <a:xfrm>
            <a:off x="428760" y="1000080"/>
            <a:ext cx="3487680" cy="507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41440" y="62028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Nada de Playstations, Nintendo,</a:t>
            </a:r>
            <a:br>
              <a:rPr sz="2000"/>
            </a:b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X boxes, jogos de Vídeo ,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Televisão por satélite,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Televisão a Cabo nem DVD’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Dolby surroun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Telemóvel era ficção científic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Computador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Internet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i="1" lang="pt-PT" sz="2800" spc="-1" strike="noStrike">
                <a:solidFill>
                  <a:srgbClr val="ff3300"/>
                </a:solidFill>
                <a:latin typeface="Arial"/>
              </a:rPr>
              <a:t>Só amigos</a:t>
            </a:r>
            <a:r>
              <a:rPr b="1" i="1" lang="pt-PT" sz="2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pt-PT" sz="20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07928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7524720" y="1339920"/>
            <a:ext cx="55728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7308720" y="2151000"/>
            <a:ext cx="1079640" cy="70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7451640" y="2779560"/>
            <a:ext cx="7207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7696080" y="3478320"/>
            <a:ext cx="331920" cy="88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6"/>
          <a:stretch/>
        </p:blipFill>
        <p:spPr>
          <a:xfrm>
            <a:off x="7451640" y="4437000"/>
            <a:ext cx="792360" cy="5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7"/>
          <a:stretch/>
        </p:blipFill>
        <p:spPr>
          <a:xfrm>
            <a:off x="7551720" y="5013360"/>
            <a:ext cx="907920" cy="8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8"/>
          <a:stretch/>
        </p:blipFill>
        <p:spPr>
          <a:xfrm>
            <a:off x="5003640" y="5897520"/>
            <a:ext cx="136872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Line 15"/>
          <p:cNvSpPr/>
          <p:nvPr/>
        </p:nvSpPr>
        <p:spPr>
          <a:xfrm>
            <a:off x="4211640" y="1052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3419640" y="17715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 flipV="1">
            <a:off x="4286160" y="2492280"/>
            <a:ext cx="2446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3059280" y="321300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4500720" y="4000680"/>
            <a:ext cx="2158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556000" y="47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3203640" y="5445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267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Nada de ração. Comiam a mesma comida que nós (muitas vezes os restos), e sem problema nenh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Banho quente? Champ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Qual quê! No quintal, um segurava o cão e o outro com a mangueira (fria) ia jogando água e esfregava-o com (acreditem se quiserem) sabão (em barra) de lavar roup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963 - Rin Tin Tin"/>
          <p:cNvPicPr/>
          <p:nvPr/>
        </p:nvPicPr>
        <p:blipFill>
          <a:blip r:embed="rId1"/>
          <a:stretch/>
        </p:blipFill>
        <p:spPr>
          <a:xfrm>
            <a:off x="4788000" y="2008080"/>
            <a:ext cx="3816360" cy="36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865080" y="593712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Algum cão morreu ou adoeceu por causa dis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44920" y="89676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cc"/>
                </a:solidFill>
                <a:latin typeface="Arial"/>
              </a:rPr>
              <a:t>Quem não teve um cã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34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A pé ou de bicicleta, íamos à casa dos nossos amigos, mesmo que morassem a kms da nossa casa, entrávamos sem bater e íamos brinc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cccc"/>
                </a:solidFill>
                <a:latin typeface="Arial"/>
              </a:rPr>
              <a:t>    </a:t>
            </a:r>
            <a:r>
              <a:rPr b="1" i="1" lang="pt-PT" sz="2800" spc="-1" strike="noStrike">
                <a:solidFill>
                  <a:srgbClr val="ffcccc"/>
                </a:solidFill>
                <a:latin typeface="Arial"/>
              </a:rPr>
              <a:t>É verdade! Lá fora, nesse mundo cinzento e sem segurança! Como era possível? Jogávamos futebol na rua, muitas vezes com a baliza sinalizada por duas pedras... Ás vezes quando éramos muitos tínhamos que ficar de fora sem jogar nem ser substituído... mas nem era o         “FIM DO MUNDO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m 5" descr="i031_0409.jpg"/>
          <p:cNvPicPr/>
          <p:nvPr/>
        </p:nvPicPr>
        <p:blipFill>
          <a:blip r:embed="rId1"/>
          <a:stretch/>
        </p:blipFill>
        <p:spPr>
          <a:xfrm>
            <a:off x="1785960" y="71280"/>
            <a:ext cx="512748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Na escola tinha bons e maus alunos. Uns passavam e outros eram reprovados. Ninguém ia por isso a um psicólogo ou psicoterapeuta. Não havia a moda dos superdotados, nem se falava em dislexia, problemas de concentração, hiperactividade. Quem não passava, simplesmente repetia de ano e tentava de novo no ano segui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86920" y="436572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As nossas festas eram animadas por gira-discos , a fazerem aqueles cliques da agulha a deslizar nos discos de vinil. As bebidas, eram claro, a deliciosa groselha com cubinhos de g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m 5" descr="giradiscos.jpg"/>
          <p:cNvPicPr/>
          <p:nvPr/>
        </p:nvPicPr>
        <p:blipFill>
          <a:blip r:embed="rId1"/>
          <a:stretch/>
        </p:blipFill>
        <p:spPr>
          <a:xfrm>
            <a:off x="1860480" y="214200"/>
            <a:ext cx="5426280" cy="4071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71840" y="4662360"/>
            <a:ext cx="403848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Os carros não tinham cintos de segurança, apoios de cabeça,                 nem airbag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143080" y="4135320"/>
            <a:ext cx="39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c"/>
                </a:solidFill>
                <a:latin typeface="Arial"/>
              </a:rPr>
              <a:t>Afinal de cont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m 8" descr="fiat_126.jpg"/>
          <p:cNvPicPr/>
          <p:nvPr/>
        </p:nvPicPr>
        <p:blipFill>
          <a:blip r:embed="rId1"/>
          <a:stretch/>
        </p:blipFill>
        <p:spPr>
          <a:xfrm>
            <a:off x="1643040" y="214200"/>
            <a:ext cx="5214960" cy="3911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50760" y="809280"/>
            <a:ext cx="822960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Tínham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Liberd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Fracass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Sucessos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Dev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...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e aprendíamos a lidar com cada um del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A única verdadeira questão 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0000"/>
                </a:solidFill>
                <a:latin typeface="Arial"/>
              </a:rPr>
              <a:t>como conseguimos sobreviver?</a:t>
            </a:r>
            <a:r>
              <a:rPr b="1" i="1" lang="pt-PT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E acima de tudo, como conseguimos desenvolver a no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pt-PT" sz="3200" spc="-1" strike="noStrike">
                <a:solidFill>
                  <a:srgbClr val="ffff00"/>
                </a:solidFill>
                <a:latin typeface="Arial"/>
              </a:rPr>
              <a:t>personalidade?</a:t>
            </a:r>
            <a:r>
              <a:rPr b="0" lang="pt-P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cc"/>
                </a:solidFill>
                <a:latin typeface="Arial"/>
              </a:rPr>
              <a:t>Também és dessa geração?</a:t>
            </a: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Se sim, então manda este e-mail aos teus amigos desse tempo,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3200"/>
            </a:b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e também aos teus filhos e sobrinhos,</a:t>
            </a: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1" i="1" lang="pt-PT" sz="3200" spc="-1" strike="noStrike">
                <a:solidFill>
                  <a:srgbClr val="ffffcc"/>
                </a:solidFill>
                <a:latin typeface="Arial"/>
              </a:rPr>
              <a:t>para que eles saibam como era no...    </a:t>
            </a:r>
            <a:r>
              <a:rPr b="1" i="1" lang="pt-PT" sz="4000" spc="-1" strike="noStrike">
                <a:solidFill>
                  <a:srgbClr val="ffffcc"/>
                </a:solidFill>
                <a:latin typeface="Arial"/>
              </a:rPr>
              <a:t>Nosso temp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4000" spc="-1" strike="noStrike">
                <a:solidFill>
                  <a:srgbClr val="ffffcc"/>
                </a:solidFill>
                <a:latin typeface="Arial"/>
              </a:rPr>
              <a:t>Sem dúvida vão responder que era uma chatice, mas ...</a:t>
            </a: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  </a:t>
            </a:r>
            <a:br>
              <a:rPr sz="4000"/>
            </a:br>
            <a:r>
              <a:rPr b="1" i="1" lang="pt-PT" sz="4800" spc="-1" strike="noStrike">
                <a:solidFill>
                  <a:srgbClr val="ffffcc"/>
                </a:solidFill>
                <a:latin typeface="Arial"/>
              </a:rPr>
              <a:t>Como éramos felizes!!!</a:t>
            </a:r>
            <a:r>
              <a:rPr b="0" lang="pt-PT" sz="4000" spc="-1" strike="noStrike">
                <a:solidFill>
                  <a:srgbClr val="ffffcc"/>
                </a:solidFill>
                <a:latin typeface="Arial"/>
              </a:rPr>
              <a:t>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580000" y="2863800"/>
            <a:ext cx="356400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Íamos soltos no banco de trás aos saltos e na galh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E isso não era perigos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5" descr="portugues_ao_volante_criancas_banco_tras.jpg.jpg"/>
          <p:cNvPicPr/>
          <p:nvPr/>
        </p:nvPicPr>
        <p:blipFill>
          <a:blip r:embed="rId1"/>
          <a:stretch/>
        </p:blipFill>
        <p:spPr>
          <a:xfrm>
            <a:off x="214200" y="171468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71360" y="3786120"/>
            <a:ext cx="690372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bbe0e3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bbe0e3"/>
                </a:solidFill>
                <a:latin typeface="Arial"/>
              </a:rPr>
              <a:t>As camas tinham grades e os brinquedos eram multicores com pecinhas que se soltavam ou no mínimo pintados com umas tintas  “duvidosas” contendo chumbo ou outro veneno qualqu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m 6" descr="15645528_10.jpg"/>
          <p:cNvPicPr/>
          <p:nvPr/>
        </p:nvPicPr>
        <p:blipFill>
          <a:blip r:embed="rId1"/>
          <a:stretch/>
        </p:blipFill>
        <p:spPr>
          <a:xfrm>
            <a:off x="2500200" y="214200"/>
            <a:ext cx="456876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90560" y="1857240"/>
            <a:ext cx="4038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Não havia trancas de segurança nas portas dos carros, chaves nos armários de  medicamen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detergentes ou químicos domést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m 9" descr="armário.JPG"/>
          <p:cNvPicPr/>
          <p:nvPr/>
        </p:nvPicPr>
        <p:blipFill>
          <a:blip r:embed="rId1"/>
          <a:stretch/>
        </p:blipFill>
        <p:spPr>
          <a:xfrm>
            <a:off x="214200" y="500040"/>
            <a:ext cx="4429080" cy="590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2920" y="2924280"/>
            <a:ext cx="40388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Andávamos de bicicleta para lá e pra cá,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sem capacete</a:t>
            </a: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PT" sz="2800" spc="-1" strike="noStrike">
                <a:solidFill>
                  <a:srgbClr val="ffffcc"/>
                </a:solidFill>
                <a:latin typeface="Arial"/>
              </a:rPr>
              <a:t>joelheiras, caneleiras e cotoveleira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m 5" descr="NiBici_vbx.jpg"/>
          <p:cNvPicPr/>
          <p:nvPr/>
        </p:nvPicPr>
        <p:blipFill>
          <a:blip r:embed="rId1"/>
          <a:stretch/>
        </p:blipFill>
        <p:spPr>
          <a:xfrm>
            <a:off x="714240" y="857160"/>
            <a:ext cx="3602160" cy="540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00720" y="2143080"/>
            <a:ext cx="40384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i="1" lang="pt-PT" sz="2800" spc="-1" strike="noStrike">
                <a:solidFill>
                  <a:srgbClr val="00ffff"/>
                </a:solidFill>
                <a:latin typeface="Arial"/>
              </a:rPr>
              <a:t>Bebíamos água em potes de barro, da torneira, duma mangueira, ou duma fonte e não águas minerais em garrafas ditas “</a:t>
            </a:r>
            <a:r>
              <a:rPr b="1" i="1" lang="pt-PT" sz="2800" spc="-1" strike="noStrike">
                <a:solidFill>
                  <a:srgbClr val="00ffff"/>
                </a:solidFill>
                <a:latin typeface="Arial"/>
              </a:rPr>
              <a:t>esterilizadas”.</a:t>
            </a:r>
            <a:r>
              <a:rPr b="0" i="1" lang="pt-P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34014_filtro_de_barro"/>
          <p:cNvPicPr/>
          <p:nvPr/>
        </p:nvPicPr>
        <p:blipFill>
          <a:blip r:embed="rId1"/>
          <a:stretch/>
        </p:blipFill>
        <p:spPr>
          <a:xfrm>
            <a:off x="1127160" y="1700280"/>
            <a:ext cx="2940120" cy="3938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25520" y="979560"/>
            <a:ext cx="40388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i="1" lang="pt-PT" sz="2000" spc="-1" strike="noStrike">
                <a:solidFill>
                  <a:srgbClr val="ffffcc"/>
                </a:solidFill>
                <a:latin typeface="Arial"/>
              </a:rPr>
              <a:t>Construíamos aqueles famosos carrinhos de rolamentos e aqueles que tinham a sorte de morar perto duma ladeira asfaltada, podiam tentar bater records de velocidade e até verificar no meio do caminho que tinham economizado a sola dos sapatos, que eram usados como travõ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527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ff0000"/>
                </a:solidFill>
                <a:latin typeface="Arial"/>
              </a:rPr>
              <a:t>Depois de acabarmos num silvado aprendía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bsao_lourenco32"/>
          <p:cNvPicPr/>
          <p:nvPr/>
        </p:nvPicPr>
        <p:blipFill>
          <a:blip r:embed="rId1"/>
          <a:stretch/>
        </p:blipFill>
        <p:spPr>
          <a:xfrm>
            <a:off x="250920" y="1155600"/>
            <a:ext cx="4897440" cy="342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460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Íamos brincar na rua com uma única condição:  voltar para casa ao anoitecer. </a:t>
            </a:r>
            <a:br>
              <a:rPr sz="2800"/>
            </a:b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Não havia telemóveis...</a:t>
            </a:r>
            <a:r>
              <a:rPr b="0" lang="pt-PT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Os nossos pais não sabiam onde estávamos!</a:t>
            </a:r>
            <a:br>
              <a:rPr sz="2800"/>
            </a:br>
            <a:r>
              <a:rPr b="0" i="1" lang="pt-PT" sz="2800" spc="-1" strike="noStrike">
                <a:solidFill>
                  <a:srgbClr val="ffffcc"/>
                </a:solidFill>
                <a:latin typeface="Arial"/>
              </a:rPr>
              <a:t>Era incrív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m 8" descr="Macaca01.jpg"/>
          <p:cNvPicPr/>
          <p:nvPr/>
        </p:nvPicPr>
        <p:blipFill>
          <a:blip r:embed="rId1"/>
          <a:stretch/>
        </p:blipFill>
        <p:spPr>
          <a:xfrm>
            <a:off x="1857240" y="214200"/>
            <a:ext cx="5357880" cy="4017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0:29:10Z</dcterms:created>
  <dc:creator>Ricardo</dc:creator>
  <dc:description/>
  <dc:language>en-US</dc:language>
  <cp:lastModifiedBy>Só Riso Mail</cp:lastModifiedBy>
  <dcterms:modified xsi:type="dcterms:W3CDTF">2009-09-01T16:06:56Z</dcterms:modified>
  <cp:revision>22</cp:revision>
  <dc:subject/>
  <dc:title>Slide 1</dc:title>
</cp:coreProperties>
</file>