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brilha,%20brilha%20estrelinha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wmf" ContentType="image/x-wm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72B-CF9A-486F-9EA1-FA3C33C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A0E-E698-4596-BC7E-8031050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FEB-09B7-4C36-9DBB-2DBC8A6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18C-4C35-403A-9633-C5DD5FB8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368-22B7-4306-95A4-77D833AF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11A0-CEBB-4D55-9131-D1D9B7E8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5768-42DB-4E67-A069-9BA9D80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608-89F6-446F-B882-EBF59D9E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A000-65FB-44B2-B792-BA168A21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1276-4CD7-43B6-A117-13AFD74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BB8-1860-4A14-A998-F1FEFA77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1F2-EC92-4651-8707-11EBECE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99D-6C4C-4ECF-B0D2-8CC9EF2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915A-5E63-41CA-BA9A-57CAF23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BB2B-9435-46CB-8449-9971E046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4218-B637-49D0-98F9-F04ECB1A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D38D-6587-4024-A30D-8B5B063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966-0CA5-470F-BEA4-346A9D3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1BC-D9DF-460F-9C18-352274C1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386-CB54-4C08-A479-2465F27B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12F-2C4F-4EF9-9C7B-337C8372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172-3053-4B51-A133-5CBC49F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DDA-A6D8-45D4-B630-D656B203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A7B-2C6A-49DF-856A-D1E52B1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422-F1BB-4BB8-B7BF-94832F22E4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850A-C941-4809-A38B-9D1AC11863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ilha,%20brilha%20estrelinh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80773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Comic Sans MS"/>
              </a:rPr>
              <a:t>Aprenda a relaxar</a:t>
            </a: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828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2964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-15840"/>
            <a:ext cx="662472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000" y="2060640"/>
            <a:ext cx="896472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Hoje é </a:t>
            </a:r>
            <a:fld id="{ACF70802-2E4C-42FC-AF21-208FC496E2F6}" type="datetime2">
              <a:rPr b="1" lang="pt-BR" sz="2800" spc="-1" strike="noStrike">
                <a:solidFill>
                  <a:srgbClr val="66ccff"/>
                </a:solidFill>
                <a:latin typeface="Comic Sans MS"/>
              </a:rPr>
              <a:t>sexta-feira, 31 de julho de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Agora mesmo são </a:t>
            </a:r>
            <a:fld id="{CD76C9F2-E823-45A0-8B1A-0E82FD1EB811}" type="datetime10">
              <a:rPr b="1" lang="pt-BR" sz="2800" spc="-1" strike="noStrike">
                <a:solidFill>
                  <a:srgbClr val="66ccff"/>
                </a:solidFill>
                <a:latin typeface="Comic Sans MS"/>
              </a:rPr>
              <a:t>16:40</a:t>
            </a:fld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 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Relaxe por uns momentos e apreci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9792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9126360" cy="795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36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7040" y="20620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 </a:t>
            </a:r>
            <a:r>
              <a:rPr b="1" lang="pt-BR" sz="7200" spc="-1" strike="noStrike">
                <a:solidFill>
                  <a:srgbClr val="66ccff"/>
                </a:solidFill>
                <a:latin typeface="Comic Sans MS"/>
                <a:ea typeface="Arial"/>
              </a:rPr>
              <a:t>relaxe e tudo o mais se resolve..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32306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844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gora manda uma cópia para todos os que precisem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RELAXAR e SORRIR!!!</a:t>
            </a: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3:46:25Z</dcterms:created>
  <dc:creator>Sylvie</dc:creator>
  <dc:description/>
  <dc:language>en-US</dc:language>
  <cp:lastModifiedBy>Dgita</cp:lastModifiedBy>
  <dcterms:modified xsi:type="dcterms:W3CDTF">2014-11-25T16:11:55Z</dcterms:modified>
  <cp:revision>26</cp:revision>
  <dc:subject/>
  <dc:title>Diapositive 1</dc:title>
</cp:coreProperties>
</file>