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brilha,%20brilha%20estrelinha.wav" ContentType="audio/x-wav"/>
  <Override PartName="/ppt/media/image15.jpeg" ContentType="image/jpeg"/>
  <Override PartName="/ppt/media/image13.jpeg" ContentType="image/jpeg"/>
  <Override PartName="/ppt/media/image14.jpeg" ContentType="image/jpeg"/>
  <Override PartName="/ppt/media/image16.wmf" ContentType="image/x-wmf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A0A-F277-483B-9396-C6DF4E02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046-55F4-40CF-84B6-5740C4F4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685-7135-4711-94EE-E0BE2FE0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72B-4719-46A2-9173-9C71B8C3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2597-3F99-49F0-A114-F61F49F1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7035-1075-4354-8AF4-00A0F8EB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D437-B62B-4E36-948D-93DD4B12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11FA-84C2-495D-9B79-C17A5DC8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1504-08BE-42D0-B7AC-7B3C915C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54AC-7C6D-47F6-AFBD-55D0161C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2E5A-950A-4ABD-821E-7349D1D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839-D883-46CE-BBB3-4847648D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7761-A43F-4AB2-8500-A47F007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F674-3566-4B28-8261-5AB7AA44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C4D2-703D-4EB1-B1CE-2E598886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A054-0B77-4335-B2B4-DAB24192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4587-D6EF-4A6B-A009-1062832E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1CC-4B20-47D4-B7AA-FAB21243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2BA-D6AC-4674-A3C0-8B6F89E9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6CA-4539-471C-A442-C1F91716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9BB-8E3A-437F-84E3-8C27A518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695-ABA0-4EC5-A99C-DC48034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CE0-7D1A-476E-B333-400436BC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1E7-CA87-4C6A-90AD-6099EBB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89C-6FF3-41D0-ABD5-9D7EE87F6A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5A46-DCBC-4ED2-AD0D-94D1BB1B0C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ilha,%20brilha%20estrelinh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1773360"/>
            <a:ext cx="80773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cff"/>
                </a:solidFill>
                <a:latin typeface="Comic Sans MS"/>
              </a:rPr>
              <a:t>Aprenda a relaxar</a:t>
            </a:r>
            <a:endParaRPr b="1" lang="en-US" sz="9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828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29640" cy="69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-15840"/>
            <a:ext cx="662472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8000" y="2060640"/>
            <a:ext cx="896472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Hoje é </a:t>
            </a:r>
            <a:fld id="{DDBC7DD8-E77C-4ECE-B046-E4561BAE438E}" type="datetime2">
              <a:rPr b="1" lang="pt-BR" sz="2800" spc="-1" strike="noStrike">
                <a:solidFill>
                  <a:srgbClr val="66ccff"/>
                </a:solidFill>
                <a:latin typeface="Comic Sans MS"/>
              </a:rPr>
              <a:t>quarta-feira, 29 de julho de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Agora mesmo são </a:t>
            </a:r>
            <a:fld id="{207355C0-24AC-4890-A748-26E9CB2C7B04}" type="datetime10">
              <a:rPr b="1" lang="pt-BR" sz="2800" spc="-1" strike="noStrike">
                <a:solidFill>
                  <a:srgbClr val="66ccff"/>
                </a:solidFill>
                <a:latin typeface="Comic Sans MS"/>
              </a:rPr>
              <a:t>07:16</a:t>
            </a:fld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 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ccff"/>
                </a:solidFill>
                <a:latin typeface="Comic Sans MS"/>
              </a:rPr>
              <a:t>Relaxe por uns momentos e apreci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9792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9126360" cy="795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3600" cy="68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00016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27040" y="20620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66ff"/>
                </a:solidFill>
                <a:latin typeface="Comic Sans MS"/>
                <a:ea typeface="Arial"/>
              </a:rPr>
              <a:t> </a:t>
            </a:r>
            <a:r>
              <a:rPr b="1" lang="pt-BR" sz="7200" spc="-1" strike="noStrike">
                <a:solidFill>
                  <a:srgbClr val="66ccff"/>
                </a:solidFill>
                <a:latin typeface="Comic Sans MS"/>
                <a:ea typeface="Arial"/>
              </a:rPr>
              <a:t>relaxe e tudo o mais se resolve..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32306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66ff"/>
                </a:solidFill>
                <a:latin typeface="Comic Sans MS"/>
                <a:ea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844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gora manda uma cópia para todos os que precisem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RELAXAR e SORRIR!!!</a:t>
            </a: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3:46:25Z</dcterms:created>
  <dc:creator>Sylvie</dc:creator>
  <dc:description/>
  <dc:language>en-US</dc:language>
  <cp:lastModifiedBy>Dgita</cp:lastModifiedBy>
  <dcterms:modified xsi:type="dcterms:W3CDTF">2014-11-25T16:11:55Z</dcterms:modified>
  <cp:revision>26</cp:revision>
  <dc:subject/>
  <dc:title>Diapositive 1</dc:title>
</cp:coreProperties>
</file>