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YouNeededMe_AnneMurray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0AB-5C04-4247-A276-74BE5686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304-4595-477B-BCBF-68E9A54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A54-1C4E-4F39-AF6A-D122BB09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4D6-6236-4EEE-8CE5-1CC28E5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3BC-FF4E-43FC-B1C9-9153F174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A89-7EAA-4BA8-8C4C-DF3C0CAF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D98-3644-4DD3-82F0-7367707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C87-24F1-4DB5-AA76-4EE3DC0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056-F8B4-40C8-AAA3-E196B4E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54F-8DFB-4436-A862-0D92082E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896-ADAB-4A61-B35F-344740B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D22-8268-4905-835F-EFCE9D9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DE98-62BC-4686-AC57-469D965407F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ouNeededMe_AnneMurray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54720"/>
            <a:ext cx="9144000" cy="50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700" spc="-1" strike="noStrike">
                <a:solidFill>
                  <a:srgbClr val="00ffff"/>
                </a:solidFill>
                <a:latin typeface="Verdana"/>
              </a:rPr>
              <a:t>A</a:t>
            </a:r>
            <a:r>
              <a:rPr b="0" lang="es-MX" sz="2700" spc="-1" strike="noStrike">
                <a:solidFill>
                  <a:srgbClr val="00ffff"/>
                </a:solidFill>
                <a:latin typeface="Verdana"/>
              </a:rPr>
              <a:t>NTIGO </a:t>
            </a:r>
            <a:r>
              <a:rPr b="0" lang="sl-SI" sz="27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00ffff"/>
                </a:solidFill>
                <a:latin typeface="Arial"/>
              </a:rPr>
              <a:t>ONSELHO </a:t>
            </a:r>
            <a:r>
              <a:rPr b="0" lang="sl-SI" sz="27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00ffff"/>
                </a:solidFill>
                <a:latin typeface="Arial"/>
              </a:rPr>
              <a:t>HINÊ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934280"/>
            <a:ext cx="431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A moral deste Antigo Conselho Chinês é: A vida dá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tantas voltas e é tã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aradoxal no seu decorrer que tanto o mau pode vir a ser bom, como o bom pode vir a ser ma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034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ssim, esperemos o dia de amanhã com Aleg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e vivamos o de  hoje em Ple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3816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Verdana"/>
              </a:rPr>
              <a:t>QUE TENHAS UM GRANDE E FELIZ 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609300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Adaptação e tradução para Português de  CAmaral                                               </a:t>
            </a: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Junho d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ra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 vez un camp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nê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chin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ê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, m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to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pobre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as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á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bio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que trab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lhava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a terra duramente co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filh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o.</a:t>
            </a: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filh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disse-lh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: "P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, qu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 desgra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ç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a, </a:t>
            </a:r>
            <a:r>
              <a:rPr b="0" lang="pt-PT" sz="2100" spc="-1" strike="noStrike">
                <a:solidFill>
                  <a:srgbClr val="00ffff"/>
                </a:solidFill>
                <a:latin typeface="Arial"/>
              </a:rPr>
              <a:t>o nosso cavalo fugiu</a:t>
            </a:r>
            <a:r>
              <a:rPr b="0" lang="sl-SI" sz="2100" spc="-1" strike="noStrike">
                <a:solidFill>
                  <a:srgbClr val="00ffff"/>
                </a:solidFill>
                <a:latin typeface="Arial"/>
              </a:rPr>
              <a:t>.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124320"/>
            <a:ext cx="9144000" cy="73404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orque lhe chamas desgraça? Respondeu o pai. Veremos o que nos traz o tem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0392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Passados alguns dias o cavalo regressou acompanhado de uma linda égua selvajem. Pai, que sorte. Exclamou o rapaz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O nosso cavalo trouxe outro cava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00720" y="692280"/>
            <a:ext cx="417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e3b69"/>
                </a:solidFill>
                <a:latin typeface="Arial"/>
              </a:rPr>
              <a:t>Porque lhe chamas sorte? Respondeu o pai. Verem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e3b69"/>
                </a:solidFill>
                <a:latin typeface="Arial"/>
              </a:rPr>
              <a:t>o que nos traz o tempo."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1243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Uns dias depois o rapaz quiz montar o cavalo novo mas este, não acostumado à sela, encabritou-se e deitou-o ao ch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Na queda, o rapaz partiu uma perna. Pai, que desgraça, parti a perna. O pai, retomando a sua experiência e sabedoria, disse: Porque lhe chamas desgraça? Veremos o que nos traz 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803560"/>
            <a:ext cx="9144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O rapaz não se convencia da filosofia do pai. Poucos dias depois passaram pela aldeia os enviados do rei à procura de  jovens para levar para a guerra. Foram a casa do ancião, viram o jovem debilitado e deixaram-no, seguindo o seu cami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476280"/>
            <a:ext cx="785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ffff"/>
                </a:solidFill>
                <a:latin typeface="Arial"/>
              </a:rPr>
              <a:t>O jovem compreendeu então que nunca se deve dar nem a  desgraça nem a fortuna como absolutas mas que, para se saber se algo é mau ou bom, á necessário dar tempo ao tempo,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11:10:50Z</dcterms:created>
  <dc:creator/>
  <dc:description/>
  <dc:language>en-US</dc:language>
  <cp:lastModifiedBy>CAmaral</cp:lastModifiedBy>
  <dcterms:modified xsi:type="dcterms:W3CDTF">2009-06-23T21:36:49Z</dcterms:modified>
  <cp:revision>64</cp:revision>
  <dc:subject/>
  <dc:title>Diapositivo 1</dc:title>
</cp:coreProperties>
</file>