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YouNeededMe_AnneMurray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1833-E1C8-4990-ADC4-37D0CF5A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AAF-5944-43EC-AD3D-65EB621F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5465-3063-4202-BC3A-E94E1180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82ED-53AB-4A7E-A734-15BC59A8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E49A-E65B-4A49-85BD-C6D2589E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E74A-7983-49CD-A3EC-BC65E5D3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3D3-80CE-461B-9F16-5989479B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C33-56B2-4E1D-BBC8-391298C6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175-1D60-4FEE-80D1-E308FA3B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BEC3-A9EC-40DD-B045-02169D5E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786B-1DC0-4206-8B44-FBA879B2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328-9E07-4B1F-BF40-CE1D5105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61E6-BDD9-4BA7-BF7E-5D244E1D614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YouNeededMe_AnneMurray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354720"/>
            <a:ext cx="9144000" cy="50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ffff"/>
                </a:solidFill>
                <a:latin typeface="Verdana"/>
              </a:rPr>
              <a:t>A</a:t>
            </a:r>
            <a:r>
              <a:rPr b="0" lang="es-MX" sz="2700" spc="-1" strike="noStrike">
                <a:solidFill>
                  <a:srgbClr val="00ffff"/>
                </a:solidFill>
                <a:latin typeface="Verdana"/>
              </a:rPr>
              <a:t>NTIGO </a:t>
            </a:r>
            <a:r>
              <a:rPr b="0" lang="sl-SI" sz="2700" spc="-1" strike="noStrike">
                <a:solidFill>
                  <a:srgbClr val="00ffff"/>
                </a:solidFill>
                <a:latin typeface="Arial"/>
              </a:rPr>
              <a:t>C</a:t>
            </a:r>
            <a:r>
              <a:rPr b="0" lang="es-MX" sz="2700" spc="-1" strike="noStrike">
                <a:solidFill>
                  <a:srgbClr val="00ffff"/>
                </a:solidFill>
                <a:latin typeface="Arial"/>
              </a:rPr>
              <a:t>ONSELHO </a:t>
            </a:r>
            <a:r>
              <a:rPr b="0" lang="sl-SI" sz="2700" spc="-1" strike="noStrike">
                <a:solidFill>
                  <a:srgbClr val="00ffff"/>
                </a:solidFill>
                <a:latin typeface="Arial"/>
              </a:rPr>
              <a:t>C</a:t>
            </a:r>
            <a:r>
              <a:rPr b="0" lang="es-MX" sz="2700" spc="-1" strike="noStrike">
                <a:solidFill>
                  <a:srgbClr val="00ffff"/>
                </a:solidFill>
                <a:latin typeface="Arial"/>
              </a:rPr>
              <a:t>HINÊ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1934280"/>
            <a:ext cx="431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ffff"/>
                </a:solidFill>
                <a:latin typeface="Arial"/>
              </a:rPr>
              <a:t>A moral deste Antigo Conselho Chinês é: A vida dá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ffff"/>
                </a:solidFill>
                <a:latin typeface="Arial"/>
              </a:rPr>
              <a:t>tantas voltas e é tã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ffff"/>
                </a:solidFill>
                <a:latin typeface="Arial"/>
              </a:rPr>
              <a:t>paradoxal no seu decorrer que tanto o mau pode vir a ser bom, como o bom pode vir a ser ma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034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Assim, esperemos o dia de amanhã com Aleg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e vivamos o de  hoje em Plen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99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633816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Verdana"/>
              </a:rPr>
              <a:t>QUE TENHAS UM GRANDE E FELIZ 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5280" y="6093000"/>
            <a:ext cx="84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Arial"/>
              </a:rPr>
              <a:t>Adaptação e tradução para Português de  CAmaral                                               </a:t>
            </a:r>
            <a:r>
              <a:rPr b="0" lang="pt-PT" sz="1200" spc="-1" strike="noStrike">
                <a:solidFill>
                  <a:srgbClr val="ffffff"/>
                </a:solidFill>
                <a:latin typeface="Arial"/>
              </a:rPr>
              <a:t>Junho de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Era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a vez un camp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onês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 chin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ês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, mu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ito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 pobre 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mas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á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bio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 que traba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lhava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 a terra duramente co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o 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filh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o.</a:t>
            </a:r>
            <a:r>
              <a:rPr b="0" lang="es-ES" sz="21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 d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a 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filh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o 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disse-lhe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: "Pa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, qu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 desgra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ç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a, 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o nosso cavalo fugiu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."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29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124320"/>
            <a:ext cx="9144000" cy="734040"/>
          </a:xfrm>
          <a:prstGeom prst="rect">
            <a:avLst/>
          </a:prstGeom>
          <a:solidFill>
            <a:srgbClr val="bbe0e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ffff"/>
                </a:solidFill>
                <a:latin typeface="Arial"/>
              </a:rPr>
              <a:t>Porque lhe chamas desgraça? Respondeu o pai. Veremos o que nos traz o temp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94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5803920"/>
            <a:ext cx="9144000" cy="105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ffff"/>
                </a:solidFill>
                <a:latin typeface="Arial"/>
              </a:rPr>
              <a:t>Passados alguns dias o cavalo regressou acompanhado de uma linda égua selvajem. Pai, que sorte. Exclamou o rapaz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ffff"/>
                </a:solidFill>
                <a:latin typeface="Arial"/>
              </a:rPr>
              <a:t>O nosso cavalo trouxe outro caval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00720" y="692280"/>
            <a:ext cx="4176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e3b69"/>
                </a:solidFill>
                <a:latin typeface="Arial"/>
              </a:rPr>
              <a:t>Porque lhe chamas sorte? Respondeu o pai. Verem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e3b69"/>
                </a:solidFill>
                <a:latin typeface="Arial"/>
              </a:rPr>
              <a:t>o que nos traz o tempo."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8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12432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ffff"/>
                </a:solidFill>
                <a:latin typeface="Arial"/>
              </a:rPr>
              <a:t>Uns dias depois o rapaz quiz montar o cavalo novo mas este, não acostumado à sela, encabritou-se e deitou-o ao ch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5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941800"/>
            <a:ext cx="9144000" cy="91692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Na queda, o rapaz partiu uma perna. Pai, que desgraça, parti a perna. O pai, retomando a sua experiência e sabedoria, disse: Porque lhe chamas desgraça? Veremos o que nos traz o t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8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5803560"/>
            <a:ext cx="91440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O rapaz não se convencia da filosofia do pai. Poucos dias depois passaram pela aldeia os enviados do rei à procura de  jovens para levar para a guerra. Foram a casa do ancião, viram o jovem debilitado e deixaram-no, seguindo o seu camin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7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476280"/>
            <a:ext cx="7850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ffff"/>
                </a:solidFill>
                <a:latin typeface="Arial"/>
              </a:rPr>
              <a:t>O jovem compreendeu então que nunca se deve dar nem a  desgraça nem a fortuna como absolutas mas que, para se saber se algo é mau ou bom, á necessário dar tempo ao tempo,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1:10:50Z</dcterms:created>
  <dc:creator/>
  <dc:description/>
  <dc:language>en-US</dc:language>
  <cp:lastModifiedBy>CAmaral</cp:lastModifiedBy>
  <dcterms:modified xsi:type="dcterms:W3CDTF">2009-06-23T21:36:49Z</dcterms:modified>
  <cp:revision>64</cp:revision>
  <dc:subject/>
  <dc:title>Diapositivo 1</dc:title>
</cp:coreProperties>
</file>