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antovani%20Orchestra%20-%20Nessum%20Dorma%20(instrumental)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45B-CDA4-45A8-94F7-E78A8C9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0EF-DC70-4605-9307-18E452A9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4AA-8AC2-4F86-BF73-3E5482CC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5BE-836F-48BF-9FAA-5BF97F70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568-298D-4787-81B4-4E244E73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74A-CD37-4043-92D6-17428AFD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FDE-F4FF-4EC5-AB80-398AECEF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8AB-B7DE-42BD-A48A-779C6BC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3B9-FB19-4133-AC6F-99AE4586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8F0-E8DF-4981-BEFC-0D33E76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8FF-3F25-4B8F-A562-7D48CA66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A93-DBC5-4C52-A150-350242F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1961-F205-4C65-A2F0-1050FE49D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ntovani%20Orchestra%20-%20Nessum%20Dorma%20(instrumental)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velização 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U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blinds dir="horz"/>
    <p:sndAc>
      <p:stSnd>
        <p:snd r:embed="rId1" name="Mantovani%20Orchestra%20-%20Nessum%20Dorma%20(instrumental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ubai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úsica : Montovani Orch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essum D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atação : Helena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02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ubai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ubai0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ubai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ubai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ubai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ubai02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ubai02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ubai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8:11Z</dcterms:created>
  <dc:creator>serpro</dc:creator>
  <dc:description/>
  <dc:language>en-US</dc:language>
  <cp:lastModifiedBy>serpro</cp:lastModifiedBy>
  <dcterms:modified xsi:type="dcterms:W3CDTF">2008-02-15T15:49:58Z</dcterms:modified>
  <cp:revision>2</cp:revision>
  <dc:subject/>
  <dc:title>Favelização em</dc:title>
</cp:coreProperties>
</file>