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antovani%20Orchestra%20-%20Nessum%20Dorma%20(instrumental)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E7D-FA5E-4405-A2A0-8DC0A6C5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0E3-0641-475D-A71A-F039B95A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ECE-7E1C-4A08-8FCB-83DE6759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626-3AA6-4925-973F-8AE69DA7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34C-FBEC-426E-ADA6-D2748B3E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6B9-8CE8-49FE-887C-898C2339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28E-C5A0-471F-90E1-E95A7BA6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159-42A0-459E-832C-9AF1D30D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4A1-7DB8-4519-9CFC-771EC942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8AA-B2C2-4B39-810E-2BBA77A5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106-30FC-4456-9A31-C4C7BDAE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50A-D1EC-4174-A5E8-72D081F4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DD47-923C-4B89-A4EA-6504247B5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ntovani%20Orchestra%20-%20Nessum%20Dorma%20(instrumental)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Favelização 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UB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blinds dir="horz"/>
    <p:sndAc>
      <p:stSnd>
        <p:snd r:embed="rId1" name="Mantovani%20Orchestra%20-%20Nessum%20Dorma%20(instrumental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ubai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úsica : Montovani Orches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essum D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matação : Helena W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02/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ubai0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ubai0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ubai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ubai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ubai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ubai021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ubai02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ubai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8:11Z</dcterms:created>
  <dc:creator>serpro</dc:creator>
  <dc:description/>
  <dc:language>en-US</dc:language>
  <cp:lastModifiedBy>serpro</cp:lastModifiedBy>
  <dcterms:modified xsi:type="dcterms:W3CDTF">2008-02-15T15:49:58Z</dcterms:modified>
  <cp:revision>2</cp:revision>
  <dc:subject/>
  <dc:title>Favelização em</dc:title>
</cp:coreProperties>
</file>