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rnesto%20Cortazar%20Lovers_in_the_DarkM1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1D2-372C-46C1-8FB7-393FB4F2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A81-AEDD-45BB-BFBC-558C4774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B05-E7AB-436B-8F63-487DB5DC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B90-6857-408D-8058-965C3D80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D1A-35FF-4CF9-9D13-B3E6B86C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A16-3DDF-42D1-82EE-4CD895EE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E58-1814-4367-AE5B-5FA68960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24A-2120-4D6B-88C0-E75CEA57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BEF-3E3C-4319-9F23-95E075F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A3B-89CB-4266-B2F2-2403C55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936-E3AE-4E17-BD75-160B6F06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20E-B834-423A-BFE0-D96C96BA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Times New Roman"/>
              </a:rPr>
              <a:t>Ria Sl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48AF-920B-4138-900E-D759E0C9F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rnesto%20Cortazar%20Lovers_in_the_DarkM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riaellw@globo.com" TargetMode="External"/><Relationship Id="rId2" Type="http://schemas.openxmlformats.org/officeDocument/2006/relationships/hyperlink" Target="http://flori_jane.sites.uol.com.br/index.htm" TargetMode="External"/><Relationship Id="rId3" Type="http://schemas.openxmlformats.org/officeDocument/2006/relationships/hyperlink" Target="http://flori_jane.sites.uol.com.br/index.htm" TargetMode="External"/><Relationship Id="rId4" Type="http://schemas.openxmlformats.org/officeDocument/2006/relationships/hyperlink" Target="http://flori_jane.sites.uol.com.br/index.htm" TargetMode="External"/><Relationship Id="rId5" Type="http://schemas.openxmlformats.org/officeDocument/2006/relationships/hyperlink" Target="http://flori_jane.sites.uol.com.br/index.ht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a empresa estava a contratar um                 novo funcionário.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a parte do exame de selecção consistia em responder à seguinte questão, por escrit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2095200" cy="162864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000000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36572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 talvez não pudesse encontrar mais o amor da               sua vida se deixasse passar a chanc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85080" cy="295416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 advTm="8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4000" y="476280"/>
            <a:ext cx="830556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 dos 200 candidatos deu uma resposta                que foi decisiva para a sua contratação.                                E ele nem precisou de a expli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QUE É QUE ELE DISS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888000" cy="32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ivinh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9907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 simplesmente responde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249228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Daria a chave do carro ao médico.       Deixaria que ele levasse a  senhora doente para o hospital e ficaria à espera do autocarr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com a mulher dos meus sonho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67652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ÀS VEZES                                                    GANHARÍAMOS MUITO MAIS                                                  SE ESTIVÉSSEMOS DISPOSTOS                                                A ABRIR MÃO DE NOSSAS                                              TEIMOSAS LIMITAÇÕ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5445000"/>
            <a:ext cx="5040360" cy="1371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utor do Slide: Ria Ellwanger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iaellw@globo.com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Autor do Texto: Desconheç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Música: Ernesto Cortazar – Lovers in the Dark                                                                                                                               Imagens: Getty Images                                                                                      Este slide é exclusivo de: 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flori_jane.sites.uol.com.br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index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038480"/>
            <a:ext cx="883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 noite de tempesta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4864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á a conduzir o seu carro com dificulda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991560" cy="499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71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71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9625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96252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o passar por uma paragem de autocarro, vê que o veículo passa sem parar, ignorando           as três pessoas encharcadas que ali        aguardam transpo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4221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ca que essas pessoa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869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– Uma  senhora precisando de ser hospitalizada ;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5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- Um médico que salvou sua vida no passado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950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- O grande amor da sua vid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3743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26708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eu carro só cabe você e mais uma pesso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8164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m escolh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303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favor justifique a sua respo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5184720" cy="3701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41497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se antes de continuar.                                       Este é um tipo de teste de personalidade.           Cada resposta tem a sua razão de 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85080" cy="295416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4292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eria transportar a senhora doente.                                     Ficaria com a consciência tranqüi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85080" cy="295416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 advTm="7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86064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 escolher o médico, porque ele, uma vez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vou a sua vida.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72428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a a oportunidade perfeita para demonstr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a gratidão.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185080" cy="295416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 spd="slow" advTm="12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13:40:16Z</dcterms:created>
  <dc:creator>Ria Ellwanger     riaellw@globo.com</dc:creator>
  <dc:description/>
  <dc:language>en-US</dc:language>
  <cp:lastModifiedBy>DINFA</cp:lastModifiedBy>
  <dcterms:modified xsi:type="dcterms:W3CDTF">2005-11-23T11:35:05Z</dcterms:modified>
  <cp:revision>16</cp:revision>
  <dc:subject>Categoria: Reflexão</dc:subject>
  <dc:title>Escolha</dc:title>
</cp:coreProperties>
</file>