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Ernesto%20Cortazar%20Lovers_in_the_DarkM1.wav" ContentType="audio/x-wav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C7D4-F99A-46CF-A96B-B10500B3C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0188-899D-431D-978A-80D061BC0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6086-5874-47F2-82AB-C4CB7074D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27F1-A12C-4EB1-A23B-8ABFF1348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802C-6FD3-4697-879C-837B5CEE5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4129-D03F-4F6A-A7D1-710CEB648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0045-7CAC-43D4-A8A8-E3AE178BA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F1C4-E6D4-4BDD-826B-4409DD544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10AF-D34B-4D0B-8850-9C8338D23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8DDC-FBDB-43A6-A5AA-494C7B78E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C9A3-F273-43E2-945F-7AD12B815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1788-2449-42DD-B6AA-ED480AF95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0" y="6597360"/>
            <a:ext cx="9144000" cy="260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Times New Roman"/>
              </a:rPr>
              <a:t>Ria Slid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B2228-A0BD-473E-AAD2-8DA4719AE1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Ernesto%20Cortazar%20Lovers_in_the_DarkM1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riaellw@globo.com" TargetMode="External"/><Relationship Id="rId2" Type="http://schemas.openxmlformats.org/officeDocument/2006/relationships/hyperlink" Target="http://flori_jane.sites.uol.com.br/index.htm" TargetMode="External"/><Relationship Id="rId3" Type="http://schemas.openxmlformats.org/officeDocument/2006/relationships/hyperlink" Target="http://flori_jane.sites.uol.com.br/index.htm" TargetMode="External"/><Relationship Id="rId4" Type="http://schemas.openxmlformats.org/officeDocument/2006/relationships/hyperlink" Target="http://flori_jane.sites.uol.com.br/index.htm" TargetMode="External"/><Relationship Id="rId5" Type="http://schemas.openxmlformats.org/officeDocument/2006/relationships/hyperlink" Target="http://flori_jane.sites.uol.com.br/index.htm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75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762120"/>
            <a:ext cx="8305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ma empresa estava a contratar um                 novo funcionário.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4197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ma parte do exame de selecção consistia em responder à seguinte questão, por escrito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419640" y="2421000"/>
            <a:ext cx="2095200" cy="1628640"/>
          </a:xfrm>
          <a:prstGeom prst="rect">
            <a:avLst/>
          </a:prstGeom>
          <a:ln w="0">
            <a:noFill/>
          </a:ln>
          <a:effectLst>
            <a:outerShdw dist="56832" dir="7003641" blurRad="0" rotWithShape="0">
              <a:srgbClr val="000000"/>
            </a:outerShdw>
          </a:effectLst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4365720"/>
            <a:ext cx="91440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s talvez não pudesse encontrar mais o amor da               sua vida se deixasse passar a chanc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050920" y="549360"/>
            <a:ext cx="5185080" cy="2954160"/>
          </a:xfrm>
          <a:prstGeom prst="rect">
            <a:avLst/>
          </a:prstGeom>
          <a:ln w="38160">
            <a:solidFill>
              <a:srgbClr val="ff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p:transition spd="slow" advTm="8000"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75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24000" y="476280"/>
            <a:ext cx="8305560" cy="17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m dos 200 candidatos deu uma resposta                que foi decisiva para a sua contratação.                                E ele nem precisou de a explic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5300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 QUE É QUE ELE DISSE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627280" y="1989000"/>
            <a:ext cx="3888000" cy="3240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3" name=""/>
          <p:cNvSpPr/>
          <p:nvPr/>
        </p:nvSpPr>
        <p:spPr>
          <a:xfrm>
            <a:off x="0" y="57913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ivinh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2000">
    <p:fad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0"/>
                            </p:stCondLst>
                            <p:childTnLst>
                              <p:par>
                                <p:cTn id="125" nodeType="afterEffect" fill="hold" presetClass="entr" presetID="5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75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04920" y="99072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le simplesmente respondeu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2492280"/>
            <a:ext cx="8305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"Daria a chave do carro ao médico.       Deixaria que ele levasse a  senhora doente para o hospital e ficaria à espera do autocarro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 com a mulher dos meus sonhos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fad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75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1676520"/>
            <a:ext cx="914400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2400"/>
            </a:b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ÀS VEZES                                                    GANHARÍAMOS MUITO MAIS                                                  SE ESTIVÉSSEMOS DISPOSTOS                                                A ABRIR MÃO DE NOSSAS                                              TEIMOSAS LIMITAÇÕ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124000" y="5445000"/>
            <a:ext cx="5040360" cy="13716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utor do Slide: Ria Ellwanger  </a:t>
            </a:r>
            <a:r>
              <a:rPr b="0" lang="pt-BR" sz="1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riaellw@globo.com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Autor do Texto: Desconheço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Música: Ernesto Cortazar – Lovers in the Dark                                                                                                                               Imagens: Getty Images                                                                                      Este slide é exclusivo de:  </a:t>
            </a:r>
            <a:r>
              <a:rPr b="0" lang="pt-BR" sz="1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</a:t>
            </a:r>
            <a:r>
              <a:rPr b="0" lang="pt-BR" sz="12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flori_jane.sites.uol.com.br</a:t>
            </a:r>
            <a:r>
              <a:rPr b="0" lang="pt-BR" sz="12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/</a:t>
            </a:r>
            <a:r>
              <a:rPr b="0" lang="pt-BR" sz="12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index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4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97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4038480"/>
            <a:ext cx="88390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É noite de tempesta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548640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tá a conduzir o seu carro com dificulda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042920" y="549360"/>
            <a:ext cx="6991560" cy="49910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24280" cy="3716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648320" y="0"/>
            <a:ext cx="4495680" cy="3716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80880" y="39625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3962520"/>
            <a:ext cx="7848720" cy="17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o passar por uma paragem de autocarro, vê que o veículo passa sem parar, ignorando           as três pessoas encharcadas que ali        aguardam transpor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9640" y="42210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erifica que essas pessoas sã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48690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– Uma  senhora precisando de ser hospitalizada ;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54450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 - Um médico que salvou sua vida no passado;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9640" y="59500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- O grande amor da sua vida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642160" cy="37432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000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4267080"/>
            <a:ext cx="821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seu carro só cabe você e mais uma pesso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481644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em escolhe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55640" y="53038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r favor justifique a sua respos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79640" y="549360"/>
            <a:ext cx="5184720" cy="37018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5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4000"/>
                            </p:stCondLst>
                            <p:childTnLst>
                              <p:par>
                                <p:cTn id="77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4360" y="4149720"/>
            <a:ext cx="8076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nse antes de continuar.                                       Este é um tipo de teste de personalidade.           Cada resposta tem a sua razão de s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050920" y="549360"/>
            <a:ext cx="5185080" cy="2954160"/>
          </a:xfrm>
          <a:prstGeom prst="rect">
            <a:avLst/>
          </a:prstGeom>
          <a:ln w="38160">
            <a:solidFill>
              <a:srgbClr val="ff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p:transition spd="slow" advTm="8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39640" y="429264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deria transportar a senhora doente.                                     Ficaria com a consciência tranqüil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050920" y="549360"/>
            <a:ext cx="5185080" cy="2954160"/>
          </a:xfrm>
          <a:prstGeom prst="rect">
            <a:avLst/>
          </a:prstGeom>
          <a:ln w="38160">
            <a:solidFill>
              <a:srgbClr val="ff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p:transition spd="slow" advTm="7000">
    <p:fad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3860640"/>
            <a:ext cx="91440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 escolher o médico, porque ele, uma vez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lvou a sua vida.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4724280"/>
            <a:ext cx="91440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ria a oportunidade perfeita para demonstrar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sua gratidão.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050920" y="549360"/>
            <a:ext cx="5185080" cy="2954160"/>
          </a:xfrm>
          <a:prstGeom prst="rect">
            <a:avLst/>
          </a:prstGeom>
          <a:ln w="38160">
            <a:solidFill>
              <a:srgbClr val="ff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p:transition spd="slow" advTm="12000">
    <p:fad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5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7T13:40:16Z</dcterms:created>
  <dc:creator>Ria Ellwanger     riaellw@globo.com</dc:creator>
  <dc:description/>
  <dc:language>en-US</dc:language>
  <cp:lastModifiedBy>DINFA</cp:lastModifiedBy>
  <dcterms:modified xsi:type="dcterms:W3CDTF">2005-11-23T11:35:05Z</dcterms:modified>
  <cp:revision>16</cp:revision>
  <dc:subject>Categoria: Reflexão</dc:subject>
  <dc:title>Escolha</dc:title>
</cp:coreProperties>
</file>