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4.jpeg" ContentType="image/jpeg"/>
  <Override PartName="/ppt/media/Japanart002-Sakura-732kb.wav" ContentType="audio/x-wav"/>
  <Override PartName="/ppt/media/image2.jpeg" ContentType="image/jpeg"/>
  <Override PartName="/ppt/media/image3.png" ContentType="image/png"/>
  <Override PartName="/ppt/media/image6.jpeg" ContentType="image/jpeg"/>
  <Override PartName="/ppt/media/image12.jpeg" ContentType="image/jpeg"/>
  <Override PartName="/ppt/media/image10.gif" ContentType="image/gif"/>
  <Override PartName="/ppt/media/image1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BE1-A023-4E4F-8B8D-AE9B3DD3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A1B-11C4-41E6-A26F-8A0DAD48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D73-D9E1-435B-AC36-8B91E0F2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93E-49AA-4E73-80E4-6A0B53B3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88A-6548-43C2-9DC9-0E0A03A7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39A-D59C-4A9E-AA69-3C546889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10F-174A-485D-9B4D-C755D3AB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8A5-2536-4BA8-9521-616DC50E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701-6207-48D7-AE91-35EBE1E3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851-7B93-437F-8BE9-0B52BD9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564-2658-4973-9622-9256C95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D78-284B-46BD-B1B9-023AC3B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E180-8441-4C5F-865A-42D0475BA0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panart002-Sakura-732kb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000" y="2707920"/>
            <a:ext cx="4724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História da r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não sa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estava sendo coz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95280" y="907920"/>
            <a:ext cx="367200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311640" cy="1941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1542960" cy="154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162864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a mesma rã tivesse sido lançada diretamente na água a 50 gra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um golpe de pernas ela teria pulado imediatamente para fora da p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1989000"/>
            <a:ext cx="62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mostra 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a mudança acontece de um modo suficientemente l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pa à consciência e não desper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maior parte dos cas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ção algu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osição alguma, ou, alguma revo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2484360" y="620640"/>
            <a:ext cx="4140360" cy="31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00000" y="400536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ós olharmos para o que tem acontecido em nossa sociedade desde há algumas décadas, podemos ver que nós estamos sofrendo uma lenta mudança no modo de viv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 qual nós estamos nos acostumando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249228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quantidade de coisas que nos teriam feito horrorizar 20, 30 ou 40 anos atrá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am pouco a pouco banalizadas e, ho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nas incomodam ou deixam completamente indiferente a maior parte das pesso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177336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nome do progresso, da ciência e do luc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efetuados ataques contínu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s liberdades individu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 dignidade, à integridade da naturez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 beleza e à alegria de viv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etuados lentamente, mas inexoravel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a constante cumplicidade das vít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avisadas e, agora, incapazes de se defenderem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2276640"/>
            <a:ext cx="741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previsões para nosso futu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vez de despertar reações e medidas preventivas, não fazem outra coisa a não ser a de preparar psicologicamente as pessoas a aceitarem algumas condições de vida decadentes, aliás, dramá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79640" y="25653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artelar contínuo de informaç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a mídia, satura os cérebr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não podem mais distinguir as cois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eu falei pela primeira vez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tas coisas,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ra para um amanhã.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gora, é para hoje!!!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1844640"/>
            <a:ext cx="662472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ciência, ou coz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ecisa escol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1640" y="1484280"/>
            <a:ext cx="4343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 alegoria da Caverna de Platão a Matrix, passando pelas fábulas de La Fontaine, a linguagem simbólica é um meio privilegiado para induzir à reflexão e transmitir algum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livier Clerc, nesta sua breve história, através da  metáfora, põe em evidência as fun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eqüências da não consciência da mudança que infeta nossa saúde, nossas relações, a evolução social e o amb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 resumo de vida e sabedoria que cada um poderá plantar no próprio jardim, para desfrutar de seus fr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1476360" y="1413000"/>
            <a:ext cx="153504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95280" y="3789360"/>
            <a:ext cx="34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livier Clerc, nascido em 1961 na cidade de Genebra, na Suíça, é escritor, editor, tradutor e conselheiro editorial especializado nas áreas de saúde, desenvolvimento pessoal, espiritualidade e relações humanas. É também autor de Médecine, religion et peur (1999) e Tigre et l’Araignée: les deux visages de la violence (200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2360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 você não está, como a rã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já meio cozido, dê um saudável golpe de pernas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es que seja tarde dema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1526" t="13544" r="12581" b="13365"/>
          <a:stretch/>
        </p:blipFill>
        <p:spPr>
          <a:xfrm>
            <a:off x="2627280" y="3429000"/>
            <a:ext cx="410544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513072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ÓS JÁ ESTAMOS MEIO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OZIDOS? 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U NÃ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27640" y="836640"/>
            <a:ext cx="2432160" cy="439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92360" y="5805360"/>
            <a:ext cx="5976720" cy="3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RIGADO, SE DIVULGAR EST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458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r, meditar e encaminha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cruelmente ver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2743200" cy="209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1916280"/>
            <a:ext cx="60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ine uma panela cheia de água fria, na qual nada, tranquila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pequena rã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267080" cy="28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124000" y="1341360"/>
            <a:ext cx="529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equeno fogo é aceso embaixo da panela, e a água se esquenta muito len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5720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(Fiquem vendo: se a água se esquenta muito lentamente, a râ não se apercebe de nada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68560" cy="248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1773360"/>
            <a:ext cx="61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o a pouco, a água fica mor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a rã, achando isso bastante agradável, continua a nad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421080" cy="336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332000" y="155736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emperatura da água continua subin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3059280" y="2997360"/>
            <a:ext cx="296856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979640" y="692280"/>
            <a:ext cx="5076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ora, a água está quente mais do que a rã pode aprecia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a se sente um pouco cansada, mas, não obstante is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se amedronta.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2268360" y="3789360"/>
            <a:ext cx="4724640" cy="189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476360" y="191628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ora, a água está realmente qu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a rã começa a achar desagradá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está muito debilita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, suporta e não faz 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2340000" y="3357720"/>
            <a:ext cx="4495680" cy="25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971640" y="1916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emperatura continua a sub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é quando a rã acaba simplesmente cozida e m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4:36:13Z</dcterms:created>
  <dc:creator>Philou</dc:creator>
  <dc:description/>
  <dc:language>en-US</dc:language>
  <cp:lastModifiedBy>Carlos Xavier</cp:lastModifiedBy>
  <dcterms:modified xsi:type="dcterms:W3CDTF">2009-03-31T02:34:45Z</dcterms:modified>
  <cp:revision>33</cp:revision>
  <dc:subject/>
  <dc:title>HISTOIRE DE LA GRENOUILLE </dc:title>
</cp:coreProperties>
</file>