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4.jpeg" ContentType="image/jpeg"/>
  <Override PartName="/ppt/media/Japanart002-Sakura-732kb.wav" ContentType="audio/x-wav"/>
  <Override PartName="/ppt/media/image2.jpeg" ContentType="image/jpeg"/>
  <Override PartName="/ppt/media/image3.png" ContentType="image/png"/>
  <Override PartName="/ppt/media/image6.jpeg" ContentType="image/jpeg"/>
  <Override PartName="/ppt/media/image12.jpeg" ContentType="image/jpeg"/>
  <Override PartName="/ppt/media/image10.gif" ContentType="image/gif"/>
  <Override PartName="/ppt/media/image13.png" ContentType="image/png"/>
  <Override PartName="/ppt/media/image1.jpeg" ContentType="image/jpeg"/>
  <Override PartName="/ppt/media/image7.png" ContentType="image/png"/>
  <Override PartName="/ppt/media/image5.png" ContentType="image/png"/>
  <Override PartName="/ppt/media/image8.jpeg" ContentType="image/jpe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0B20-365B-4F60-AE08-FBDEAC4BE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3479-1EE0-46CD-915F-2CA147BF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EE70-D1D9-43B3-BC0C-03EC834F1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3E69-C462-45FF-B432-961685D0C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AA38-042D-405D-8AB1-E4E1274B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DC63-82F9-4B23-BB65-509B64AD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4DDE-3C50-4DEF-BC70-5677F8E5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70AF-78B9-40DE-9125-5341762E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1553-513D-4412-88C4-1980A81B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B8D1-0351-4091-9B14-CF5F4A29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DCBB-8D91-4983-ACAA-097CE50F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D73B-330E-4B39-B84B-B4394898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2f"/>
            </a:gs>
            <a:gs pos="50000">
              <a:srgbClr val="ccff66"/>
            </a:gs>
            <a:gs pos="100000">
              <a:srgbClr val="5e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C073-D73E-4275-A061-7B986D406D9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apanart002-Sakura-732kb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2f"/>
            </a:gs>
            <a:gs pos="50000">
              <a:srgbClr val="ccff66"/>
            </a:gs>
            <a:gs pos="100000">
              <a:srgbClr val="5e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924000" y="2707920"/>
            <a:ext cx="47242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História da r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e não sab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e estava sendo coz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395280" y="907920"/>
            <a:ext cx="3672000" cy="482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2f"/>
            </a:gs>
            <a:gs pos="50000">
              <a:srgbClr val="ccff66"/>
            </a:gs>
            <a:gs pos="100000">
              <a:srgbClr val="5e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68360" y="2924280"/>
            <a:ext cx="3311640" cy="1941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403280" y="4724280"/>
            <a:ext cx="1542960" cy="1543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763640" y="1628640"/>
            <a:ext cx="59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a mesma rã tivesse sido lançada diretamente na água a 50 grau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 um golpe de pernas ela teria pulado imediatamente para fora da pane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2f"/>
            </a:gs>
            <a:gs pos="50000">
              <a:srgbClr val="ccff66"/>
            </a:gs>
            <a:gs pos="100000">
              <a:srgbClr val="5e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19280" y="1989000"/>
            <a:ext cx="6265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sto mostra qu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uma mudança acontece de um modo suficientemente lent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capa à consciência e não despert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 maior parte dos cas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ação algum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osição alguma, ou, alguma revol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2f"/>
            </a:gs>
            <a:gs pos="50000">
              <a:srgbClr val="ccff66"/>
            </a:gs>
            <a:gs pos="100000">
              <a:srgbClr val="5e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2484360" y="620640"/>
            <a:ext cx="4140360" cy="317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900000" y="4005360"/>
            <a:ext cx="72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nós olharmos para o que tem acontecido em nossa sociedade desde há algumas décadas, podemos ver que nós estamos sofrendo uma lenta mudança no modo de viv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a qual nós estamos nos acostumando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2f"/>
            </a:gs>
            <a:gs pos="50000">
              <a:srgbClr val="ccff66"/>
            </a:gs>
            <a:gs pos="100000">
              <a:srgbClr val="5e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16000" y="2492280"/>
            <a:ext cx="69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quantidade de coisas que nos teriam feito horrorizar 20, 30 ou 40 anos atrá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ram pouco a pouco banalizadas e, hoj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enas incomodam ou deixam completamente indiferente a maior parte das pesso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2f"/>
            </a:gs>
            <a:gs pos="50000">
              <a:srgbClr val="ccff66"/>
            </a:gs>
            <a:gs pos="100000">
              <a:srgbClr val="5e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68360" y="1773360"/>
            <a:ext cx="835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nome do progresso, da ciência e do lucr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efetuados ataques contínu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às liberdades individuai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à dignidade, à integridade da naturez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à beleza e à alegria de viver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fetuados lentamente, mas inexoravelmen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 a constante cumplicidade das vítima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avisadas e, agora, incapazes de se defenderem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2f"/>
            </a:gs>
            <a:gs pos="50000">
              <a:srgbClr val="ccff66"/>
            </a:gs>
            <a:gs pos="100000">
              <a:srgbClr val="5e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00000" y="2276640"/>
            <a:ext cx="741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previsões para nosso futur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vez de despertar reações e medidas preventivas, não fazem outra coisa a não ser a de preparar psicologicamente as pessoas a aceitarem algumas condições de vida decadentes, aliás, dramá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2f"/>
            </a:gs>
            <a:gs pos="50000">
              <a:srgbClr val="ccff66"/>
            </a:gs>
            <a:gs pos="100000">
              <a:srgbClr val="5e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79640" y="2565360"/>
            <a:ext cx="59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martelar contínuo de informaçõ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la mídia, satura os cérebr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e não podem mais distinguir as coisa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2f"/>
            </a:gs>
            <a:gs pos="50000">
              <a:srgbClr val="ccff66"/>
            </a:gs>
            <a:gs pos="100000">
              <a:srgbClr val="5e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uando eu falei pela primeira vez 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stas coisas, 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ra para um amanhã.</a:t>
            </a:r>
            <a:br>
              <a:rPr sz="5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2f"/>
            </a:gs>
            <a:gs pos="50000">
              <a:srgbClr val="ccff66"/>
            </a:gs>
            <a:gs pos="100000">
              <a:srgbClr val="5e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Agora, é para hoje!!!</a:t>
            </a: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2f"/>
            </a:gs>
            <a:gs pos="50000">
              <a:srgbClr val="ccff66"/>
            </a:gs>
            <a:gs pos="100000">
              <a:srgbClr val="5e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476360" y="1844640"/>
            <a:ext cx="6624720" cy="31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onsciência, ou cozid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precisa escolhe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2f"/>
            </a:gs>
            <a:gs pos="50000">
              <a:srgbClr val="ccff66"/>
            </a:gs>
            <a:gs pos="100000">
              <a:srgbClr val="5e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211640" y="1484280"/>
            <a:ext cx="43434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a alegoria da Caverna de Platão a Matrix, passando pelas fábulas de La Fontaine, a linguagem simbólica é um meio privilegiado para induzir à reflexão e transmitir algumas idé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livier Clerc, nesta sua breve história, através da  metáfora, põe em evidência as fune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nseqüências da não consciência da mudança que infeta nossa saúde, nossas relações, a evolução social e o ambi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m resumo de vida e sabedoria que cada um poderá plantar no próprio jardim, para desfrutar de seus fru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1476360" y="1413000"/>
            <a:ext cx="1535040" cy="187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395280" y="3789360"/>
            <a:ext cx="3456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Olivier Clerc, nascido em 1961 na cidade de Genebra, na Suíça, é escritor, editor, tradutor e conselheiro editorial especializado nas áreas de saúde, desenvolvimento pessoal, espiritualidade e relações humanas. É também autor de Médecine, religion et peur (1999) e Tigre et l’Araignée: les deux visages de la violence (2004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2f"/>
            </a:gs>
            <a:gs pos="50000">
              <a:srgbClr val="ccff66"/>
            </a:gs>
            <a:gs pos="100000">
              <a:srgbClr val="5e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0000" y="1700280"/>
            <a:ext cx="72360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ão,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e você não está, como a rã,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já meio cozido, dê um saudável golpe de pernas,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tes que seja tarde demai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11526" t="13544" r="12581" b="13365"/>
          <a:stretch/>
        </p:blipFill>
        <p:spPr>
          <a:xfrm>
            <a:off x="2627280" y="3429000"/>
            <a:ext cx="4105440" cy="24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2f"/>
            </a:gs>
            <a:gs pos="50000">
              <a:srgbClr val="ccff66"/>
            </a:gs>
            <a:gs pos="100000">
              <a:srgbClr val="5e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640" y="1628640"/>
            <a:ext cx="5130720" cy="28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ÓS JÁ ESTAMOS MEIO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COZIDOS? </a:t>
            </a:r>
            <a:br>
              <a:rPr sz="3200"/>
            </a:b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U NÃO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227640" y="836640"/>
            <a:ext cx="2432160" cy="4392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692360" y="5805360"/>
            <a:ext cx="5976720" cy="368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BRIGADO, SE DIVULGAR ESTA MENSA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42920" y="4581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er, meditar e encaminha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cruelmente verd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2f"/>
            </a:gs>
            <a:gs pos="50000">
              <a:srgbClr val="ccff66"/>
            </a:gs>
            <a:gs pos="100000">
              <a:srgbClr val="5e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76720" y="3500280"/>
            <a:ext cx="2743200" cy="2097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92360" y="1916280"/>
            <a:ext cx="604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agine uma panela cheia de água fria, na qual nada, tranquilamen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pequena rã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2f"/>
            </a:gs>
            <a:gs pos="50000">
              <a:srgbClr val="ccff66"/>
            </a:gs>
            <a:gs pos="100000">
              <a:srgbClr val="5e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3357720"/>
            <a:ext cx="4267080" cy="281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2124000" y="1341360"/>
            <a:ext cx="529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pequeno fogo é aceso embaixo da panela, e a água se esquenta muito lent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4572000"/>
            <a:ext cx="3429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(Fiquem vendo: se a água se esquenta muito lentamente, a râ não se apercebe de nada!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2f"/>
            </a:gs>
            <a:gs pos="50000">
              <a:srgbClr val="ccff66"/>
            </a:gs>
            <a:gs pos="100000">
              <a:srgbClr val="5e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700360" y="3357720"/>
            <a:ext cx="3868560" cy="2487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47640" y="1773360"/>
            <a:ext cx="61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uco a pouco, a água fica morn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a rã, achando isso bastante agradável, continua a nada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2f"/>
            </a:gs>
            <a:gs pos="50000">
              <a:srgbClr val="ccff66"/>
            </a:gs>
            <a:gs pos="100000">
              <a:srgbClr val="5e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71640" y="2637000"/>
            <a:ext cx="3421080" cy="3362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332000" y="1557360"/>
            <a:ext cx="59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temperatura da água continua subind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2f"/>
            </a:gs>
            <a:gs pos="50000">
              <a:srgbClr val="ccff66"/>
            </a:gs>
            <a:gs pos="100000">
              <a:srgbClr val="5e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contrast="-24000"/>
          </a:blip>
          <a:stretch/>
        </p:blipFill>
        <p:spPr>
          <a:xfrm>
            <a:off x="3059280" y="2997360"/>
            <a:ext cx="2968560" cy="329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1979640" y="692280"/>
            <a:ext cx="50767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gora, a água está quente mais do que a rã pode apreciar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a se sente um pouco cansada, mas, não obstante iss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ão se amedronta.</a:t>
            </a:r>
            <a:r>
              <a:rPr b="0" lang="fr-FR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2f"/>
            </a:gs>
            <a:gs pos="50000">
              <a:srgbClr val="ccff66"/>
            </a:gs>
            <a:gs pos="100000">
              <a:srgbClr val="5e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contrast="-24000"/>
          </a:blip>
          <a:stretch/>
        </p:blipFill>
        <p:spPr>
          <a:xfrm>
            <a:off x="2268360" y="3789360"/>
            <a:ext cx="4724640" cy="189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1476360" y="1916280"/>
            <a:ext cx="61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ora, a água está realmente quen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a rã começa a achar desagradáve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s está muito debilitad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ão, suporta e não faz 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2f"/>
            </a:gs>
            <a:gs pos="50000">
              <a:srgbClr val="ccff66"/>
            </a:gs>
            <a:gs pos="100000">
              <a:srgbClr val="5e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contrast="-36000"/>
          </a:blip>
          <a:stretch/>
        </p:blipFill>
        <p:spPr>
          <a:xfrm>
            <a:off x="2340000" y="3357720"/>
            <a:ext cx="4495680" cy="257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971640" y="191628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temperatura continua a subi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é quando a rã acaba simplesmente cozida e mor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4:36:13Z</dcterms:created>
  <dc:creator>Philou</dc:creator>
  <dc:description/>
  <dc:language>en-US</dc:language>
  <cp:lastModifiedBy>Carlos Xavier</cp:lastModifiedBy>
  <dcterms:modified xsi:type="dcterms:W3CDTF">2009-03-31T02:34:45Z</dcterms:modified>
  <cp:revision>33</cp:revision>
  <dc:subject/>
  <dc:title>HISTOIRE DE LA GRENOUILLE </dc:title>
</cp:coreProperties>
</file>