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Chopin%20-%20Tristesse%20(piano).wav" ContentType="audio/x-wav"/>
  <Override PartName="/ppt/media/image1.png" ContentType="image/png"/>
  <Override PartName="/ppt/media/image1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95FF-E817-4027-B160-4BAC5E828B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5130-3545-49F2-8D67-DEEE615679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2697-57EA-496D-8C2A-6E114E29A5A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D134-F1C7-4793-9315-1F723E21787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371-A4E3-4F16-B007-71499723325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A08B-7F9C-4F61-B3C0-3F3CCF9E616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94AE-BECD-42EB-B666-65E3D10E3F2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99C2-A572-4CF4-84E0-F670F07171C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4729-1040-4F43-BADE-2C41DAD9AF9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616D-BDDE-4535-91BF-D5CAFCEC7EF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C35F-0983-485B-B470-75DBB7D7991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BCE-C7F9-4888-8DB7-CBCD7B91A2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376C-1A83-460A-8BA4-3F4CBCAFE0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7026-838C-4F55-ACED-046E680A50B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B866-8D63-4194-9ED6-06377DAF676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BA36-A629-4E83-83FF-A14910C634C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2F34-7517-49D3-AE43-268688467EA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4AA8-5A48-4FE6-9C0D-229172C9F8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498-301A-49B0-945A-AAD1D904A73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061E-16E7-42D4-B618-F8445102D17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5F0D-DE66-433C-B7BA-27FA40A555A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740E-C5FB-4539-BF7D-90F983FE39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0CF7-E153-442C-A481-A30D87263F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10E-D94D-4834-8150-3E3252DFF6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51D8-1F39-42EB-9E4D-259A07A88B5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AD0-491D-41AB-BC35-983CE71DD4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8BE-1196-4860-97F4-C3F6D28BFA5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91FB-5DA4-4573-BEC8-84D0D6348FB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F94C-7D29-48B4-850A-5B1F7F9BA28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3AD0-EA78-46F5-BD4F-4EA31C4AE76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5EEC-4CDF-4EDE-88A6-DA15AC9C94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09E7-FA5E-4681-A9C8-06E650C628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CC19-418D-4434-9CD0-2D69A7894F0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BDC2-5305-4E3A-8D1E-534EAFDDBE7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5C07-0AC8-4D20-8B77-C852A61EF53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8854-91FC-48D5-ADCC-24C5590006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997B-3AD3-4B5E-AD62-0CFCE79C47C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BCA-7B3A-400B-9351-6D2BA401348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A85B-44DE-46AE-89E5-74C59BB46C8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912C-CB1D-4B9A-8702-DBF39BF68DE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D661-7FFF-49BC-B53B-C7BEDA7D74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2AD7-B3A5-4435-BE84-1BCB21F895D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257-FF9D-4A9B-9662-0ACDDE83553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FF34-DDB2-45B7-8213-CEA407B8DC0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3E0D-79A1-483B-A44A-339F98D0E85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09E-3323-4DC7-B915-50F6F21B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3CE-9458-4E3C-938C-6A946E31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763-326E-47EB-BE92-A7034F30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7D9B-D96C-4B59-A569-5304F96F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61F-7253-4AF4-973B-532EEB37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56F5-B839-4BE0-919D-6673B4CE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1889-D8E0-4EA2-B97D-F4509E68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362A-2D43-4C61-B877-5EBFFA7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8065-DE34-4C96-8D5B-035239E0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95FC-2201-47BC-AA4A-3E6B1E21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5492-9B22-4078-9115-DA9EA05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9AB-BCBB-4654-9A7F-2E95984E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93A7-BDB9-4A7A-BD4E-9BAA270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8F42-8E24-4E3F-8016-4EC9168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1A32-DC25-4963-A925-BBD7C6D7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D6E9-DED0-4631-909D-6EFB34D5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924-48FB-4DB1-AAD5-ABB6DF33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507-7BB1-49BA-8ECF-37D06568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8E4-6026-4E43-86DA-6EEB6709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1AD-CDE3-4069-9C08-F484E72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33F-48FE-4426-8386-4EAAC87A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535-C0A5-4AB5-BEC9-BA28C5AF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673-DD99-4BBC-85E4-809A7C3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015-30FE-4806-8FBD-F2C7DA0E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7AF6-6662-4316-8C9C-5BC0F438DA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99"/>
          </a:soli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666699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66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BAF3-1602-4A33-B14F-7817C4F3E5AA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611280" y="2781360"/>
            <a:ext cx="7848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atciems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 paraíso desconhecido da Letônia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 Imagen" descr="10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8 Imagen" descr="2.jpg"/>
          <p:cNvPicPr/>
          <p:nvPr/>
        </p:nvPicPr>
        <p:blipFill>
          <a:blip r:embed="rId1"/>
          <a:stretch/>
        </p:blipFill>
        <p:spPr>
          <a:xfrm>
            <a:off x="0" y="571680"/>
            <a:ext cx="916452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1 Rectángulo"/>
          <p:cNvSpPr/>
          <p:nvPr/>
        </p:nvSpPr>
        <p:spPr>
          <a:xfrm>
            <a:off x="428760" y="3357720"/>
            <a:ext cx="835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ão utilizados três tipos de estruturas - esquadrias 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eira, troncos e alvenaria que complementa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fachadas de pedra natural, madeira compensad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orativa, gesso ou cristal pintado nas paredes exterior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Imagen" descr="9.jpg"/>
          <p:cNvPicPr/>
          <p:nvPr/>
        </p:nvPicPr>
        <p:blipFill>
          <a:blip r:embed="rId1"/>
          <a:stretch/>
        </p:blipFill>
        <p:spPr>
          <a:xfrm>
            <a:off x="0" y="50004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9 Imagen" descr="4.jpg"/>
          <p:cNvPicPr/>
          <p:nvPr/>
        </p:nvPicPr>
        <p:blipFill>
          <a:blip r:embed="rId1"/>
          <a:stretch/>
        </p:blipFill>
        <p:spPr>
          <a:xfrm>
            <a:off x="0" y="500040"/>
            <a:ext cx="912960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Rectángulo"/>
          <p:cNvSpPr/>
          <p:nvPr/>
        </p:nvSpPr>
        <p:spPr>
          <a:xfrm>
            <a:off x="928800" y="3214800"/>
            <a:ext cx="72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conceito de cada casa se permite quatr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pos de coberturas - telhados de palha, troncos talhados, cerâmica o telhas de cimento. Isto não quer dizer que estão limitados em sua escolha. As novas idéias são sempre bem-vindas…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 Imagen" descr="5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 Imagen" descr="8.jpg"/>
          <p:cNvPicPr/>
          <p:nvPr/>
        </p:nvPicPr>
        <p:blipFill>
          <a:blip r:embed="rId1"/>
          <a:stretch/>
        </p:blipFill>
        <p:spPr>
          <a:xfrm>
            <a:off x="0" y="64296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6.jpg"/>
          <p:cNvPicPr/>
          <p:nvPr/>
        </p:nvPicPr>
        <p:blipFill>
          <a:blip r:embed="rId1"/>
          <a:stretch/>
        </p:blipFill>
        <p:spPr>
          <a:xfrm>
            <a:off x="0" y="64296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 Imagen" descr="15.jpg"/>
          <p:cNvPicPr/>
          <p:nvPr/>
        </p:nvPicPr>
        <p:blipFill>
          <a:blip r:embed="rId1"/>
          <a:stretch/>
        </p:blipFill>
        <p:spPr>
          <a:xfrm>
            <a:off x="0" y="428760"/>
            <a:ext cx="913284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8 Imagen" descr="3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Imagen" descr="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 Imagen" descr="1maja22.jpg"/>
          <p:cNvPicPr/>
          <p:nvPr/>
        </p:nvPicPr>
        <p:blipFill>
          <a:blip r:embed="rId1"/>
          <a:stretch/>
        </p:blipFill>
        <p:spPr>
          <a:xfrm>
            <a:off x="-144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 Imagen" descr="1maja7.jpg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Rectángulo"/>
          <p:cNvSpPr/>
          <p:nvPr/>
        </p:nvSpPr>
        <p:spPr>
          <a:xfrm>
            <a:off x="928800" y="335772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da parcela está conectada à rede de serviços públicos - fornecimento de água, esgoto, eletricidade e cabo de fibra ót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 Imagen" descr="017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3 Imagen" descr="1maja23.jpg"/>
          <p:cNvPicPr/>
          <p:nvPr/>
        </p:nvPicPr>
        <p:blipFill>
          <a:blip r:embed="rId1"/>
          <a:stretch/>
        </p:blipFill>
        <p:spPr>
          <a:xfrm>
            <a:off x="0" y="64296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2 Imagen" descr="1maja24.jpg"/>
          <p:cNvPicPr/>
          <p:nvPr/>
        </p:nvPicPr>
        <p:blipFill>
          <a:blip r:embed="rId1"/>
          <a:stretch/>
        </p:blipFill>
        <p:spPr>
          <a:xfrm>
            <a:off x="0" y="571680"/>
            <a:ext cx="914544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 Imagen" descr="2a.jpg"/>
          <p:cNvPicPr/>
          <p:nvPr/>
        </p:nvPicPr>
        <p:blipFill>
          <a:blip r:embed="rId1"/>
          <a:stretch/>
        </p:blipFill>
        <p:spPr>
          <a:xfrm>
            <a:off x="0" y="357120"/>
            <a:ext cx="913464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2 Imagen" descr="irina2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3 Imagen" descr="vide-7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 Imagen" descr="karte.jpg"/>
          <p:cNvPicPr/>
          <p:nvPr/>
        </p:nvPicPr>
        <p:blipFill>
          <a:blip r:embed="rId2"/>
          <a:stretch/>
        </p:blipFill>
        <p:spPr>
          <a:xfrm>
            <a:off x="214200" y="642960"/>
            <a:ext cx="4214880" cy="5824440"/>
          </a:xfrm>
          <a:prstGeom prst="rect">
            <a:avLst/>
          </a:prstGeom>
          <a:ln w="0">
            <a:noFill/>
          </a:ln>
        </p:spPr>
      </p:pic>
      <p:pic>
        <p:nvPicPr>
          <p:cNvPr id="95" name="3 Imagen" descr="plans.png"/>
          <p:cNvPicPr/>
          <p:nvPr/>
        </p:nvPicPr>
        <p:blipFill>
          <a:blip r:embed="rId3"/>
          <a:stretch/>
        </p:blipFill>
        <p:spPr>
          <a:xfrm>
            <a:off x="1500120" y="4786200"/>
            <a:ext cx="2430360" cy="15717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"/>
          <p:cNvSpPr/>
          <p:nvPr/>
        </p:nvSpPr>
        <p:spPr>
          <a:xfrm>
            <a:off x="4572000" y="2357280"/>
            <a:ext cx="4214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matciems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e encontra a 80 Km de Riga, a capital da Letônia, 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12 Km de Cēsis que tem uns 20.000 habitantes, se desejar comprar uma casa em um lugar separado do mundo e pouco conhecido, este é seu lugar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or menos de 200.000 € você poderá comprar uma casa situada em um espetacular paisagem natural de indescritível belez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 Imagen" descr="vide-11.jpg"/>
          <p:cNvPicPr/>
          <p:nvPr/>
        </p:nvPicPr>
        <p:blipFill>
          <a:blip r:embed="rId1"/>
          <a:stretch/>
        </p:blipFill>
        <p:spPr>
          <a:xfrm>
            <a:off x="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 Imagen" descr="vide-14.jpg"/>
          <p:cNvPicPr/>
          <p:nvPr/>
        </p:nvPicPr>
        <p:blipFill>
          <a:blip r:embed="rId1"/>
          <a:stretch/>
        </p:blipFill>
        <p:spPr>
          <a:xfrm>
            <a:off x="0" y="500040"/>
            <a:ext cx="914076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 Rectángulo"/>
          <p:cNvSpPr/>
          <p:nvPr/>
        </p:nvSpPr>
        <p:spPr>
          <a:xfrm>
            <a:off x="1143000" y="3143160"/>
            <a:ext cx="70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matciems tem reservas naturais de água doce - represas, lagos e riachos. Todos os depósitos estão interconectados para alimentar uns aos outros pelos canais e evitar as inundações em períodos de chuv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 Imagen" descr="18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2 Imagen" descr="vide-8.jpg"/>
          <p:cNvPicPr/>
          <p:nvPr/>
        </p:nvPicPr>
        <p:blipFill>
          <a:blip r:embed="rId1"/>
          <a:stretch/>
        </p:blipFill>
        <p:spPr>
          <a:xfrm>
            <a:off x="3240" y="571680"/>
            <a:ext cx="914076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1214280" y="2428920"/>
            <a:ext cx="678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s habitantes podem admirar veados, raposas, aves e outros animais em movimento sem cercas através da zona, ou ter tempo para caminhar pelo bosque, talvez em busca de morangos, amoras e groselha no caminho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2 Rectángulo"/>
          <p:cNvSpPr/>
          <p:nvPr/>
        </p:nvSpPr>
        <p:spPr>
          <a:xfrm>
            <a:off x="1285920" y="3786120"/>
            <a:ext cx="657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ravilhosas vistas de colinas, lagos, campos e bosques que produzem sentimentos de paz e tranquilidad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3 Rectángulo"/>
          <p:cNvSpPr/>
          <p:nvPr/>
        </p:nvSpPr>
        <p:spPr>
          <a:xfrm>
            <a:off x="1143000" y="47149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O povo tem atraído aqueles que valorizam a simplicidade e a vida natural. A comunidade de Amatcie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é totalmente internacion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5 Imagen" descr="zc7v5977.jpg"/>
          <p:cNvPicPr/>
          <p:nvPr/>
        </p:nvPicPr>
        <p:blipFill>
          <a:blip r:embed="rId1"/>
          <a:stretch/>
        </p:blipFill>
        <p:spPr>
          <a:xfrm>
            <a:off x="-7920" y="500040"/>
            <a:ext cx="915192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Imagen" descr="11.jpg"/>
          <p:cNvPicPr/>
          <p:nvPr/>
        </p:nvPicPr>
        <p:blipFill>
          <a:blip r:embed="rId1"/>
          <a:stretch/>
        </p:blipFill>
        <p:spPr>
          <a:xfrm>
            <a:off x="0" y="642960"/>
            <a:ext cx="9242280" cy="585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 Imagen" descr="052.jpg"/>
          <p:cNvPicPr/>
          <p:nvPr/>
        </p:nvPicPr>
        <p:blipFill>
          <a:blip r:embed="rId1"/>
          <a:stretch/>
        </p:blipFill>
        <p:spPr>
          <a:xfrm>
            <a:off x="0" y="571680"/>
            <a:ext cx="9129600" cy="57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 Imagen" descr="12.jpg"/>
          <p:cNvPicPr/>
          <p:nvPr/>
        </p:nvPicPr>
        <p:blipFill>
          <a:blip r:embed="rId1"/>
          <a:stretch/>
        </p:blipFill>
        <p:spPr>
          <a:xfrm>
            <a:off x="-1440" y="500040"/>
            <a:ext cx="9145440" cy="579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8 Imagen" descr="13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8 Imagen" descr="17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2 Imagen" descr="1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7 Rectángulo"/>
          <p:cNvSpPr/>
          <p:nvPr/>
        </p:nvSpPr>
        <p:spPr>
          <a:xfrm>
            <a:off x="714240" y="1214280"/>
            <a:ext cx="471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ugar para aqueles que estão dispos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 compartir sua vida com a natureza, coexistir em harmonia que lhes permitirá atualizar seu ser com as energias dos aromas naturais e os son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9 Rectángulo"/>
          <p:cNvSpPr/>
          <p:nvPr/>
        </p:nvSpPr>
        <p:spPr>
          <a:xfrm>
            <a:off x="714240" y="2643120"/>
            <a:ext cx="485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gostam d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lhar os pássaros, os animais, amanhecer e por do sol que refletirão nas águas virgens dos arredores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10 Rectángulo"/>
          <p:cNvSpPr/>
          <p:nvPr/>
        </p:nvSpPr>
        <p:spPr>
          <a:xfrm>
            <a:off x="857160" y="3714840"/>
            <a:ext cx="464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Um lugar para aqueles que podem se permitir desfrutar da beleza natural de cada dia nas quatro estações do an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11 Rectángulo"/>
          <p:cNvSpPr/>
          <p:nvPr/>
        </p:nvSpPr>
        <p:spPr>
          <a:xfrm>
            <a:off x="785880" y="4714920"/>
            <a:ext cx="44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ma forma natural de vida, um projeto único, uma obra mestra de um gênio ecológico, o Sr. Aivars Zvirbulis, que pensa que a vida urbana é uma perda de temp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14 Imagen" descr="Aivars Zvirbulis.jpg"/>
          <p:cNvPicPr/>
          <p:nvPr/>
        </p:nvPicPr>
        <p:blipFill>
          <a:blip r:embed="rId2"/>
          <a:stretch/>
        </p:blipFill>
        <p:spPr>
          <a:xfrm>
            <a:off x="5572080" y="1500120"/>
            <a:ext cx="2814840" cy="3929040"/>
          </a:xfrm>
          <a:prstGeom prst="rect">
            <a:avLst/>
          </a:prstGeom>
          <a:ln w="0">
            <a:noFill/>
          </a:ln>
        </p:spPr>
      </p:pic>
      <p:sp>
        <p:nvSpPr>
          <p:cNvPr id="142" name="15 Rectángulo"/>
          <p:cNvSpPr/>
          <p:nvPr/>
        </p:nvSpPr>
        <p:spPr>
          <a:xfrm>
            <a:off x="5572080" y="54291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ff"/>
                </a:solidFill>
                <a:latin typeface="Verdana"/>
              </a:rPr>
              <a:t>Aivars Zvirbul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3 Imagen" descr="000rexxa.jpg"/>
          <p:cNvPicPr/>
          <p:nvPr/>
        </p:nvPicPr>
        <p:blipFill>
          <a:blip r:embed="rId2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2714760" y="4869000"/>
            <a:ext cx="321444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im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5 Rectángulo"/>
          <p:cNvSpPr/>
          <p:nvPr/>
        </p:nvSpPr>
        <p:spPr>
          <a:xfrm>
            <a:off x="928800" y="392904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uitos arquitetos famosos já reconheceram em Amatciems um monumento cultural do futur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3 Rectángulo"/>
          <p:cNvSpPr/>
          <p:nvPr/>
        </p:nvSpPr>
        <p:spPr>
          <a:xfrm>
            <a:off x="857160" y="300024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Verdana"/>
              </a:rPr>
              <a:t>Amatciems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é uma comunidade residencial, ma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arece mais com uma reserva natura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Imagen" descr="14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 Rectángulo"/>
          <p:cNvSpPr/>
          <p:nvPr/>
        </p:nvSpPr>
        <p:spPr>
          <a:xfrm>
            <a:off x="928800" y="335772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ão há estradas asfaltadas em Amatciem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 lugar para que se construir uma casa é selecionado cuidadosamente para encaixar na paisagem existent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Imagen" descr="1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 Rectángulo"/>
          <p:cNvSpPr/>
          <p:nvPr/>
        </p:nvSpPr>
        <p:spPr>
          <a:xfrm>
            <a:off x="1071720" y="3286080"/>
            <a:ext cx="7143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m ser cumpridos dois critérios principais - uma casa nova não deve ocultar as belas paisagens naturais e permitir aos proprietários de cada parcela desfrutar de seu próprio pedacinho de bosque e do reservatório de água doce natu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Imagen" descr="022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4:44:10Z</dcterms:created>
  <dc:creator/>
  <dc:description/>
  <dc:language>en-US</dc:language>
  <cp:lastModifiedBy>NIETMANN</cp:lastModifiedBy>
  <dcterms:modified xsi:type="dcterms:W3CDTF">2010-01-11T01:12:15Z</dcterms:modified>
  <cp:revision>23</cp:revision>
  <dc:subject/>
  <dc:title>Slide 1</dc:title>
</cp:coreProperties>
</file>