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Chopin%20-%20Tristesse%20(piano).wav" ContentType="audio/x-wav"/>
  <Override PartName="/ppt/media/image1.png" ContentType="image/png"/>
  <Override PartName="/ppt/media/image13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BE20-7109-44DE-87BC-80B72EB0115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7034-B808-45B1-9EDC-8F28ED52685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9107-FF2C-4DE5-8BDD-81D041FBCC5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932D-E715-4881-ABAC-657D1A7BC7B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08B1-EB50-4C49-9D8F-020DCDEB6A2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30F7-82CF-4C04-95E0-32169B5B83B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02E5-D975-4515-AA2D-F30EC24406B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F522-C83B-4B4A-9E91-9DD6E6E39F2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2BBA-4881-421D-B6F6-04CDE3F25B1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0015-DAE0-43DE-8F88-50A40009688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07F3-3EF1-406C-904E-AC2D8F84408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6A7B-71F1-424D-A1EB-BB0396D2468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0ABA-FDF3-498D-A284-2E9DDE55AA3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F324-FE5C-4392-9A1C-FDFCBC181C2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A263-8772-4037-A115-3C0C26DD1F9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B8E3-80AB-4F45-BBA5-2A0E6F2CA76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6C3B-9B87-4B42-97D9-94B4230C530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0674-C59B-4F6D-90C4-5B9ABB84CC5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0780-CB69-43EE-A3B7-20E81481067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ACF0-32BD-4F18-9BAF-4462FB30822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A407-A8E6-49D5-B50C-C2CD7E04128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3F6B-E9C0-40FB-B8E8-B62612291B7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77F3-56C8-4674-A468-2EB37583BA4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629E-5BC6-47D7-BDDE-14A9E754E97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2793-E648-41B2-9527-4FA82CB59B0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DEFF-5AAC-4FCF-8903-B0998CCF005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C4A1-0C72-4FC5-8544-2EB96EBAB4E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E8DE-FB46-4BA7-809C-967DE15BAB0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CDC4-D345-432A-9F68-28F43786993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C750-26D0-484A-BE52-F53166A488E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9A1F-A5DD-43BA-B35C-66019B088BE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2071-96C9-41CB-BFAE-3AB25E1FABD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596E-E9E0-4B16-9544-4CB603A7E7F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01F6-3826-4742-984E-F3F18D70E52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603B-E701-41CC-BD9A-1D0F3DD3A7D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8517-8886-45F7-B179-0F7F087E867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CE74-A4D3-4E35-832C-FD53BCBB89F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6055-DFC6-47A8-90B2-AB26E76F0E9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E1A0-3F1D-4B43-B6FB-60B43E324E2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91D6-1354-491A-8693-E2B5330C2C3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3DDD-D571-4EB9-AB6F-BFEAD547862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EB37-968A-4451-B05F-8F690125461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78D0-1279-41AA-824C-65A7FD8C6D1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D434-0BF6-484A-9472-CEDE0A19068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9F20-ED8E-41FA-85BA-15F00CD064C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7C7F-9D93-43EB-8CC2-BFB2EEB30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88EC-2F59-4CE6-895E-43960AE1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7AAB-3FD4-4CDE-B8F8-2361A93C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BB5A-2B97-4BD5-A53D-97C0A888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71F0-BFFA-4996-A1C0-4504923C1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8C49-8122-4EEA-B00D-B13BDF9E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4DDB-26ED-4791-B193-FAF0934B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FC91-FF3E-4CB3-A33D-224AA685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0F16-D60A-4902-9940-D643156C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2CE6-794B-4AC4-9ED6-74E469A8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C623-F661-47A3-AB31-1AC20AC5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ADB6-CDD9-4770-AFCF-8FAF7DE7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F6D4-3658-4295-90CF-B25D5070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D3B3-0F66-4F7F-BA99-BD313880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C73F-088E-4A33-9909-46BEA69E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AA03-E7BD-40B7-B5E7-CE659C39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29C6-78C3-4710-911C-06E5CE80C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E454-3707-494B-BFE8-56F0093C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68AD-7D14-403E-B0F6-931CAD96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775C-5472-4A69-86E2-1898A97F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FA6E-C7EF-4B3C-9B09-878FA0EA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9E5C-E8E6-460E-A98C-35F40D05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40C2-510C-499C-AA14-40B52499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684C-1E7F-4C45-8FAC-268D03E1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66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66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66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666699"/>
          </a:solidFill>
          <a:ln w="93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85C1-B4B9-48A7-9F38-465DD58C615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666699"/>
          </a:solidFill>
          <a:ln w="93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66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66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66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D11D-9D0B-4A24-A3F5-1AE8E65D5E6A}" type="slidenum">
              <a:rPr b="0" lang="es-E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opin%20-%20Tristesse%20(piano)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611280" y="2781360"/>
            <a:ext cx="784836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matciems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O paraíso desconhecido da Letônia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2 Imagen" descr="10.jpg"/>
          <p:cNvPicPr/>
          <p:nvPr/>
        </p:nvPicPr>
        <p:blipFill>
          <a:blip r:embed="rId1"/>
          <a:stretch/>
        </p:blipFill>
        <p:spPr>
          <a:xfrm>
            <a:off x="0" y="642960"/>
            <a:ext cx="9144000" cy="579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8 Imagen" descr="2.jpg"/>
          <p:cNvPicPr/>
          <p:nvPr/>
        </p:nvPicPr>
        <p:blipFill>
          <a:blip r:embed="rId1"/>
          <a:stretch/>
        </p:blipFill>
        <p:spPr>
          <a:xfrm>
            <a:off x="0" y="571680"/>
            <a:ext cx="916452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1 Rectángulo"/>
          <p:cNvSpPr/>
          <p:nvPr/>
        </p:nvSpPr>
        <p:spPr>
          <a:xfrm>
            <a:off x="428760" y="3357720"/>
            <a:ext cx="8358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ão utilizados três tipos de estruturas - esquadrias d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deira, troncos e alvenaria que complementa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 fachadas de pedra natural, madeira compensada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corativa, gesso ou cristal pintado nas paredes exteriore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1 Imagen" descr="9.jpg"/>
          <p:cNvPicPr/>
          <p:nvPr/>
        </p:nvPicPr>
        <p:blipFill>
          <a:blip r:embed="rId1"/>
          <a:stretch/>
        </p:blipFill>
        <p:spPr>
          <a:xfrm>
            <a:off x="0" y="500040"/>
            <a:ext cx="9242280" cy="5857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9 Imagen" descr="4.jpg"/>
          <p:cNvPicPr/>
          <p:nvPr/>
        </p:nvPicPr>
        <p:blipFill>
          <a:blip r:embed="rId1"/>
          <a:stretch/>
        </p:blipFill>
        <p:spPr>
          <a:xfrm>
            <a:off x="0" y="500040"/>
            <a:ext cx="9129600" cy="5786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1 Rectángulo"/>
          <p:cNvSpPr/>
          <p:nvPr/>
        </p:nvSpPr>
        <p:spPr>
          <a:xfrm>
            <a:off x="928800" y="3214800"/>
            <a:ext cx="7286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o conceito de cada casa se permite quatro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ipos de coberturas - telhados de palha, troncos talhados, cerâmica o telhas de cimento. Isto não quer dizer que estão limitados em sua escolha. As novas idéias são sempre bem-vindas…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1 Imagen" descr="5.jpg"/>
          <p:cNvPicPr/>
          <p:nvPr/>
        </p:nvPicPr>
        <p:blipFill>
          <a:blip r:embed="rId1"/>
          <a:stretch/>
        </p:blipFill>
        <p:spPr>
          <a:xfrm>
            <a:off x="0" y="571680"/>
            <a:ext cx="9140760" cy="57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1 Imagen" descr="8.jpg"/>
          <p:cNvPicPr/>
          <p:nvPr/>
        </p:nvPicPr>
        <p:blipFill>
          <a:blip r:embed="rId1"/>
          <a:stretch/>
        </p:blipFill>
        <p:spPr>
          <a:xfrm>
            <a:off x="0" y="642960"/>
            <a:ext cx="9140760" cy="57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1 Imagen" descr="6.jpg"/>
          <p:cNvPicPr/>
          <p:nvPr/>
        </p:nvPicPr>
        <p:blipFill>
          <a:blip r:embed="rId1"/>
          <a:stretch/>
        </p:blipFill>
        <p:spPr>
          <a:xfrm>
            <a:off x="0" y="642960"/>
            <a:ext cx="9145440" cy="579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1 Imagen" descr="15.jpg"/>
          <p:cNvPicPr/>
          <p:nvPr/>
        </p:nvPicPr>
        <p:blipFill>
          <a:blip r:embed="rId1"/>
          <a:stretch/>
        </p:blipFill>
        <p:spPr>
          <a:xfrm>
            <a:off x="0" y="428760"/>
            <a:ext cx="9132840" cy="6083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8 Imagen" descr="3.jpg"/>
          <p:cNvPicPr/>
          <p:nvPr/>
        </p:nvPicPr>
        <p:blipFill>
          <a:blip r:embed="rId1"/>
          <a:stretch/>
        </p:blipFill>
        <p:spPr>
          <a:xfrm>
            <a:off x="0" y="571680"/>
            <a:ext cx="9129600" cy="57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1 Imagen" descr="7.jpg"/>
          <p:cNvPicPr/>
          <p:nvPr/>
        </p:nvPicPr>
        <p:blipFill>
          <a:blip r:embed="rId1"/>
          <a:stretch/>
        </p:blipFill>
        <p:spPr>
          <a:xfrm>
            <a:off x="0" y="500040"/>
            <a:ext cx="9140760" cy="5786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3 Imagen" descr="1maja22.jpg"/>
          <p:cNvPicPr/>
          <p:nvPr/>
        </p:nvPicPr>
        <p:blipFill>
          <a:blip r:embed="rId1"/>
          <a:stretch/>
        </p:blipFill>
        <p:spPr>
          <a:xfrm>
            <a:off x="-1440" y="571680"/>
            <a:ext cx="9145440" cy="5795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2 Imagen" descr="1maja7.jpg"/>
          <p:cNvPicPr/>
          <p:nvPr/>
        </p:nvPicPr>
        <p:blipFill>
          <a:blip r:embed="rId1"/>
          <a:stretch/>
        </p:blipFill>
        <p:spPr>
          <a:xfrm>
            <a:off x="0" y="642960"/>
            <a:ext cx="9144000" cy="579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1 Rectángulo"/>
          <p:cNvSpPr/>
          <p:nvPr/>
        </p:nvSpPr>
        <p:spPr>
          <a:xfrm>
            <a:off x="928800" y="3357720"/>
            <a:ext cx="714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da parcela está conectada à rede de serviços públicos - fornecimento de água, esgoto, eletricidade e cabo de fibra ótic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1 Imagen" descr="017.jpg"/>
          <p:cNvPicPr/>
          <p:nvPr/>
        </p:nvPicPr>
        <p:blipFill>
          <a:blip r:embed="rId1"/>
          <a:stretch/>
        </p:blipFill>
        <p:spPr>
          <a:xfrm>
            <a:off x="0" y="571680"/>
            <a:ext cx="9129600" cy="57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3 Imagen" descr="1maja23.jpg"/>
          <p:cNvPicPr/>
          <p:nvPr/>
        </p:nvPicPr>
        <p:blipFill>
          <a:blip r:embed="rId1"/>
          <a:stretch/>
        </p:blipFill>
        <p:spPr>
          <a:xfrm>
            <a:off x="0" y="642960"/>
            <a:ext cx="9129600" cy="57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2 Imagen" descr="1maja24.jpg"/>
          <p:cNvPicPr/>
          <p:nvPr/>
        </p:nvPicPr>
        <p:blipFill>
          <a:blip r:embed="rId1"/>
          <a:stretch/>
        </p:blipFill>
        <p:spPr>
          <a:xfrm>
            <a:off x="0" y="571680"/>
            <a:ext cx="9145440" cy="5795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3 Imagen" descr="2a.jpg"/>
          <p:cNvPicPr/>
          <p:nvPr/>
        </p:nvPicPr>
        <p:blipFill>
          <a:blip r:embed="rId1"/>
          <a:stretch/>
        </p:blipFill>
        <p:spPr>
          <a:xfrm>
            <a:off x="0" y="357120"/>
            <a:ext cx="9134640" cy="6072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2 Imagen" descr="irina2.jpg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3 Imagen" descr="vide-7.jpg"/>
          <p:cNvPicPr/>
          <p:nvPr/>
        </p:nvPicPr>
        <p:blipFill>
          <a:blip r:embed="rId1"/>
          <a:stretch/>
        </p:blipFill>
        <p:spPr>
          <a:xfrm>
            <a:off x="0" y="500040"/>
            <a:ext cx="9140760" cy="5786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2 Imagen" descr="karte.jpg"/>
          <p:cNvPicPr/>
          <p:nvPr/>
        </p:nvPicPr>
        <p:blipFill>
          <a:blip r:embed="rId2"/>
          <a:stretch/>
        </p:blipFill>
        <p:spPr>
          <a:xfrm>
            <a:off x="214200" y="642960"/>
            <a:ext cx="4214880" cy="5824440"/>
          </a:xfrm>
          <a:prstGeom prst="rect">
            <a:avLst/>
          </a:prstGeom>
          <a:ln w="0">
            <a:noFill/>
          </a:ln>
        </p:spPr>
      </p:pic>
      <p:pic>
        <p:nvPicPr>
          <p:cNvPr id="95" name="3 Imagen" descr="plans.png"/>
          <p:cNvPicPr/>
          <p:nvPr/>
        </p:nvPicPr>
        <p:blipFill>
          <a:blip r:embed="rId3"/>
          <a:stretch/>
        </p:blipFill>
        <p:spPr>
          <a:xfrm>
            <a:off x="1500120" y="4786200"/>
            <a:ext cx="2430360" cy="1571760"/>
          </a:xfrm>
          <a:prstGeom prst="rect">
            <a:avLst/>
          </a:prstGeom>
          <a:ln w="0">
            <a:noFill/>
          </a:ln>
        </p:spPr>
      </p:pic>
      <p:sp>
        <p:nvSpPr>
          <p:cNvPr id="96" name="5 Rectángulo"/>
          <p:cNvSpPr/>
          <p:nvPr/>
        </p:nvSpPr>
        <p:spPr>
          <a:xfrm>
            <a:off x="4572000" y="2357280"/>
            <a:ext cx="4214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matciems 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se encontra a 80 Km de Riga, a capital da Letônia, 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a 12 Km de Cēsis que tem uns 20.000 habitantes, se desejar comprar uma casa em um lugar separado do mundo e pouco conhecido, este é seu lugar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por menos de 200.000 € você poderá comprar uma casa situada em um espetacular paisagem natural de indescritível belez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2 Imagen" descr="vide-11.jpg"/>
          <p:cNvPicPr/>
          <p:nvPr/>
        </p:nvPicPr>
        <p:blipFill>
          <a:blip r:embed="rId1"/>
          <a:stretch/>
        </p:blipFill>
        <p:spPr>
          <a:xfrm>
            <a:off x="0" y="571680"/>
            <a:ext cx="9140760" cy="57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4 Imagen" descr="vide-14.jpg"/>
          <p:cNvPicPr/>
          <p:nvPr/>
        </p:nvPicPr>
        <p:blipFill>
          <a:blip r:embed="rId1"/>
          <a:stretch/>
        </p:blipFill>
        <p:spPr>
          <a:xfrm>
            <a:off x="0" y="500040"/>
            <a:ext cx="9140760" cy="5786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1 Rectángulo"/>
          <p:cNvSpPr/>
          <p:nvPr/>
        </p:nvSpPr>
        <p:spPr>
          <a:xfrm>
            <a:off x="1143000" y="3143160"/>
            <a:ext cx="7029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Amatciems tem reservas naturais de água doce - represas, lagos e riachos. Todos os depósitos estão interconectados para alimentar uns aos outros pelos canais e evitar as inundações em períodos de chuva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1 Imagen" descr="18.jpg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2 Imagen" descr="vide-8.jpg"/>
          <p:cNvPicPr/>
          <p:nvPr/>
        </p:nvPicPr>
        <p:blipFill>
          <a:blip r:embed="rId1"/>
          <a:stretch/>
        </p:blipFill>
        <p:spPr>
          <a:xfrm>
            <a:off x="3240" y="571680"/>
            <a:ext cx="9140760" cy="57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1 Rectángulo"/>
          <p:cNvSpPr/>
          <p:nvPr/>
        </p:nvSpPr>
        <p:spPr>
          <a:xfrm>
            <a:off x="1214280" y="2428920"/>
            <a:ext cx="678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s habitantes podem admirar veados, raposas, aves e outros animais em movimento sem cercas através da zona, ou ter tempo para caminhar pelo bosque, talvez em busca de morangos, amoras e groselha no caminho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2 Rectángulo"/>
          <p:cNvSpPr/>
          <p:nvPr/>
        </p:nvSpPr>
        <p:spPr>
          <a:xfrm>
            <a:off x="1285920" y="3786120"/>
            <a:ext cx="657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ravilhosas vistas de colinas, lagos, campos e bosques que produzem sentimentos de paz e tranquilidad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3 Rectángulo"/>
          <p:cNvSpPr/>
          <p:nvPr/>
        </p:nvSpPr>
        <p:spPr>
          <a:xfrm>
            <a:off x="1143000" y="4714920"/>
            <a:ext cx="685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O povo tem atraído aqueles que valorizam a simplicidade e a vida natural. A comunidade de Amatciem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é totalmente internacional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5 Imagen" descr="zc7v5977.jpg"/>
          <p:cNvPicPr/>
          <p:nvPr/>
        </p:nvPicPr>
        <p:blipFill>
          <a:blip r:embed="rId1"/>
          <a:stretch/>
        </p:blipFill>
        <p:spPr>
          <a:xfrm>
            <a:off x="-7920" y="500040"/>
            <a:ext cx="9151920" cy="6083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1 Imagen" descr="11.jpg"/>
          <p:cNvPicPr/>
          <p:nvPr/>
        </p:nvPicPr>
        <p:blipFill>
          <a:blip r:embed="rId1"/>
          <a:stretch/>
        </p:blipFill>
        <p:spPr>
          <a:xfrm>
            <a:off x="0" y="642960"/>
            <a:ext cx="9242280" cy="5857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1 Imagen" descr="052.jpg"/>
          <p:cNvPicPr/>
          <p:nvPr/>
        </p:nvPicPr>
        <p:blipFill>
          <a:blip r:embed="rId1"/>
          <a:stretch/>
        </p:blipFill>
        <p:spPr>
          <a:xfrm>
            <a:off x="0" y="571680"/>
            <a:ext cx="9129600" cy="57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1 Imagen" descr="12.jpg"/>
          <p:cNvPicPr/>
          <p:nvPr/>
        </p:nvPicPr>
        <p:blipFill>
          <a:blip r:embed="rId1"/>
          <a:stretch/>
        </p:blipFill>
        <p:spPr>
          <a:xfrm>
            <a:off x="-1440" y="500040"/>
            <a:ext cx="9145440" cy="579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8 Imagen" descr="13.jpg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8 Imagen" descr="17.jpg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2 Imagen" descr="16.jpg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7 Rectángulo"/>
          <p:cNvSpPr/>
          <p:nvPr/>
        </p:nvSpPr>
        <p:spPr>
          <a:xfrm>
            <a:off x="714240" y="1214280"/>
            <a:ext cx="4714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ugar para aqueles que estão disposto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 compartir sua vida com a natureza, coexistir em harmonia que lhes permitirá atualizar seu ser com as energias dos aromas naturais e os sons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9 Rectángulo"/>
          <p:cNvSpPr/>
          <p:nvPr/>
        </p:nvSpPr>
        <p:spPr>
          <a:xfrm>
            <a:off x="714240" y="2643120"/>
            <a:ext cx="4857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Um lugar para aqueles que gostam d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olhar os pássaros, os animais, amanhecer e por do sol que refletirão nas águas virgens dos arredores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10 Rectángulo"/>
          <p:cNvSpPr/>
          <p:nvPr/>
        </p:nvSpPr>
        <p:spPr>
          <a:xfrm>
            <a:off x="857160" y="3714840"/>
            <a:ext cx="464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Um lugar para aqueles que podem se permitir desfrutar da beleza natural de cada dia nas quatro estações do ano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11 Rectángulo"/>
          <p:cNvSpPr/>
          <p:nvPr/>
        </p:nvSpPr>
        <p:spPr>
          <a:xfrm>
            <a:off x="785880" y="4714920"/>
            <a:ext cx="4429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Uma forma natural de vida, um projeto único, uma obra mestra de um gênio ecológico, o Sr. Aivars Zvirbulis, que pensa que a vida urbana é uma perda de tempo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1" name="14 Imagen" descr="Aivars Zvirbulis.jpg"/>
          <p:cNvPicPr/>
          <p:nvPr/>
        </p:nvPicPr>
        <p:blipFill>
          <a:blip r:embed="rId2"/>
          <a:stretch/>
        </p:blipFill>
        <p:spPr>
          <a:xfrm>
            <a:off x="5572080" y="1500120"/>
            <a:ext cx="2814840" cy="3929040"/>
          </a:xfrm>
          <a:prstGeom prst="rect">
            <a:avLst/>
          </a:prstGeom>
          <a:ln w="0">
            <a:noFill/>
          </a:ln>
        </p:spPr>
      </p:pic>
      <p:sp>
        <p:nvSpPr>
          <p:cNvPr id="142" name="15 Rectángulo"/>
          <p:cNvSpPr/>
          <p:nvPr/>
        </p:nvSpPr>
        <p:spPr>
          <a:xfrm>
            <a:off x="5572080" y="5429160"/>
            <a:ext cx="27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ff"/>
                </a:solidFill>
                <a:latin typeface="Verdana"/>
              </a:rPr>
              <a:t>Aivars Zvirbuli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3 Imagen" descr="000rexxa.jpg"/>
          <p:cNvPicPr/>
          <p:nvPr/>
        </p:nvPicPr>
        <p:blipFill>
          <a:blip r:embed="rId2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2"/>
          <p:cNvSpPr txBox="1"/>
          <p:nvPr/>
        </p:nvSpPr>
        <p:spPr>
          <a:xfrm>
            <a:off x="2714760" y="4869000"/>
            <a:ext cx="3214440" cy="12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im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5" name="5 Rectángulo"/>
          <p:cNvSpPr/>
          <p:nvPr/>
        </p:nvSpPr>
        <p:spPr>
          <a:xfrm>
            <a:off x="928800" y="3929040"/>
            <a:ext cx="735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Muitos arquitetos famosos já reconheceram em Amatciems um monumento cultural do futuro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3 Rectángulo"/>
          <p:cNvSpPr/>
          <p:nvPr/>
        </p:nvSpPr>
        <p:spPr>
          <a:xfrm>
            <a:off x="857160" y="3000240"/>
            <a:ext cx="742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Verdana"/>
              </a:rPr>
              <a:t>Amatciems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é uma comunidade residencial, ma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parece mais com uma reserva natura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8 Imagen" descr="14.jpg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1 Rectángulo"/>
          <p:cNvSpPr/>
          <p:nvPr/>
        </p:nvSpPr>
        <p:spPr>
          <a:xfrm>
            <a:off x="928800" y="3357720"/>
            <a:ext cx="7358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Não há estradas asfaltadas em Amatciems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o lugar para que se construir uma casa é selecionado cuidadosamente para encaixar na paisagem existente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1 Imagen" descr="1.jpg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95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1 Rectángulo"/>
          <p:cNvSpPr/>
          <p:nvPr/>
        </p:nvSpPr>
        <p:spPr>
          <a:xfrm>
            <a:off x="1071720" y="3286080"/>
            <a:ext cx="7143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vem ser cumpridos dois critérios principais - uma casa nova não deve ocultar as belas paisagens naturais e permitir aos proprietários de cada parcela desfrutar de seu próprio pedacinho de bosque e do reservatório de água doce natural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1 Imagen" descr="022.jpg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95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14:44:10Z</dcterms:created>
  <dc:creator/>
  <dc:description/>
  <dc:language>en-US</dc:language>
  <cp:lastModifiedBy>NIETMANN</cp:lastModifiedBy>
  <dcterms:modified xsi:type="dcterms:W3CDTF">2010-01-11T01:12:15Z</dcterms:modified>
  <cp:revision>23</cp:revision>
  <dc:subject/>
  <dc:title>Slide 1</dc:title>
</cp:coreProperties>
</file>