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08%20deus%20do%20imposs%C3%ADvel.wav" ContentType="audio/x-wav"/>
  <Override PartName="/ppt/media/image17.jpeg" ContentType="image/jpeg"/>
  <Override PartName="/ppt/media/image2.jpeg" ContentType="image/jpeg"/>
  <Override PartName="/ppt/media/image32.wmf" ContentType="image/x-wmf"/>
  <Override PartName="/ppt/media/image33.jpeg" ContentType="image/jpeg"/>
  <Override PartName="/ppt/media/image43.wmf" ContentType="image/x-wmf"/>
  <Override PartName="/ppt/media/image11.jpeg" ContentType="image/jpeg"/>
  <Override PartName="/ppt/media/image9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29.wmf" ContentType="image/x-wmf"/>
  <Override PartName="/ppt/media/image31.png" ContentType="image/png"/>
  <Override PartName="/ppt/media/image37.wmf" ContentType="image/x-wmf"/>
  <Override PartName="/ppt/media/image30.jpeg" ContentType="image/jpeg"/>
  <Override PartName="/ppt/media/image47.jpeg" ContentType="image/jpeg"/>
  <Override PartName="/ppt/media/image48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36.png" ContentType="image/png"/>
  <Override PartName="/ppt/media/image10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FB2-FA65-4E51-9284-E92B656F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DFF-94E2-4EEF-8614-21397B7D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BAD-328F-4E74-806A-D1D90AE7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AC2-15B1-4661-AD86-BF4D8A44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932-2885-4A73-8975-6AA2CC87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FAE-27D3-442D-8D3F-7771F91E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707-21FB-4713-99C3-890484D0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6B7-1938-4646-BC28-45A9D18A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2CA-F27C-4F46-8CF1-313883C0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ED5-D6AE-4074-93B6-A2813D39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21C-CC54-41C6-85C3-B1AF4580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F91-2A25-4618-AFE0-28A4A460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9CCA-B87E-40F7-80B1-A4C470367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8%20deus%20do%20imposs&#237;ve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l%20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3276720"/>
            <a:ext cx="7772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M HOMEM INSUPERÁVEL!!! </a:t>
            </a:r>
            <a:endParaRPr b="0" i="1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08%20deus%20do%20imposs%C3%ADve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inz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image008118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0" y="6324480"/>
            <a:ext cx="15238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209680"/>
            <a:ext cx="6096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 vice-presidente do Hospital China Research Center em Beij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nde este chinês de 39 anos tem sido tratado dis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inza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90" name="2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3810240" cy="31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60948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le é incrível é a única pessoa no mu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 sobreviver com tanto corpo amputa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inza%202%20vv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cinza%201%20a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098ouqs1y1ohjx5rkqg" descr=""/>
          <p:cNvPicPr/>
          <p:nvPr/>
        </p:nvPicPr>
        <p:blipFill>
          <a:blip r:embed="rId3"/>
          <a:stretch/>
        </p:blipFill>
        <p:spPr>
          <a:xfrm>
            <a:off x="1752480" y="1371600"/>
            <a:ext cx="5238720" cy="4181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58280" y="609480"/>
            <a:ext cx="65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 teve um enxerto de pele do seu rosto para o seu tron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image00797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5790960" cy="386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749880" y="762120"/>
            <a:ext cx="74332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Os Médicos de Reabilitação do China Research Center em Peq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omeçaram então a pensar na possibilidade de fazê-lo andar no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715000"/>
            <a:ext cx="1752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image00636" descr=""/>
          <p:cNvPicPr/>
          <p:nvPr/>
        </p:nvPicPr>
        <p:blipFill>
          <a:blip r:embed="rId2"/>
          <a:stretch/>
        </p:blipFill>
        <p:spPr>
          <a:xfrm>
            <a:off x="1676520" y="1803240"/>
            <a:ext cx="5943600" cy="397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8680" y="5562720"/>
            <a:ext cx="19051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04920"/>
            <a:ext cx="822960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s criaram um invólucro como se fosso um o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apoiar o seu corpo com 2 pernas biônicas para ajudá-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335124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76520" y="990720"/>
            <a:ext cx="5867280" cy="48006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2052740091_small_1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5867280" cy="4419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9144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99"/>
                </a:solidFill>
                <a:latin typeface="Times New Roman"/>
              </a:rPr>
              <a:t>O aparelho é semelhante a um c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16" name="340x" descr=""/>
          <p:cNvPicPr/>
          <p:nvPr/>
        </p:nvPicPr>
        <p:blipFill>
          <a:blip r:embed="rId3"/>
          <a:stretch/>
        </p:blipFill>
        <p:spPr>
          <a:xfrm>
            <a:off x="914400" y="609480"/>
            <a:ext cx="3886200" cy="5429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953960" y="1523880"/>
            <a:ext cx="3115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stiu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21" name="half_man_10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halfman2_450x400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14368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28800" y="1447920"/>
            <a:ext cx="5181480" cy="4572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Agora, este lutador está em pé novamen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05720" cy="6296040"/>
          </a:xfrm>
          <a:prstGeom prst="rect">
            <a:avLst/>
          </a:prstGeom>
          <a:ln w="0">
            <a:noFill/>
          </a:ln>
        </p:spPr>
      </p:pic>
      <p:pic>
        <p:nvPicPr>
          <p:cNvPr id="131" name="miracleman01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514332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520" y="609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egoe UI"/>
              </a:rPr>
              <a:t>Com a ajuda dos médicos,Peng está reaprendendo a and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1320" y="1600200"/>
            <a:ext cx="638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 você tem a mania de reclamar de tu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clamar da vi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o seu cabelo que esta crespo demais,ou liso dema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a sua relação amorosa que não esta dando cer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ue tem preguiça de caminhar até o mercado ou ponto de ônibu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tc,etc,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abia que VOCÊ É FELIZ, mas não sabe dar val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s coisas que Deus lhe de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 bem,veja que diante deste fato que vou contar ago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M EXEMPLO DE SUPE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 como os seus problemas ficam são pequenininh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s pena que no dia a dia você se esqueça disso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m que sempre ser lemb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ce que nada pode levá-lo para baixo.</a:t>
            </a:r>
            <a:r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1fc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image010710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981760" cy="4267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15000" y="5486400"/>
            <a:ext cx="1752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2520" y="83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62600" y="609480"/>
            <a:ext cx="62431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ece que nada deixa-o para bai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3" name="573520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52480" y="4572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 sorriso diz tud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8" name="1" descr=""/>
          <p:cNvPicPr/>
          <p:nvPr/>
        </p:nvPicPr>
        <p:blipFill>
          <a:blip r:embed="rId3"/>
          <a:stretch/>
        </p:blipFill>
        <p:spPr>
          <a:xfrm>
            <a:off x="2362320" y="838080"/>
            <a:ext cx="4178160" cy="55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1677600" y="228600"/>
            <a:ext cx="56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le agora esta muito b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2280" y="152280"/>
            <a:ext cx="74012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E abriu seu próprio negócio 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upermarket Half Man Half-Store Pri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caeef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0000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3809880" cy="55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615240" y="304920"/>
            <a:ext cx="76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ai!!!! Do que você vai reclamar ag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522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Porque para mim tenho por certo que as aflições de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tempo presente não são para compa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com a glória que em nós há de ser reve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Narrow"/>
              </a:rPr>
              <a:t>Romanos 8:18</a:t>
            </a: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cinz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295280" y="2362320"/>
            <a:ext cx="4267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maze"/>
              </a:rPr>
              <a:t>Créd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rmataçã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Cidinha  Gandolp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magen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tiradas de vários sit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úsic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do Impossível_Toque no alt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xt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ww.myinterestingfiles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maze"/>
              </a:rPr>
              <a:t>cidynha_jesusteama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By Cidy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o Claro/S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0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04920"/>
            <a:ext cx="56386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oje é </a:t>
            </a:r>
            <a:fld id="{81BC9353-B568-4E77-B1C4-E6D2470226FA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gora mesmo são </a:t>
            </a:r>
            <a:fld id="{1D6B3849-F445-4EE9-9E31-B9E1D274D93C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31/26</a:t>
            </a:fld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aalonelylonely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335304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129528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Você conhe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Peng Shuil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56200" y="312408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</a:rPr>
              <a:t>Não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3504960" cy="533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ccidente_901792422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475240" cy="37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30640" y="304920"/>
            <a:ext cx="799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m 1995 ele perdeu metade do seu co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o ser cortado próximo à altura da cintura por um caminh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s médicos que o socorrer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havam que ele não sobreviveria,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m milagre de Deus fez com que ele sobrevives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920"/>
            <a:ext cx="8534160" cy="62420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362320"/>
            <a:ext cx="5486400" cy="38862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666880"/>
            <a:ext cx="91440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homem_metade1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553440" cy="432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762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Ele é  conhecido na China como “Half Ma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0440" y="556272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Homem-Met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00161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58672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6560" y="152280"/>
            <a:ext cx="827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camado por mais de dez an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amiliares e amigos tinham pouca esperança de que ele f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iver qualquer coisa parecida com vida normal outra ve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final, precisou da ajuda de vinte médicos para conseguir manter-se viv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676520"/>
            <a:ext cx="5867280" cy="4876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019920"/>
            <a:ext cx="327636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half-man-682_929573a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9436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533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m as pern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ulin ficou com apenas 78 cm de altu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981080"/>
            <a:ext cx="7772400" cy="457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0051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05520" cy="3581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55600 w 9144000"/>
              <a:gd name="textAreaRight" fmla="*/ 8888400 w 9144000"/>
              <a:gd name="textAreaTop" fmla="*/ 255600 h 6858000"/>
              <a:gd name="textAreaBottom" fmla="*/ 660240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805" y="805"/>
                </a:moveTo>
                <a:lnTo>
                  <a:pt x="805" y="20795"/>
                </a:lnTo>
                <a:lnTo>
                  <a:pt x="27995" y="20795"/>
                </a:lnTo>
                <a:lnTo>
                  <a:pt x="27995" y="80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362320"/>
            <a:ext cx="5105520" cy="358128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5791320"/>
            <a:ext cx="152388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2286000"/>
            <a:ext cx="5257800" cy="373392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6858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Mas, recentemente, começou a exercitar seus braços, para poder executar tarefas diári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como lavar seu rosto e escovar seus d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anwithahalfofthebody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Sua recuperação tem surpreendido os cirurgiõ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depois dele ser submetido a uma série de oper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9:28:32Z</dcterms:created>
  <dc:creator>Cidinha Gandolpho</dc:creator>
  <dc:description/>
  <dc:language>en-US</dc:language>
  <cp:lastModifiedBy>cidinha</cp:lastModifiedBy>
  <dcterms:modified xsi:type="dcterms:W3CDTF">2010-01-26T16:09:01Z</dcterms:modified>
  <cp:revision>25</cp:revision>
  <dc:subject/>
  <dc:title>Um homem insuperável</dc:title>
</cp:coreProperties>
</file>