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08%20deus%20do%20imposs%C3%ADvel.wav" ContentType="audio/x-wav"/>
  <Override PartName="/ppt/media/image17.jpeg" ContentType="image/jpeg"/>
  <Override PartName="/ppt/media/image2.jpeg" ContentType="image/jpeg"/>
  <Override PartName="/ppt/media/image32.wmf" ContentType="image/x-wmf"/>
  <Override PartName="/ppt/media/image33.jpeg" ContentType="image/jpeg"/>
  <Override PartName="/ppt/media/image43.wmf" ContentType="image/x-wmf"/>
  <Override PartName="/ppt/media/image11.jpeg" ContentType="image/jpeg"/>
  <Override PartName="/ppt/media/image9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29.wmf" ContentType="image/x-wmf"/>
  <Override PartName="/ppt/media/image31.png" ContentType="image/png"/>
  <Override PartName="/ppt/media/image37.wmf" ContentType="image/x-wmf"/>
  <Override PartName="/ppt/media/image30.jpeg" ContentType="image/jpeg"/>
  <Override PartName="/ppt/media/image47.jpeg" ContentType="image/jpeg"/>
  <Override PartName="/ppt/media/image48.jpeg" ContentType="image/jpeg"/>
  <Override PartName="/ppt/media/image34.png" ContentType="image/png"/>
  <Override PartName="/ppt/media/image12.jpeg" ContentType="image/jpeg"/>
  <Override PartName="/ppt/media/image6.png" ContentType="image/png"/>
  <Override PartName="/ppt/media/image36.png" ContentType="image/png"/>
  <Override PartName="/ppt/media/image10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25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ED17-A3EB-4EB1-B7F0-2F8FE70C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5E5-C402-49CB-BC27-263E9DB0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E5B-335F-4890-8682-B4166910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53C0-3B9C-4937-9D76-1ACB4A0C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97B-A71F-4816-B0E2-C26F0977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DA62-8CA2-433D-BA5A-8CB43763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1624-0607-4FDD-B89F-B225B2BE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897-66BC-4170-8B1B-0573EC8E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E52-30E9-4934-BB33-DA4DFC80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174-4E9A-4E05-A7A9-D2C4E584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AD3-9B96-49E2-A313-4F76DF72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A65-6A8B-4D0A-B0E8-FF16B5B2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D06F-F31B-4534-BCDA-18AE63D9F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8%20deus%20do%20imposs&#237;ve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l%20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3276720"/>
            <a:ext cx="7772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M HOMEM INSUPERÁVEL!!! </a:t>
            </a:r>
            <a:endParaRPr b="0" i="1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random/>
    <p:sndAc>
      <p:stSnd>
        <p:snd r:embed="rId2" name="08%20deus%20do%20imposs%C3%ADve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inz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image008118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0" y="6324480"/>
            <a:ext cx="15238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2209680"/>
            <a:ext cx="60962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 vice-presidente do Hospital China Research Center em Beij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nde este chinês de 39 anos tem sido tratado dis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inza%2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90" name="2" descr=""/>
          <p:cNvPicPr/>
          <p:nvPr/>
        </p:nvPicPr>
        <p:blipFill>
          <a:blip r:embed="rId2"/>
          <a:stretch/>
        </p:blipFill>
        <p:spPr>
          <a:xfrm>
            <a:off x="2209680" y="1905120"/>
            <a:ext cx="3810240" cy="3106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60948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Ele é incrível é a única pessoa no mun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a sobreviver com tanto corpo amputad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inza%202%20vv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cinza%201%20a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098ouqs1y1ohjx5rkqg" descr=""/>
          <p:cNvPicPr/>
          <p:nvPr/>
        </p:nvPicPr>
        <p:blipFill>
          <a:blip r:embed="rId3"/>
          <a:stretch/>
        </p:blipFill>
        <p:spPr>
          <a:xfrm>
            <a:off x="1752480" y="1371600"/>
            <a:ext cx="5238720" cy="4181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58280" y="609480"/>
            <a:ext cx="65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 teve um enxerto de pele do seu rosto para o seu tron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image00797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5790960" cy="386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749880" y="762120"/>
            <a:ext cx="74332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Os Médicos de Reabilitação do China Research Center em Peq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começaram então a pensar na possibilidade de fazê-lo andar nov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5715000"/>
            <a:ext cx="1752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-15228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image00636" descr=""/>
          <p:cNvPicPr/>
          <p:nvPr/>
        </p:nvPicPr>
        <p:blipFill>
          <a:blip r:embed="rId2"/>
          <a:stretch/>
        </p:blipFill>
        <p:spPr>
          <a:xfrm>
            <a:off x="1676520" y="1803240"/>
            <a:ext cx="5943600" cy="3970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38680" y="5562720"/>
            <a:ext cx="19051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04920"/>
            <a:ext cx="8229600" cy="825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s criaram um invólucro como se fosso um o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apoiar o seu corpo com 2 pernas biônicas para ajudá-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00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335124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76520" y="990720"/>
            <a:ext cx="5867280" cy="48006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2052740091_small_1" descr=""/>
          <p:cNvPicPr/>
          <p:nvPr/>
        </p:nvPicPr>
        <p:blipFill>
          <a:blip r:embed="rId3"/>
          <a:stretch/>
        </p:blipFill>
        <p:spPr>
          <a:xfrm>
            <a:off x="1676520" y="1371600"/>
            <a:ext cx="5867280" cy="4419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2520" y="91440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99"/>
                </a:solidFill>
                <a:latin typeface="Times New Roman"/>
              </a:rPr>
              <a:t>O aparelho é semelhante a um co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16" name="340x" descr=""/>
          <p:cNvPicPr/>
          <p:nvPr/>
        </p:nvPicPr>
        <p:blipFill>
          <a:blip r:embed="rId3"/>
          <a:stretch/>
        </p:blipFill>
        <p:spPr>
          <a:xfrm>
            <a:off x="914400" y="609480"/>
            <a:ext cx="3886200" cy="5429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953960" y="1523880"/>
            <a:ext cx="3115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nca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stiu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21" name="half_man_10" descr=""/>
          <p:cNvPicPr/>
          <p:nvPr/>
        </p:nvPicPr>
        <p:blipFill>
          <a:blip r:embed="rId3"/>
          <a:stretch/>
        </p:blipFill>
        <p:spPr>
          <a:xfrm>
            <a:off x="457200" y="609480"/>
            <a:ext cx="8128080" cy="5423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halfman2_450x400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5143680" cy="457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828800" y="1447920"/>
            <a:ext cx="5181480" cy="4572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4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Agora, este lutador está em pé novamen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05720" cy="6296040"/>
          </a:xfrm>
          <a:prstGeom prst="rect">
            <a:avLst/>
          </a:prstGeom>
          <a:ln w="0">
            <a:noFill/>
          </a:ln>
        </p:spPr>
      </p:pic>
      <p:pic>
        <p:nvPicPr>
          <p:cNvPr id="131" name="miracleman01" descr=""/>
          <p:cNvPicPr/>
          <p:nvPr/>
        </p:nvPicPr>
        <p:blipFill>
          <a:blip r:embed="rId3"/>
          <a:stretch/>
        </p:blipFill>
        <p:spPr>
          <a:xfrm>
            <a:off x="1905120" y="1600200"/>
            <a:ext cx="514332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3520" y="609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egoe UI"/>
              </a:rPr>
              <a:t>Com a ajuda dos médicos,Peng está reaprendendo a and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1320" y="1600200"/>
            <a:ext cx="6383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 você tem a mania de reclamar de tud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clamar da vid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o seu cabelo que esta crespo demais,ou liso dema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a sua relação amorosa que não esta dando cert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ue tem preguiça de caminhar até o mercado ou ponto de ônibu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tc,etc,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abia que VOCÊ É FELIZ, mas não sabe dar val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s coisas que Deus lhe deu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ois bem,veja que diante deste fato que vou contar ago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M EXEMPLO DE SUPE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 como os seus problemas ficam são pequenininh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as pena que no dia a dia você se esqueça disso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m que sempre ser lemb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ce que nada pode levá-lo para baixo.</a:t>
            </a:r>
            <a:r>
              <a:rPr b="0" lang="pt-BR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-15228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f1fc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image010710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5981760" cy="4267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715000" y="5486400"/>
            <a:ext cx="17524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22520" y="83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62600" y="609480"/>
            <a:ext cx="62431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rece que nada deixa-o para baix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43" name="573520" descr=""/>
          <p:cNvPicPr/>
          <p:nvPr/>
        </p:nvPicPr>
        <p:blipFill>
          <a:blip r:embed="rId3"/>
          <a:stretch/>
        </p:blipFill>
        <p:spPr>
          <a:xfrm>
            <a:off x="1447920" y="152388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52480" y="4572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 sorriso diz tud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48" name="1" descr=""/>
          <p:cNvPicPr/>
          <p:nvPr/>
        </p:nvPicPr>
        <p:blipFill>
          <a:blip r:embed="rId3"/>
          <a:stretch/>
        </p:blipFill>
        <p:spPr>
          <a:xfrm>
            <a:off x="2362320" y="838080"/>
            <a:ext cx="4178160" cy="55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1677600" y="228600"/>
            <a:ext cx="564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le agora esta muito b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2280" y="152280"/>
            <a:ext cx="74012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E abriu seu próprio negócio 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upermarket Half Man Half-Store Pric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22860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caeef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0000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3809880" cy="55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615240" y="304920"/>
            <a:ext cx="76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 ai!!!! Do que você vai reclamar agor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15228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Porque para mim tenho por certo que as aflições de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tempo presente não são para compar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com a glória que em nós há de ser reve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Narrow"/>
              </a:rPr>
              <a:t>Romanos 8:18</a:t>
            </a: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cinz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295280" y="2362320"/>
            <a:ext cx="42674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maze"/>
              </a:rPr>
              <a:t>Crédi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rmataçã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maze"/>
              </a:rPr>
              <a:t>Cidinha  Gandolp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magen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tiradas de vários sit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úsic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us do Impossível_Toque no alt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xt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ww.myinterestingfiles.c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maze"/>
              </a:rPr>
              <a:t>cidynha_jesusteama@hotmai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maze"/>
              </a:rPr>
              <a:t>By Cidy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o Claro/S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01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304920"/>
            <a:ext cx="56386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oje é </a:t>
            </a:r>
            <a:fld id="{201A3180-4578-4A2D-B73C-D55EEC9AE57D}" type="datetime"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gora mesmo são </a:t>
            </a:r>
            <a:fld id="{E02B00D6-5997-4C95-B10B-F018E2810141}" type="datetime"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7/29/26</a:t>
            </a:fld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896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896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896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a25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aalonelylonely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3353040" cy="5181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43400" y="129528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Palatino Linotype"/>
                <a:ea typeface="Times New Roman"/>
              </a:rPr>
              <a:t>Você conhe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Palatino Linotype"/>
                <a:ea typeface="Times New Roman"/>
              </a:rPr>
              <a:t>Peng Shuil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56200" y="3124080"/>
            <a:ext cx="223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Palatino Linotype"/>
              </a:rPr>
              <a:t>Não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762120"/>
            <a:ext cx="3504960" cy="5333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a25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ccidente_901792422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475240" cy="377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530640" y="304920"/>
            <a:ext cx="799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m 1995 ele perdeu metade do seu cor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o ser cortado próximo à altura da cintura por um caminhã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s médicos que o socorrera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havam que ele não sobreviveria, 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m milagre de Deus fez com que ele sobrevives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04920"/>
            <a:ext cx="8534160" cy="624204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362320"/>
            <a:ext cx="5486400" cy="388620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2666880"/>
            <a:ext cx="91440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homem_metade1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6553440" cy="4321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762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Ele é  conhecido na China como “Half Ma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30440" y="556272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Homem-Met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image00161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5867280" cy="4857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6560" y="152280"/>
            <a:ext cx="827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camado por mais de dez an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amiliares e amigos tinham pouca esperança de que ele fo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viver qualquer coisa parecida com vida normal outra ve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final, precisou da ajuda de vinte médicos para conseguir manter-se viv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1676520"/>
            <a:ext cx="5867280" cy="4876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6019920"/>
            <a:ext cx="327636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66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half-man-682_929573a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79436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533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m as perna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hulin ficou com apenas 78 cm de altu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981080"/>
            <a:ext cx="7772400" cy="4572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00515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105520" cy="3581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55600 w 9144000"/>
              <a:gd name="textAreaRight" fmla="*/ 8888400 w 9144000"/>
              <a:gd name="textAreaTop" fmla="*/ 255600 h 6858000"/>
              <a:gd name="textAreaBottom" fmla="*/ 660240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805" y="805"/>
                </a:moveTo>
                <a:lnTo>
                  <a:pt x="805" y="20795"/>
                </a:lnTo>
                <a:lnTo>
                  <a:pt x="27995" y="20795"/>
                </a:lnTo>
                <a:lnTo>
                  <a:pt x="27995" y="80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2362320"/>
            <a:ext cx="5105520" cy="3581280"/>
          </a:xfrm>
          <a:prstGeom prst="rect">
            <a:avLst/>
          </a:prstGeom>
          <a:noFill/>
          <a:ln w="572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5791320"/>
            <a:ext cx="1523880" cy="75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2286000"/>
            <a:ext cx="5257800" cy="3733920"/>
          </a:xfrm>
          <a:prstGeom prst="rect">
            <a:avLst/>
          </a:prstGeom>
          <a:noFill/>
          <a:ln w="572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68580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Arial Unicode MS"/>
              </a:rPr>
              <a:t>Mas, recentemente, começou a exercitar seus braços, para poder executar tarefas diári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Arial Unicode MS"/>
              </a:rPr>
              <a:t>como lavar seu rosto e escovar seus d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manwithahalfofthebody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715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Sua recuperação tem surpreendido os cirurgiõ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depois dele ser submetido a uma série de opera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9:28:32Z</dcterms:created>
  <dc:creator>Cidinha Gandolpho</dc:creator>
  <dc:description/>
  <dc:language>en-US</dc:language>
  <cp:lastModifiedBy>cidinha</cp:lastModifiedBy>
  <dcterms:modified xsi:type="dcterms:W3CDTF">2010-01-26T16:09:01Z</dcterms:modified>
  <cp:revision>25</cp:revision>
  <dc:subject/>
  <dc:title>Um homem insuperável</dc:title>
</cp:coreProperties>
</file>