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FUNICULI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2FC7-3F60-4DA8-8875-A06BC271A7F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D1F0-C466-4B79-ABD5-046F27595B7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0D4F-89E7-4698-9AF2-5D8C7EAD8EB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5195-840C-4B34-8A5E-42E28956911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0552-6564-4EAE-94AB-BF3593CB1BB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AA7F-1978-4D2C-97B1-8C5AC5D82D4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9A6E-4EB8-488D-AE4F-B377A52DC60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45C8-E231-48F1-B904-C963E47D53F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A4E7-FA66-4721-8A22-0A287DF4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2388-632A-4ADA-8D5C-0F625B0B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FF5-489D-4CDB-92A6-29F52110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6F9-B684-4849-BA4C-B38DDD13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0CE5-BB70-464F-8C2D-B06B151A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760B-1C09-4A7C-95A2-D51BCE6B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D98C-D770-41F6-AE69-B17A5EDB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1E98-9729-417E-B7B5-EFEC6BD6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3EA6-1692-47A6-ACE3-96EEE016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506-28F4-43C0-AD79-BB6188C0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ACB4-FAEE-4860-9708-E7DAB099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D9EB-A5FE-4A89-8ACA-7AEE089D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F43E-2005-4C4A-A5E7-AFB610C38A3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FUNICULI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171468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ffffff"/>
                </a:solidFill>
                <a:latin typeface="Verdana"/>
              </a:rPr>
              <a:t>OS SAUDOSO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ffffff"/>
                </a:solidFill>
                <a:latin typeface="Verdana"/>
              </a:rPr>
              <a:t>ANOS 50 E 6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tângulo 5"/>
          <p:cNvSpPr/>
          <p:nvPr/>
        </p:nvSpPr>
        <p:spPr>
          <a:xfrm>
            <a:off x="4643280" y="3000240"/>
            <a:ext cx="4500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Frases retirada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ff"/>
                </a:solidFill>
                <a:latin typeface="Calibri"/>
              </a:rPr>
              <a:t>REVISTAS FEMININ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as décadas de 50 e 6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http://img177.imageshack.us/img177/9163/cronicavz3.jpg"/>
          <p:cNvPicPr/>
          <p:nvPr/>
        </p:nvPicPr>
        <p:blipFill>
          <a:blip r:embed="rId1"/>
          <a:stretch/>
        </p:blipFill>
        <p:spPr>
          <a:xfrm>
            <a:off x="214200" y="428760"/>
            <a:ext cx="4381560" cy="5914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crónicafeminina"/>
          <p:cNvPicPr/>
          <p:nvPr/>
        </p:nvPicPr>
        <p:blipFill>
          <a:blip r:embed="rId2"/>
          <a:stretch/>
        </p:blipFill>
        <p:spPr>
          <a:xfrm>
            <a:off x="6929280" y="214200"/>
            <a:ext cx="1928880" cy="2571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http://marxita.19.googlepages.com/mocidade_feminino2.jpg/mocidade_feminino2-large.jpg"/>
          <p:cNvPicPr/>
          <p:nvPr/>
        </p:nvPicPr>
        <p:blipFill>
          <a:blip r:embed="rId3"/>
          <a:stretch/>
        </p:blipFill>
        <p:spPr>
          <a:xfrm>
            <a:off x="5000760" y="214200"/>
            <a:ext cx="1714320" cy="2648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http://i30.photobucket.com/albums/c347/PauloG/MM58.jpg"/>
          <p:cNvPicPr/>
          <p:nvPr/>
        </p:nvPicPr>
        <p:blipFill>
          <a:blip r:embed="rId4"/>
          <a:stretch/>
        </p:blipFill>
        <p:spPr>
          <a:xfrm>
            <a:off x="5000760" y="4500720"/>
            <a:ext cx="1571400" cy="2152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http://farm4.static.flickr.com/3273/2849619636_b8577f7d00.jpg?v=0"/>
          <p:cNvPicPr/>
          <p:nvPr/>
        </p:nvPicPr>
        <p:blipFill>
          <a:blip r:embed="rId5"/>
          <a:stretch/>
        </p:blipFill>
        <p:spPr>
          <a:xfrm>
            <a:off x="6858000" y="4429080"/>
            <a:ext cx="17226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428400"/>
            <a:ext cx="91440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ão se deve irritar o homem com ciúmes e dúvidas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ff"/>
                </a:solidFill>
                <a:latin typeface="Verdana"/>
              </a:rPr>
              <a:t>(Jornal das Moças, 195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"Se desconfiar de infidelidade do marido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esposa deve redobrar os carinh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 provas de afecto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m questioná-lo nunca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ff"/>
                </a:solidFill>
                <a:latin typeface="Verdana"/>
              </a:rPr>
              <a:t>(Revista Claudia, 196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f497d"/>
                </a:solidFill>
                <a:latin typeface="Verdana"/>
              </a:rPr>
              <a:t>Bons tempos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sordem na casa de banho, desperta no marid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vontade de ir tomar banho fora de casa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ff"/>
                </a:solidFill>
                <a:latin typeface="Verdana"/>
              </a:rPr>
              <a:t>(Jornal das Moças, 196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m 4" descr="jornal994.jpg"/>
          <p:cNvPicPr/>
          <p:nvPr/>
        </p:nvPicPr>
        <p:blipFill>
          <a:blip r:embed="rId1"/>
          <a:stretch/>
        </p:blipFill>
        <p:spPr>
          <a:xfrm>
            <a:off x="785880" y="3071880"/>
            <a:ext cx="1314360" cy="1904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http://img.mercadolivre.com.br/jm/img?s=MLB&amp;f=67035097_8390.jpg&amp;v=P"/>
          <p:cNvPicPr/>
          <p:nvPr/>
        </p:nvPicPr>
        <p:blipFill>
          <a:blip r:embed="rId2"/>
          <a:stretch/>
        </p:blipFill>
        <p:spPr>
          <a:xfrm>
            <a:off x="6643800" y="314316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214200"/>
            <a:ext cx="91440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"A mulher deve fazer o marid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scansar nas horas vaga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rvindo-lhe uma cerveja bem gelad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ada de incomodá-lo com serviç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u notícias domésticas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ff"/>
                </a:solidFill>
                <a:latin typeface="Verdana"/>
              </a:rPr>
              <a:t>(Jornal das Moças, 195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"Se o seu marido fum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ão discuta pelo simples fac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 deixar cair cinza no tapet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palhe cinzeiros por toda a casa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ff"/>
                </a:solidFill>
                <a:latin typeface="Verdana"/>
              </a:rPr>
              <a:t>(Jornal das Moças, 195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"O noivado longo é um perigo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as nunca sugira o matrimóni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LE é quem decide - sempre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ff"/>
                </a:solidFill>
                <a:latin typeface="Verdana"/>
              </a:rPr>
              <a:t>(Revista Querida, 195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m 3" descr="jornal1072.jpg"/>
          <p:cNvPicPr/>
          <p:nvPr/>
        </p:nvPicPr>
        <p:blipFill>
          <a:blip r:embed="rId1"/>
          <a:stretch/>
        </p:blipFill>
        <p:spPr>
          <a:xfrm>
            <a:off x="500040" y="1857240"/>
            <a:ext cx="133344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http://fernando.blogueisso.com/wp-content/uploads/2008/02/violeta-botelho.jpg"/>
          <p:cNvPicPr/>
          <p:nvPr/>
        </p:nvPicPr>
        <p:blipFill>
          <a:blip r:embed="rId2"/>
          <a:stretch/>
        </p:blipFill>
        <p:spPr>
          <a:xfrm>
            <a:off x="357120" y="4500720"/>
            <a:ext cx="1563840" cy="2071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http://i304.photobucket.com/albums/nn185/danykittynpink/revista_querida.jpg"/>
          <p:cNvPicPr/>
          <p:nvPr/>
        </p:nvPicPr>
        <p:blipFill>
          <a:blip r:embed="rId3"/>
          <a:stretch/>
        </p:blipFill>
        <p:spPr>
          <a:xfrm>
            <a:off x="7358040" y="1928880"/>
            <a:ext cx="1428840" cy="2041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http://robertoseciosp.flogbrasil.terra.com.br/1164853926.jpg"/>
          <p:cNvPicPr/>
          <p:nvPr/>
        </p:nvPicPr>
        <p:blipFill>
          <a:blip r:embed="rId4"/>
          <a:stretch/>
        </p:blipFill>
        <p:spPr>
          <a:xfrm>
            <a:off x="7215120" y="4429080"/>
            <a:ext cx="16034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514332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17375e"/>
                </a:solidFill>
                <a:latin typeface="Calibri"/>
              </a:rPr>
              <a:t>Vejam bem a alegria e o brilh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17375e"/>
                </a:solidFill>
                <a:latin typeface="Calibri"/>
              </a:rPr>
              <a:t>nos olhos da esposa obedient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17375e"/>
                </a:solidFill>
                <a:latin typeface="Calibri"/>
              </a:rPr>
              <a:t>Uma verdadeira rainha do la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asal-antigo"/>
          <p:cNvPicPr/>
          <p:nvPr/>
        </p:nvPicPr>
        <p:blipFill>
          <a:blip r:embed="rId1"/>
          <a:stretch/>
        </p:blipFill>
        <p:spPr>
          <a:xfrm>
            <a:off x="1071720" y="285840"/>
            <a:ext cx="70326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356760"/>
            <a:ext cx="91440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"Sempre que o marido sair com os amig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 chegar a altas horas da noit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pere-o linda, perfumada e dócil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ff"/>
                </a:solidFill>
                <a:latin typeface="Verdana"/>
              </a:rPr>
              <a:t>(Jornal das Moças, 195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"É fundamental manter semp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ma aparência impecável diante do marido".</a:t>
            </a:r>
            <a:br>
              <a:rPr sz="2400"/>
            </a:br>
            <a:r>
              <a:rPr b="0" lang="pt-BR" sz="2400" spc="-1" strike="noStrike">
                <a:solidFill>
                  <a:srgbClr val="ff00ff"/>
                </a:solidFill>
                <a:latin typeface="Verdana"/>
              </a:rPr>
              <a:t>(Jornal das Moças, 195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"A esposa deve vestir-se depois de casad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m a mesma elegância de solteir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is é preciso lembrar-se de que a caça já foi feit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as é preciso mantê-la bem presa."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ff"/>
                </a:solidFill>
                <a:latin typeface="Verdana"/>
              </a:rPr>
              <a:t>(Jornal das Moças, 195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magem 3" descr="jornal1046.jpg"/>
          <p:cNvPicPr/>
          <p:nvPr/>
        </p:nvPicPr>
        <p:blipFill>
          <a:blip r:embed="rId1"/>
          <a:stretch/>
        </p:blipFill>
        <p:spPr>
          <a:xfrm>
            <a:off x="428760" y="1000080"/>
            <a:ext cx="132372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Imagem 4" descr="jornal980.jpg"/>
          <p:cNvPicPr/>
          <p:nvPr/>
        </p:nvPicPr>
        <p:blipFill>
          <a:blip r:embed="rId2"/>
          <a:stretch/>
        </p:blipFill>
        <p:spPr>
          <a:xfrm>
            <a:off x="7358040" y="928800"/>
            <a:ext cx="13050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213840"/>
            <a:ext cx="91440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7375e"/>
                </a:solidFill>
                <a:latin typeface="Verdana"/>
              </a:rPr>
              <a:t>E para terminar...a cereja em cima do bo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"O lugar de mulher é no l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trabalho fora de casa masculiniza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ff"/>
                </a:solidFill>
                <a:latin typeface="Verdana"/>
              </a:rPr>
              <a:t>(Revista Querida, 195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ONCLUSÃO: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Já não se editam</a:t>
            </a:r>
            <a:br>
              <a:rPr sz="3200"/>
            </a:br>
            <a:r>
              <a:rPr b="1" lang="pt-BR" sz="3200" spc="-1" strike="noStrike">
                <a:solidFill>
                  <a:srgbClr val="ff00ff"/>
                </a:solidFill>
                <a:latin typeface="Verdana"/>
              </a:rPr>
              <a:t>revistas instrutivas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omo antigame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anda para todas as tuas Ami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Obs: 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Eu só não mandei para a minha mulher porque ela não gosta de recordar as coisas boas do pass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2:47:41Z</dcterms:created>
  <dc:creator/>
  <dc:description/>
  <dc:language>en-US</dc:language>
  <cp:lastModifiedBy>Antas Guimarães</cp:lastModifiedBy>
  <dcterms:modified xsi:type="dcterms:W3CDTF">2009-01-22T02:32:29Z</dcterms:modified>
  <cp:revision>33</cp:revision>
  <dc:subject/>
  <dc:title>Anos 50 e 60</dc:title>
</cp:coreProperties>
</file>