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Omely.wav" ContentType="audio/x-wav"/>
  <Override PartName="/ppt/media/image24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BB6-650A-4B99-A3A8-BF1EE95D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9FB-04D7-454C-867B-CC9C1372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939-1104-4905-BDB2-2CA1AF7F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1D4-D5D6-4193-8ED8-2192734A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5B0-6D04-4753-956A-A12B461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39A-EAD7-404F-93A9-55F9B2BE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CA0-ADA9-4025-B268-B82DA242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D49-5B44-4F57-9F21-4F9937E7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287-FB73-4765-8DC0-BBEBC845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996-2523-4EAF-B053-845015AB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EBB-BEFF-4482-B981-003193BC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5FB-2981-450A-ABBB-E1B5851E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9235-9342-4FC8-8F26-0AE0BB48C5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Omely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43640" y="6669000"/>
            <a:ext cx="21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Arial"/>
              </a:rPr>
              <a:t>cvonck@zeelandnet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83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566640"/>
            <a:ext cx="7559640" cy="566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488360" cy="561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05800" cy="578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5672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493560"/>
            <a:ext cx="7344000" cy="5784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848360" cy="588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559640" cy="567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851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67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488000" cy="5724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489800" cy="5618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11:37:01Z</dcterms:created>
  <dc:creator>Vonck</dc:creator>
  <dc:description/>
  <dc:language>en-US</dc:language>
  <cp:lastModifiedBy>Vonck</cp:lastModifiedBy>
  <dcterms:modified xsi:type="dcterms:W3CDTF">2007-07-07T13:46:04Z</dcterms:modified>
  <cp:revision>4</cp:revision>
  <dc:subject/>
  <dc:title>Dia 1</dc:title>
</cp:coreProperties>
</file>