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Omely.wav" ContentType="audio/x-wav"/>
  <Override PartName="/ppt/media/image24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D51-47DF-4709-8C33-0260CCE6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6F3-8D85-43EF-A2E6-B4DA5AD4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507-F689-45FC-B54E-34548CC8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450-BD89-4EF2-9986-19538C4B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ACD-13E6-4713-A8E8-0E4DED4C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6AE-E6CC-4738-800B-DDE86C67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9AE-4216-45E7-BEB5-F54F67D5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178-875A-4E68-9BE1-0A4A382E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572-D293-4B70-9219-26DAA101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963-8EE0-479F-845A-8175182E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7AF-B4BB-4C88-9D66-0F6CB88E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1DE-6050-430D-8054-8E6855E2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3C25-9842-495D-B89A-E0C1EF0AA8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Omely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43640" y="6669000"/>
            <a:ext cx="21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Arial"/>
              </a:rPr>
              <a:t>cvonck@zeelandnet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832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566640"/>
            <a:ext cx="7559640" cy="5668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488360" cy="561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05800" cy="578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5672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2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493560"/>
            <a:ext cx="7344000" cy="5784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848360" cy="588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559640" cy="567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5851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67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488000" cy="5724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489800" cy="5618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11:37:01Z</dcterms:created>
  <dc:creator>Vonck</dc:creator>
  <dc:description/>
  <dc:language>en-US</dc:language>
  <cp:lastModifiedBy>Vonck</cp:lastModifiedBy>
  <dcterms:modified xsi:type="dcterms:W3CDTF">2007-07-07T13:46:04Z</dcterms:modified>
  <cp:revision>4</cp:revision>
  <dc:subject/>
  <dc:title>Dia 1</dc:title>
</cp:coreProperties>
</file>